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26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camera.wav" ContentType="audio/x-wav"/>
  <Override PartName="/ppt/media/image9.png" ContentType="image/png"/>
  <Override PartName="/ppt/media/cashreg.wav" ContentType="audio/x-wav"/>
  <Override PartName="/ppt/media/image13.png" ContentType="image/png"/>
  <Override PartName="/ppt/media/image4.png" ContentType="image/png"/>
  <Override PartName="/ppt/media/image3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media/image17.png" ContentType="image/png"/>
  <Override PartName="/ppt/media/image6.jpeg" ContentType="image/jpeg"/>
  <Override PartName="/ppt/media/type.wav" ContentType="audio/x-wav"/>
  <Override PartName="/ppt/media/image11.png" ContentType="image/png"/>
  <Override PartName="/ppt/media/coin.wav" ContentType="audio/x-wav"/>
  <Override PartName="/ppt/media/image23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4B2-B693-43A9-A003-794B0B7939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0713-9535-4452-8021-A6FB05243F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13A-2FD3-4931-BC4D-667D1CF3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6A9-744F-432F-AD83-10673CE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77C-91F1-47DB-B2E0-8663E576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C09-8CBA-43A8-AED9-03F67A27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82A-6E93-45DE-9EFD-35DE36F9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69B-B59E-4030-9C07-5893295F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80D-E374-40A1-8B92-045FFC73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39A-59F6-40D0-AF19-3EFA1D5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8E6-2D53-4417-9261-F75D555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198-CFD7-4974-87F8-4780286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D12-D609-49BF-959E-87D409C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642-E728-4EA5-8E71-D01E7916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802-10CD-4EE8-88EB-9CB65969B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8.jpeg"/><Relationship Id="rId3" Type="http://schemas.openxmlformats.org/officeDocument/2006/relationships/audio" Target="../media/coin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457331_10054008534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史铁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 rot="429600">
            <a:off x="2734920" y="2009520"/>
            <a:ext cx="434196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秋天的怀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8" descr=""/>
          <p:cNvPicPr/>
          <p:nvPr/>
        </p:nvPicPr>
        <p:blipFill>
          <a:blip r:embed="rId2"/>
          <a:stretch/>
        </p:blipFill>
        <p:spPr>
          <a:xfrm>
            <a:off x="347760" y="152280"/>
            <a:ext cx="3651120" cy="1609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3520" y="18288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围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写了哪几件事？（理清文章的结构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390840" y="3517920"/>
            <a:ext cx="204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楷体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、母亲要带我去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看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楷体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、我答应去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看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楷体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、母亲不能同我去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看花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楷体"/>
              </a:rPr>
              <a:t>4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楷体"/>
              </a:rPr>
              <a:t>、我和妹妹去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楷体"/>
              </a:rPr>
              <a:t>看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533520" y="1447920"/>
            <a:ext cx="87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 u="sng">
                <a:solidFill>
                  <a:srgbClr val="0000ff"/>
                </a:solidFill>
                <a:uFillTx/>
                <a:latin typeface="Arial"/>
              </a:rPr>
              <a:t>活动三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交流预习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46640" y="404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WordArt 8" descr=""/>
          <p:cNvPicPr/>
          <p:nvPr/>
        </p:nvPicPr>
        <p:blipFill>
          <a:blip r:embed="rId2"/>
          <a:stretch/>
        </p:blipFill>
        <p:spPr>
          <a:xfrm>
            <a:off x="347760" y="152280"/>
            <a:ext cx="3657600" cy="1609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8288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几次写到了秋天？为什么文章的题目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秋天的怀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-25560" y="49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为什么是秋天的怀念？秋天有什么值得作者去怀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79280" y="22050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8080" y="19810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母亲是秋天去世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“我”深切怀念母亲对“我”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90440" y="33498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我经过了人生的秋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秋天里去看菊花，是母亲对“我”好好活的希望，“我”用行动向母亲表示，我已经长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自己好好活，还要带着妹妹好好活，让母亲在九泉之下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90440" y="54100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“菊花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母亲坚韧、乐观精神的象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506520" y="0"/>
            <a:ext cx="33796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探究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WordArt 11" descr=""/>
          <p:cNvPicPr/>
          <p:nvPr/>
        </p:nvPicPr>
        <p:blipFill>
          <a:blip r:embed="rId2"/>
          <a:stretch/>
        </p:blipFill>
        <p:spPr>
          <a:xfrm>
            <a:off x="139680" y="0"/>
            <a:ext cx="4157640" cy="1487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0" y="1981080"/>
            <a:ext cx="899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人物形象分析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、母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：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在书本上划出描写人物的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在预习本上概括出人物性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母亲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11" descr=""/>
          <p:cNvPicPr/>
          <p:nvPr/>
        </p:nvPicPr>
        <p:blipFill>
          <a:blip r:embed="rId2"/>
          <a:stretch/>
        </p:blipFill>
        <p:spPr>
          <a:xfrm>
            <a:off x="669960" y="609480"/>
            <a:ext cx="6303960" cy="2438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762120" y="40384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人物形象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u=2929456457,1397123954&amp;gp=-6"/>
          <p:cNvPicPr/>
          <p:nvPr/>
        </p:nvPicPr>
        <p:blipFill>
          <a:blip r:embed="rId1"/>
          <a:stretch/>
        </p:blipFill>
        <p:spPr>
          <a:xfrm>
            <a:off x="0" y="189000"/>
            <a:ext cx="2144880" cy="2950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10200" y="324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汉仪大隶书简"/>
              </a:rPr>
              <a:t>史铁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33676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于北京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的他因病瘫痪，从此永远坐上了轮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56000" y="2205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无标题"/>
          <p:cNvPicPr/>
          <p:nvPr/>
        </p:nvPicPr>
        <p:blipFill>
          <a:blip r:embed="rId2"/>
          <a:stretch/>
        </p:blipFill>
        <p:spPr>
          <a:xfrm>
            <a:off x="7812000" y="4770360"/>
            <a:ext cx="13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u=2911092291,4242805574&amp;gp=-2"/>
          <p:cNvPicPr/>
          <p:nvPr/>
        </p:nvPicPr>
        <p:blipFill>
          <a:blip r:embed="rId3"/>
          <a:stretch/>
        </p:blipFill>
        <p:spPr>
          <a:xfrm>
            <a:off x="7093080" y="4005360"/>
            <a:ext cx="1439640" cy="21733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124080" y="281160"/>
            <a:ext cx="4140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走近作者 </a:t>
            </a:r>
            <a:endParaRPr b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900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457200" y="228600"/>
            <a:ext cx="38098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我</a:t>
            </a:r>
            <a:endParaRPr b="1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50920" y="2205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瘫痪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1058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望着望着天上北归的雁阵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41016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90720" y="25146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听着听着李谷一甜美的歌声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990720" y="38098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32004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19320" y="44956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可活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9" descr=""/>
          <p:cNvPicPr/>
          <p:nvPr/>
        </p:nvPicPr>
        <p:blipFill>
          <a:blip r:embed="rId2"/>
          <a:stretch/>
        </p:blipFill>
        <p:spPr>
          <a:xfrm>
            <a:off x="4181400" y="96840"/>
            <a:ext cx="3219480" cy="73836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"/>
          <p:cNvSpPr txBox="1"/>
          <p:nvPr/>
        </p:nvSpPr>
        <p:spPr>
          <a:xfrm>
            <a:off x="380880" y="-149400"/>
            <a:ext cx="350676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文本初探</a:t>
            </a:r>
            <a:endParaRPr b="1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333440" y="53006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双腿瘫痪后，我的脾气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7"/>
          <p:cNvSpPr txBox="1"/>
          <p:nvPr/>
        </p:nvSpPr>
        <p:spPr>
          <a:xfrm>
            <a:off x="5738760" y="5896080"/>
            <a:ext cx="23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1"/>
          <p:cNvSpPr txBox="1"/>
          <p:nvPr/>
        </p:nvSpPr>
        <p:spPr>
          <a:xfrm>
            <a:off x="762120" y="22860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母亲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85800" y="22860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怎么说的，又是怎么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08080" y="141120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瘫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暴怒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沉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打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憔悴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央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求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神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敏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别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雅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沉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烂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喜出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外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絮絮叨叨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8" descr=""/>
          <p:cNvPicPr/>
          <p:nvPr/>
        </p:nvPicPr>
        <p:blipFill>
          <a:blip r:embed="rId2"/>
          <a:stretch/>
        </p:blipFill>
        <p:spPr>
          <a:xfrm>
            <a:off x="384120" y="146160"/>
            <a:ext cx="6327720" cy="1128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46640" y="404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WordArt 8" descr=""/>
          <p:cNvPicPr/>
          <p:nvPr/>
        </p:nvPicPr>
        <p:blipFill>
          <a:blip r:embed="rId3"/>
          <a:stretch/>
        </p:blipFill>
        <p:spPr>
          <a:xfrm>
            <a:off x="176040" y="5029200"/>
            <a:ext cx="582300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get 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母亲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出去，在我看不见的地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偷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我的动静。当一切恢复沉寂，她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进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眼边红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看着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78760" y="5183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2897280" y="611280"/>
            <a:ext cx="525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理解、体谅</a:t>
            </a:r>
            <a:endParaRPr b="1" lang="en-US" sz="1800" spc="1" strike="noStrike">
              <a:ln w="2232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908000" y="3860640"/>
            <a:ext cx="1727280" cy="1656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148440" y="2281320"/>
            <a:ext cx="91440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32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1066680" y="464832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动作、神态描写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听说北海的花儿都开了，我推着你去走走。”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总是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这么说。母亲喜欢花，可自从我的腿瘫痪后，她侍弄的那些花都死了。“不，我不去！”我狠命地捶打这两条可恨的腿，喊着：“我活着有什么劲！”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母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扑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过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抓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我的手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哭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声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咱娘儿俩在一块儿，好好儿活，好好儿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740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00092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316080" y="24969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900" y="-1800"/>
                </a:moveTo>
                <a:lnTo>
                  <a:pt x="18900" y="-18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55640" y="692280"/>
            <a:ext cx="1584360" cy="136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916360" y="4724280"/>
            <a:ext cx="718920" cy="1441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8"/>
          <p:cNvSpPr txBox="1"/>
          <p:nvPr/>
        </p:nvSpPr>
        <p:spPr>
          <a:xfrm>
            <a:off x="2556000" y="544500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动作 语言 神态描写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5257800" y="-74520"/>
            <a:ext cx="2286000" cy="20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坚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那天我又独自坐在屋里，看着窗外的树叶“刷刷拉拉”地飘落。母亲进来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挡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在窗前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北海的菊花开了，我推着你去看看吧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02000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77548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92784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5400000">
            <a:off x="5940000" y="2384280"/>
            <a:ext cx="1769760" cy="4716360"/>
          </a:xfrm>
          <a:prstGeom prst="cloudCallout">
            <a:avLst>
              <a:gd name="adj1" fmla="val 84942208"/>
              <a:gd name="adj2" fmla="val 243089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5907240" y="4060800"/>
            <a:ext cx="243036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呵护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717480" y="5070600"/>
            <a:ext cx="480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挡住的不仅仅是窗外的树叶，更是挡住了儿子烦躁的情绪和对生活的绝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828800" y="3857760"/>
            <a:ext cx="289080" cy="1301760"/>
          </a:xfrm>
          <a:prstGeom prst="downArrow">
            <a:avLst>
              <a:gd name="adj1" fmla="val 50000"/>
              <a:gd name="adj2" fmla="val 163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23587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憔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脸现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央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的神色。“什么时候？”“你要是愿意，就明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她说。我的回答已经让她喜出望外了。“好吧，就明天。”我说。她高兴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会儿坐下，一会地站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“那就赶紧准备准备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500720" y="-243000"/>
            <a:ext cx="3744720" cy="2952720"/>
          </a:xfrm>
          <a:prstGeom prst="cloudCallout">
            <a:avLst>
              <a:gd name="adj1" fmla="val -4449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4932360" y="549360"/>
            <a:ext cx="295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商量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et (3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2590920" y="0"/>
            <a:ext cx="5410080" cy="1533600"/>
          </a:xfrm>
          <a:prstGeom prst="cloudCallout">
            <a:avLst>
              <a:gd name="adj1" fmla="val -49236"/>
              <a:gd name="adj2" fmla="val 54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1533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了，坐在我身边，絮絮叨叨地说着：“看完菊花，咱们就去‘仿膳’，你小时候最爱吃那儿的豌豆黄儿。还记得那回我带你去北海吗？你偏说那杨树花是毛毛虫，跑着，一脚踩扁一个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忽然不说了。对于“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”和“踩”一类的字眼儿，她比我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敏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她又悄悄地出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聚焦“笑”，“敏感” 透过这几个字，你看出了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3657600" y="76320"/>
            <a:ext cx="30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细心，宽容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  <p:sndAc>
      <p:stSnd>
        <p:snd r:embed="rId3" name="coin.wav"/>
      </p:stSnd>
    </p:sndAc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05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时母亲的状况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552760" y="3600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身患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huàn)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绝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病入膏肓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uāng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1"/>
          <p:cNvSpPr txBox="1"/>
          <p:nvPr/>
        </p:nvSpPr>
        <p:spPr>
          <a:xfrm>
            <a:off x="1147680" y="455760"/>
            <a:ext cx="4105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母亲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2818066_190035256000_2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深受苦楚的母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6410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90720" y="2819520"/>
            <a:ext cx="79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43000" y="41148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362320" y="22096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438280" y="34290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1460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1187280" y="765000"/>
            <a:ext cx="658980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11280" y="3284640"/>
            <a:ext cx="746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ashreg.wav"/>
      </p:stSnd>
    </p:sndAc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0" y="329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463840" y="2603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68120" y="2831040"/>
            <a:ext cx="880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爱是一首田园诗，幽远纯净，和雅清淡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爱是一幅山水画，洗去铅华，清新自然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爱是一首深情的歌，婉转悠扬，轻吟浅唱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爱是一阵和煦的风，吹去朔雪，带来春光无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1066680" y="289080"/>
            <a:ext cx="658980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5680" y="3047760"/>
            <a:ext cx="822960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五的傍晚，妈妈在校门口寻找我的目光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日的早上，妈妈为我捧出香喷喷的热汤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1"/>
          <a:stretch/>
        </p:blipFill>
        <p:spPr>
          <a:xfrm>
            <a:off x="347760" y="1835280"/>
            <a:ext cx="8047080" cy="8348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9"/>
          <p:cNvSpPr txBox="1"/>
          <p:nvPr/>
        </p:nvSpPr>
        <p:spPr>
          <a:xfrm>
            <a:off x="666720" y="152280"/>
            <a:ext cx="65898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8" descr="图片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WordArt 8" descr=""/>
          <p:cNvPicPr/>
          <p:nvPr/>
        </p:nvPicPr>
        <p:blipFill>
          <a:blip r:embed="rId2"/>
          <a:stretch/>
        </p:blipFill>
        <p:spPr>
          <a:xfrm>
            <a:off x="2127240" y="665280"/>
            <a:ext cx="3591000" cy="1627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11280" y="259884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围绕看花写了哪几件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8" descr=""/>
          <p:cNvPicPr/>
          <p:nvPr/>
        </p:nvPicPr>
        <p:blipFill>
          <a:blip r:embed="rId2"/>
          <a:stretch/>
        </p:blipFill>
        <p:spPr>
          <a:xfrm>
            <a:off x="334800" y="146160"/>
            <a:ext cx="3657600" cy="1622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352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课文最后一段为什么详写各种颜色的菊花在“秋风中正开得烂漫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结尾重复母亲“好好儿活”的话，有什么深意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WordArt 8" descr=""/>
          <p:cNvPicPr/>
          <p:nvPr/>
        </p:nvPicPr>
        <p:blipFill>
          <a:blip r:embed="rId2"/>
          <a:stretch/>
        </p:blipFill>
        <p:spPr>
          <a:xfrm>
            <a:off x="414360" y="225360"/>
            <a:ext cx="750420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74840" y="256860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课文最后一段为什么详写各种颜色的菊花在“秋风中正开得烂漫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结尾重复母亲“好好儿活”的话，有什么深意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最后一段为什么详写各种颜色的菊花在“秋风中正开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烂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5960" y="2209680"/>
            <a:ext cx="849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母亲的品格如菊花一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坚韧乐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菊花五彩缤纷，泼泼洒洒，也是在告诉读者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我的人生态度发生了转变，我感受到了生活的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248520" y="1339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褒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ashreg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11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03400" y="2320920"/>
            <a:ext cx="796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WordArt 5" descr=""/>
          <p:cNvPicPr/>
          <p:nvPr/>
        </p:nvPicPr>
        <p:blipFill>
          <a:blip r:embed="rId2"/>
          <a:stretch/>
        </p:blipFill>
        <p:spPr>
          <a:xfrm>
            <a:off x="1719360" y="281160"/>
            <a:ext cx="4937040" cy="1603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152280" y="2057400"/>
            <a:ext cx="899172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自己做坚强的母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坚强的儿子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是她的要好好活；照亮了儿子的后半生，让有缺憾的生命活得光亮。</a:t>
            </a:r>
            <a:br>
              <a:rPr sz="4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899000" y="1600200"/>
            <a:ext cx="545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生前没给我留下过什么隽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哲言，或要我恪守的教诲，只是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去世之后，她艰难的命运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坚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意志的爱，随光阴流转，在我的印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愈加鲜明深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034600" y="502848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史铁生《病隙碎笔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1ad5ad6eddc451da5e13c095b6fd5266d11632e3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u=150422484,3957471278&amp;fm=52&amp;gp=0"/>
          <p:cNvPicPr/>
          <p:nvPr/>
        </p:nvPicPr>
        <p:blipFill>
          <a:blip r:embed="rId2"/>
          <a:stretch/>
        </p:blipFill>
        <p:spPr>
          <a:xfrm>
            <a:off x="2987640" y="333360"/>
            <a:ext cx="2527200" cy="295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u=1216437939,2559318412&amp;fm=23&amp;gp=0"/>
          <p:cNvPicPr/>
          <p:nvPr/>
        </p:nvPicPr>
        <p:blipFill>
          <a:blip r:embed="rId3"/>
          <a:stretch/>
        </p:blipFill>
        <p:spPr>
          <a:xfrm>
            <a:off x="250920" y="3645000"/>
            <a:ext cx="2808360" cy="269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u=3005625631,709507244&amp;fm=52&amp;gp=0"/>
          <p:cNvPicPr/>
          <p:nvPr/>
        </p:nvPicPr>
        <p:blipFill>
          <a:blip r:embed="rId4"/>
          <a:stretch/>
        </p:blipFill>
        <p:spPr>
          <a:xfrm>
            <a:off x="3348000" y="3645000"/>
            <a:ext cx="2087640" cy="273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u=3209926828,2417030040&amp;fm=23&amp;gp=0"/>
          <p:cNvPicPr/>
          <p:nvPr/>
        </p:nvPicPr>
        <p:blipFill>
          <a:blip r:embed="rId5"/>
          <a:stretch/>
        </p:blipFill>
        <p:spPr>
          <a:xfrm>
            <a:off x="5867280" y="40464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u=3443515491,2247563388&amp;fm=9&amp;gp=0"/>
          <p:cNvPicPr/>
          <p:nvPr/>
        </p:nvPicPr>
        <p:blipFill>
          <a:blip r:embed="rId6"/>
          <a:stretch/>
        </p:blipFill>
        <p:spPr>
          <a:xfrm>
            <a:off x="5867280" y="3284640"/>
            <a:ext cx="280836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get 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395280" y="2924280"/>
            <a:ext cx="874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回读本文，结合下面的文字，你能体会到作者在写作此文时是怎样的心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611280" y="260280"/>
            <a:ext cx="79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16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读作者 体会感情</a:t>
            </a:r>
            <a:endParaRPr b="1" lang="en-US" sz="1800" spc="1" strike="noStrike">
              <a:ln w="316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763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我坐在小公园安静的树木里，闭上眼睛，想，上帝为什么早早地召母亲回去呢？很久很久，迷迷糊糊的我听见了回答：“她心里太苦了，上帝看她受有住了，就召她回去。”我似乎得了一点安慰，睁开眼睛，看见风正从树林里穿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合欢树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我一直有着一个凄苦的梦……在梦中，我绝望地哭喊，心里怨她：“我理解你的失望，我理解你的离开，但你总要捎个信儿来呀，你不知道我们会牵挂你不知道我们是多么想念你吗？”但就连这样的话也无从说给她，只知道她在很远的地方，并不知道她在哪儿。这个梦一再地走进我的黑夜，驱之不去……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有关庙的回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摇着轮椅在园中慢慢走，又是雾罩的清晨，又是骄阳高悬的白昼，我只想着一件事：母亲已经不在了。在老柏树旁停下，在草地上在颓墙边停下，又是处处虫鸣的午后，又是鸟儿归巢的傍晚，我心里只默念着一句话：可是母亲已经不在了。把椅背放倒，躺下，似睡非睡挨到日没，坐起来，心神恍惚，呆呆地直坐到古祭坛上落满黑暗然后再渐渐浮起月光，心里才有点明白，母亲不能再来这园中找我了。——《我与地坛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066680" y="1600200"/>
            <a:ext cx="31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get 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371600" y="3505320"/>
            <a:ext cx="223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悔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3886200" y="350532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悲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371600" y="472428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怀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16"/>
          <p:cNvSpPr txBox="1"/>
          <p:nvPr/>
        </p:nvSpPr>
        <p:spPr>
          <a:xfrm>
            <a:off x="611280" y="260280"/>
            <a:ext cx="79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16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读作者 体会感情</a:t>
            </a:r>
            <a:endParaRPr b="1" lang="en-US" sz="1800" spc="1" strike="noStrike">
              <a:ln w="316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4038480" y="48006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get (19)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751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76320" y="2325600"/>
            <a:ext cx="876276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短篇小说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遥远的清平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拜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若琴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文随笔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言自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与地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务虚笔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铁生作品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史铁生荣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语文学传播大奖年度杰出成就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年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之六）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舍散文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8120" indent="-2778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等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798313_092321035303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WordArt 8" descr=""/>
          <p:cNvPicPr/>
          <p:nvPr/>
        </p:nvPicPr>
        <p:blipFill>
          <a:blip r:embed="rId2"/>
          <a:stretch/>
        </p:blipFill>
        <p:spPr>
          <a:xfrm>
            <a:off x="334800" y="152280"/>
            <a:ext cx="3664080" cy="1616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481040" y="256860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182880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几次写到了秋天？为什么文章的题目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秋天的怀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后练习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533520" y="144792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</a:rPr>
              <a:t>活动一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交流预习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和预习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6640" y="404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图片1"/>
          <p:cNvPicPr/>
          <p:nvPr/>
        </p:nvPicPr>
        <p:blipFill>
          <a:blip r:embed="rId1"/>
          <a:stretch/>
        </p:blipFill>
        <p:spPr>
          <a:xfrm>
            <a:off x="2232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992160" y="1150920"/>
            <a:ext cx="8748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瘫   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暴   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沉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打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憔   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神   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敏     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别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雅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沉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烂    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喜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外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絮 絮  叨  叨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46640" y="404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ordArt 8" descr=""/>
          <p:cNvPicPr/>
          <p:nvPr/>
        </p:nvPicPr>
        <p:blipFill>
          <a:blip r:embed="rId2"/>
          <a:stretch/>
        </p:blipFill>
        <p:spPr>
          <a:xfrm>
            <a:off x="195120" y="12600"/>
            <a:ext cx="2779920" cy="804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60520" y="7142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ān huàn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o nù            jì          ch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79400" y="2119320"/>
            <a:ext cx="76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c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y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shén sè       mǐn  gǎ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79400" y="5056200"/>
            <a:ext cx="87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wàng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ù xù dāo dāo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81000" y="3538440"/>
            <a:ext cx="76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é           dàn          shēn          làn m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66760" y="623520"/>
            <a:ext cx="8724960" cy="62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词语：根据意思写出相应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由于神经功能发生障碍，身体的一部分完全或不完全地丧失运动能力（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大怒，特别生气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分寂静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拳头或器具撞击物体（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形容人瘦弱，面色不好看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恳求（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神情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8" descr=""/>
          <p:cNvPicPr/>
          <p:nvPr/>
        </p:nvPicPr>
        <p:blipFill>
          <a:blip r:embed="rId2"/>
          <a:stretch/>
        </p:blipFill>
        <p:spPr>
          <a:xfrm>
            <a:off x="268200" y="96840"/>
            <a:ext cx="357840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553080" y="1714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瘫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05520" y="2282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暴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095880" y="4040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憔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666880" y="2862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沉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3341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捶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124000" y="4578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央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124000" y="52419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8" descr="图片1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66760" y="831960"/>
            <a:ext cx="872496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理或生理上对外界事物反应很快（              ）⑼分别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素净雅致 （    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⑾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沉着持重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⑿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颜色鲜艳而美丽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遇到出乎意料的事情而特别高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形容说话啰嗦，唠叨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心经营、照料。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WordArt 8" descr=""/>
          <p:cNvPicPr/>
          <p:nvPr/>
        </p:nvPicPr>
        <p:blipFill>
          <a:blip r:embed="rId2"/>
          <a:stretch/>
        </p:blipFill>
        <p:spPr>
          <a:xfrm>
            <a:off x="268200" y="96840"/>
            <a:ext cx="3578400" cy="384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724280" y="4987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侍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257800" y="4292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絮絮叨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651720" y="36831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喜出望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7810920" y="809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敏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781720" y="1257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诀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3567240" y="1992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淡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3277800" y="24764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深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796280" y="312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烂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533520" y="1447920"/>
            <a:ext cx="87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 u="sng">
                <a:solidFill>
                  <a:srgbClr val="0000ff"/>
                </a:solidFill>
                <a:uFillTx/>
                <a:latin typeface="Arial"/>
              </a:rPr>
              <a:t>活动二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交流预习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46640" y="404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08:21:05Z</dcterms:created>
  <dc:creator>Administrator</dc:creator>
  <dc:description/>
  <cp:keywords/>
  <dc:language>en-US</dc:language>
  <cp:lastModifiedBy>j</cp:lastModifiedBy>
  <dcterms:modified xsi:type="dcterms:W3CDTF">2015-09-22T01:09:3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