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19.gif" ContentType="image/gif"/>
  <Override PartName="/ppt/media/image5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gif" ContentType="image/gif"/>
  <Override PartName="/ppt/media/image22.png" ContentType="image/png"/>
  <Override PartName="/ppt/media/image17.gif" ContentType="image/gif"/>
  <Override PartName="/ppt/media/image21.jpeg" ContentType="image/jpeg"/>
  <Override PartName="/ppt/media/image16.png" ContentType="image/png"/>
  <Override PartName="/ppt/media/image15.png" ContentType="image/pn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4C2-40D3-4B2A-B709-74070DB7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02A-7258-4430-80EF-A37BCE65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2ED-B1A3-4E45-9B9C-2FD3213B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AA3-2C84-43E4-9BCF-259046E3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91BB-76B7-4AE3-9FF9-DD577E6C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3492-5C9B-4FD6-A637-6557CF3F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37D9-046F-4048-893A-CF510495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08B9-A20E-488A-B81D-CB814575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47AB-1A81-4AC4-8C12-73D16622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23B5-93CA-43DD-A503-AA6874D6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9CEC-671A-41E6-BAEB-6BD8AAEE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097-9CA4-43A4-A9F5-36A77B4B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024E-1242-4298-9F3E-6C1530CD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8106-AC23-4FED-AB61-1BBC9A06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24D3-A931-4186-8EE4-7971EB2C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973A-C914-4B58-A392-D9B56165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A9D6-9989-46A4-8034-1C5F0A40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D608-885C-4766-849F-D5BEECDE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562A-DC9F-401C-B9DE-FF5F6F83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44B55-CEC4-4615-B9C6-042E76F8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07C18-B4EF-4A1C-A0FD-8633FD89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377F-EEE8-48E1-86D0-87F542AA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C52-B1A6-4680-BF1B-409F1194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CE52-8E21-4449-9F88-A7FC87F7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778D-DE9D-4292-9E8A-FA564565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C6DA-38CB-4E1C-8BDD-B1484DD8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A8D1-5F42-41EF-A9C5-D2AF1543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CE81-D939-4B9C-8CB3-02BEFA31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4833-A8AB-41B1-8B13-4E04D7BF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3ED3-4B0D-498D-B879-809682B2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6C9-0EA9-45C1-9FCC-54227A6A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B9E-2B0E-4512-85FA-28F501EA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E6A-7DE7-411D-A3E7-95992E89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C25-7E43-4AA9-A0D3-ADB5927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3E1-F748-44E3-A6E2-A808B64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1C4-4544-46FB-8702-8A4AD45A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Cambria"/>
              <a:buChar char="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B84B-0A9F-4340-90C8-3ED4C34A4C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e6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e6e6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e6e6"/>
              </a:buClr>
              <a:buSzPct val="60000"/>
              <a:buFont typeface="Cambria"/>
              <a:buChar char="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e6e6"/>
              </a:buClr>
              <a:buSzPct val="90000"/>
              <a:buFont typeface="Cambria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e6e6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926C-76EB-42CE-83FA-1C9D30266C5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6"/>
          <p:cNvGrpSpPr/>
          <p:nvPr/>
        </p:nvGrpSpPr>
        <p:grpSpPr>
          <a:xfrm>
            <a:off x="1501200" y="454320"/>
            <a:ext cx="7499520" cy="4968360"/>
            <a:chOff x="1501200" y="454320"/>
            <a:chExt cx="7499520" cy="4968360"/>
          </a:xfrm>
        </p:grpSpPr>
        <p:sp>
          <p:nvSpPr>
            <p:cNvPr id="83" name="矩形 7"/>
            <p:cNvSpPr/>
            <p:nvPr/>
          </p:nvSpPr>
          <p:spPr>
            <a:xfrm rot="21480000">
              <a:off x="1581120" y="58068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8"/>
            <p:cNvSpPr/>
            <p:nvPr/>
          </p:nvSpPr>
          <p:spPr>
            <a:xfrm rot="21540000">
              <a:off x="1590120" y="57132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1590480" y="55404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Cambria"/>
              <a:buChar char="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B708-6C3D-4565-BBB2-40AA38D795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7" descr=""/>
          <p:cNvPicPr/>
          <p:nvPr/>
        </p:nvPicPr>
        <p:blipFill>
          <a:blip r:embed="rId2"/>
          <a:stretch/>
        </p:blipFill>
        <p:spPr>
          <a:xfrm>
            <a:off x="-6480" y="1536840"/>
            <a:ext cx="8723520" cy="3479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-360" y="189000"/>
            <a:ext cx="3095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99"/>
                </a:solidFill>
                <a:latin typeface="Cambria"/>
              </a:rPr>
              <a:t>记叙文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Cambria"/>
                <a:ea typeface="楷体_GB2312"/>
              </a:rPr>
              <a:t> </a:t>
            </a:r>
            <a:r>
              <a:rPr b="1" lang="en-US" sz="9600" spc="-1" strike="noStrike">
                <a:solidFill>
                  <a:srgbClr val="ff0066"/>
                </a:solidFill>
                <a:latin typeface="Cambria"/>
                <a:ea typeface="楷体_GB2312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9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方法探究</a:t>
            </a:r>
            <a:endParaRPr b="0" lang="en-US" sz="8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124000" y="3789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95280" y="1844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从上文中总结出细节描写的技巧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0000"/>
                </a:solidFill>
                <a:uFillTx/>
                <a:latin typeface="Cambria"/>
              </a:rPr>
              <a:t>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ambria"/>
              </a:rPr>
              <a:t> 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班上有个同学，上课只做四件事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Cambria"/>
              </a:rPr>
              <a:t>睡觉、发呆、剪指甲、抠鼻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，但绝对不听课。这是听他的同桌说的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于是在一节数学课上，我便注意他：上课后的五分钟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他趴着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整个身子靠着桌子支撑，脚却不停地打着节拍。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我想他这也许该叫作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睡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吧；或在梦里演绎着某摇滚歌曲。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那歌或许是周杰伦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斗牛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，或是李玟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刀马旦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，而绝不会是满文军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懂你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五分钟后，他苏醒了，伸了一个懒腰，又趴在桌上。这次是醒着的，用手撑着一边脸，半边脸的肉顿时被挤顶成一块儿去了。我想他可能在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发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吧，眼神诡秘而茫然，定在那里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这一定可去了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20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分钟，我转头听了好几次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A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B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了。这下他才仿佛想通了什么事似的，撇过头，拍了一下后桌，那后桌顿时明白他，拿出指甲刀扔向他，“你僵尸啊，指甲长得那么快”。他便小心翼翼地修理他那双手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-360" y="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ambria"/>
              </a:rPr>
              <a:t>       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指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天天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Cambria"/>
              </a:rPr>
              <a:t>修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，注定长没那么快，很快剪得手指头只剩下肉了，如果不疼的话，他恨不得也剪下一块来，这样过去了七八分钟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还剩的七八分钟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抠鼻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。小心翼翼地从鼻子里取些，再不厌其烦地抹到墙边去。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Cambria"/>
              </a:rPr>
              <a:t>真苦了那墙，旧伤未愈，又添新伤，反反复复，孜孜不倦，真感叹他鼻孔里的物产丰富，永无止境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下课铃响了，他终于罢手，手拿到窗帘布里抹了抹，放进口袋，一摇一摆地离开教室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上课铃响后，他又回到位子，又做同样的的事，每节课内容一样，偶尔调换顺序而已。初中生活怎能这样，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Cambria"/>
              </a:rPr>
              <a:t>一眯、一愣、一剪、一掏中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在麻木无知中消逝去？等眯完三年、愣到中考，才会知道掏来掏去，给他带来了什么！什么！！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0920" y="1412640"/>
            <a:ext cx="80866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41a06"/>
                </a:solidFill>
                <a:latin typeface="Cambria"/>
              </a:rPr>
              <a:t>细节描写的技巧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①</a:t>
            </a:r>
            <a:r>
              <a:rPr b="1" lang="en-US" sz="4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细观察、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抓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②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炼词语、妙修辞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③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多联想、多想象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WordArt 3"/>
          <p:cNvSpPr txBox="1"/>
          <p:nvPr/>
        </p:nvSpPr>
        <p:spPr>
          <a:xfrm>
            <a:off x="1692360" y="404640"/>
            <a:ext cx="381636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我来总结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411401"/>
                </a:solidFill>
                <a:uFillTx/>
                <a:latin typeface="Cambria"/>
              </a:rPr>
              <a:t>粗汉与</a:t>
            </a:r>
            <a:r>
              <a:rPr b="0" lang="zh-CN" sz="5400" spc="-1" strike="noStrike" u="sng">
                <a:solidFill>
                  <a:srgbClr val="411401"/>
                </a:solidFill>
                <a:uFillTx/>
                <a:latin typeface="Cambria"/>
              </a:rPr>
              <a:t>淑女</a:t>
            </a:r>
            <a:r>
              <a:rPr b="1" lang="zh-CN" sz="5400" spc="-1" strike="noStrike">
                <a:solidFill>
                  <a:srgbClr val="000000"/>
                </a:solidFill>
                <a:latin typeface="Cambria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Cambria"/>
              </a:rPr>
              <a:t>他端起碗，拿起筷，夹了菜放进嘴里，吃起来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ambria"/>
              </a:rPr>
              <a:t>她端起碗，拿起筷，夹了菜放进嘴里，吃起来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266840" y="333360"/>
            <a:ext cx="32922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例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1: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人物细节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963720" y="-146160"/>
            <a:ext cx="7441920" cy="1298520"/>
            <a:chOff x="963720" y="-146160"/>
            <a:chExt cx="7441920" cy="1298520"/>
          </a:xfrm>
        </p:grpSpPr>
        <p:pic>
          <p:nvPicPr>
            <p:cNvPr id="169" name="Rectangle 2" descr=""/>
            <p:cNvPicPr/>
            <p:nvPr/>
          </p:nvPicPr>
          <p:blipFill>
            <a:blip r:embed="rId1"/>
            <a:stretch/>
          </p:blipFill>
          <p:spPr>
            <a:xfrm>
              <a:off x="963720" y="-146160"/>
              <a:ext cx="7441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 txBox="1"/>
            <p:nvPr/>
          </p:nvSpPr>
          <p:spPr>
            <a:xfrm>
              <a:off x="963720" y="-146160"/>
              <a:ext cx="7441920" cy="12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Text Box 3"/>
          <p:cNvSpPr/>
          <p:nvPr/>
        </p:nvSpPr>
        <p:spPr>
          <a:xfrm>
            <a:off x="179280" y="1197000"/>
            <a:ext cx="835344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她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小心翼翼地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端起碗，挑了几缕菜叶，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慢慢地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送到嘴边，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害羞似的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张开樱桃小嘴，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又迅速地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合上，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极小幅度地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嚼着食物，</a:t>
            </a:r>
            <a:r>
              <a:rPr b="1" lang="zh-CN" sz="3600" spc="-1" strike="noStrike" u="sng">
                <a:solidFill>
                  <a:srgbClr val="00a800"/>
                </a:solidFill>
                <a:uFillTx/>
                <a:latin typeface="Tahoma"/>
              </a:rPr>
              <a:t>还不停地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用餐巾纸擦拭唇角的余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16"/>
          <p:cNvPicPr/>
          <p:nvPr/>
        </p:nvPicPr>
        <p:blipFill>
          <a:blip r:embed="rId2"/>
          <a:stretch/>
        </p:blipFill>
        <p:spPr>
          <a:xfrm>
            <a:off x="0" y="5410080"/>
            <a:ext cx="7238880" cy="1447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5940360" y="5300640"/>
            <a:ext cx="26654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加修饰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244440" y="1195560"/>
            <a:ext cx="8240760" cy="1292040"/>
            <a:chOff x="244440" y="1195560"/>
            <a:chExt cx="8240760" cy="1292040"/>
          </a:xfrm>
        </p:grpSpPr>
        <p:pic>
          <p:nvPicPr>
            <p:cNvPr id="175" name="Rectangle 2" descr=""/>
            <p:cNvPicPr/>
            <p:nvPr/>
          </p:nvPicPr>
          <p:blipFill>
            <a:blip r:embed="rId1"/>
            <a:stretch/>
          </p:blipFill>
          <p:spPr>
            <a:xfrm>
              <a:off x="244440" y="1195560"/>
              <a:ext cx="82407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 txBox="1"/>
            <p:nvPr/>
          </p:nvSpPr>
          <p:spPr>
            <a:xfrm>
              <a:off x="244440" y="1195560"/>
              <a:ext cx="8240760" cy="129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7" name="TextBox 5"/>
          <p:cNvSpPr/>
          <p:nvPr/>
        </p:nvSpPr>
        <p:spPr>
          <a:xfrm>
            <a:off x="539640" y="33336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来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1007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0960" y="0"/>
            <a:ext cx="34369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例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2: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景物细节描写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765000"/>
            <a:ext cx="8424720" cy="58896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0" y="90792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起初是雪粒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就像天上有谁大把大把地撒着白砂糖，落到地上，发出沙沙的声音，似乎千万条蚕在吃桑叶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一会儿，雪粒汇集成了一大片一大片的雪花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好像许许多多的白花瓣被冬姑娘大把地往下撒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雪越下越大，一簇簇，一团团。天越来越暗，雪越下越大。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 蝴蝶一般的雪花轻轻地飞舞着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带来了这个季节特有的风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68"/>
          <p:cNvPicPr/>
          <p:nvPr/>
        </p:nvPicPr>
        <p:blipFill>
          <a:blip r:embed="rId2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11280" y="1600200"/>
            <a:ext cx="175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ahoma"/>
              </a:rPr>
              <a:t>你也带孩子，人家也带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ahoma"/>
              </a:rPr>
              <a:t>子，你带的孩子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又脏又瘦</a:t>
            </a:r>
            <a:r>
              <a:rPr b="1" lang="zh-CN" sz="2800" spc="-1" strike="noStrike">
                <a:solidFill>
                  <a:srgbClr val="009900"/>
                </a:solidFill>
                <a:latin typeface="Tahoma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ahoma"/>
              </a:rPr>
              <a:t>人家带的孩子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又白又胖</a:t>
            </a:r>
            <a:r>
              <a:rPr b="1" lang="zh-CN" sz="2800" spc="-1" strike="noStrike">
                <a:solidFill>
                  <a:srgbClr val="0099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981000"/>
            <a:ext cx="453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你也带孩子，人家也带孩子，怎么你带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就跟才从垃圾堆拣出来的似的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，人家带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就像才剥壳的鸡蛋心子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，又白又光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7511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886880" y="2514600"/>
            <a:ext cx="72936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文鼎中特广告体"/>
              </a:rPr>
              <a:t>妙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文鼎中特广告体"/>
              </a:rPr>
              <a:t>修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780000" y="5373720"/>
            <a:ext cx="295272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喻、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11280" y="0"/>
            <a:ext cx="511308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细节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390600" y="12600"/>
            <a:ext cx="8302680" cy="1603440"/>
            <a:chOff x="390600" y="12600"/>
            <a:chExt cx="8302680" cy="1603440"/>
          </a:xfrm>
        </p:grpSpPr>
        <p:pic>
          <p:nvPicPr>
            <p:cNvPr id="190" name="Rectangle 2" descr=""/>
            <p:cNvPicPr/>
            <p:nvPr/>
          </p:nvPicPr>
          <p:blipFill>
            <a:blip r:embed="rId2"/>
            <a:stretch/>
          </p:blipFill>
          <p:spPr>
            <a:xfrm>
              <a:off x="390600" y="12600"/>
              <a:ext cx="83026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 txBox="1"/>
            <p:nvPr/>
          </p:nvSpPr>
          <p:spPr>
            <a:xfrm>
              <a:off x="390600" y="12600"/>
              <a:ext cx="8302680" cy="16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Cambria"/>
              </a:rPr>
              <a:t>●</a:t>
            </a:r>
            <a:r>
              <a:rPr b="1" lang="zh-CN" sz="6000" spc="-1" strike="noStrike">
                <a:solidFill>
                  <a:srgbClr val="ff3300"/>
                </a:solidFill>
                <a:latin typeface="Cambria"/>
              </a:rPr>
              <a:t>她骂他混蛋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4fe"/>
                </a:solidFill>
                <a:latin typeface="Cambria"/>
              </a:rPr>
              <a:t>           </a:t>
            </a:r>
            <a:r>
              <a:rPr b="1" lang="zh-CN" sz="4000" spc="-1" strike="noStrike">
                <a:solidFill>
                  <a:srgbClr val="4d44fe"/>
                </a:solidFill>
                <a:latin typeface="Cambria"/>
              </a:rPr>
              <a:t>展开你的想象，恰当地添加动作、神态、语言、心理等将这句话的内容充实起来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60880"/>
            <a:ext cx="8207280" cy="8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900" spc="-1" strike="noStrike">
              <a:solidFill>
                <a:srgbClr val="000099"/>
              </a:solidFill>
              <a:latin typeface="Calibri"/>
            </a:endParaRPr>
          </a:p>
        </p:txBody>
      </p:sp>
      <p:pic>
        <p:nvPicPr>
          <p:cNvPr id="130" name="Picture 2" descr="H:\新建文件夹\t017eb8baaff7690512.jpg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26028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她骂他道：“你真是一个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混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012000" y="549360"/>
            <a:ext cx="2808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添加语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1341360"/>
            <a:ext cx="69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她用手指着他的鼻子骂道：“你真是一个混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12000" y="1989000"/>
            <a:ext cx="3132000" cy="1169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添加动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0" y="2637000"/>
            <a:ext cx="74516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她早已被气得浑身颤抖，脸色铁青，怒目指着他的鼻子骂道：“你真是一个混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588000" y="3500280"/>
            <a:ext cx="2556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添加神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0" y="407664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其实，她早已被气得浑身颤抖，脸色铁青，但她还是在不断地告诫自己：不要失态！不要骂人！最终她实在是忍不住了，于是怒睁杏目，用手指着他的鼻子骂道：“你真是一个混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6804000" y="5013360"/>
            <a:ext cx="23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Arial"/>
              </a:rPr>
              <a:t>（添加心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2365200" y="237960"/>
            <a:ext cx="4834080" cy="932040"/>
            <a:chOff x="2365200" y="237960"/>
            <a:chExt cx="4834080" cy="932040"/>
          </a:xfrm>
        </p:grpSpPr>
        <p:pic>
          <p:nvPicPr>
            <p:cNvPr id="202" name="Rectangle 2" descr=""/>
            <p:cNvPicPr/>
            <p:nvPr/>
          </p:nvPicPr>
          <p:blipFill>
            <a:blip r:embed="rId2"/>
            <a:stretch/>
          </p:blipFill>
          <p:spPr>
            <a:xfrm>
              <a:off x="2365200" y="237960"/>
              <a:ext cx="4834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 txBox="1"/>
            <p:nvPr/>
          </p:nvSpPr>
          <p:spPr>
            <a:xfrm>
              <a:off x="2365200" y="237960"/>
              <a:ext cx="4834080" cy="93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79280" y="1196640"/>
            <a:ext cx="85838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mbria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Cambria"/>
              </a:rPr>
              <a:t>真是冤家路窄，刚好在操场上俩人不期而遇，由于上次她发现他抄别人的作业，便报告了老师，  结果他被老师狠狠地批评了一顿。今天，当着这么多同学的面，他竟然嬉皮笑脸地拦住她，一个劲地说她是：  小报告、小内奸</a:t>
            </a:r>
            <a:r>
              <a:rPr b="1" lang="en-US" sz="3200" spc="-1" strike="noStrike">
                <a:solidFill>
                  <a:srgbClr val="000099"/>
                </a:solidFill>
                <a:latin typeface="Cambria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99"/>
                </a:solidFill>
                <a:latin typeface="Cambria"/>
              </a:rPr>
              <a:t>她对他的挖苦、讽刺装作漫不经心的样子。</a:t>
            </a:r>
            <a:r>
              <a:rPr b="1" lang="zh-CN" sz="3200" spc="-1" strike="noStrike">
                <a:solidFill>
                  <a:srgbClr val="ff3300"/>
                </a:solidFill>
                <a:latin typeface="Cambria"/>
              </a:rPr>
              <a:t>其实，她早已被气得浑身颤抖，脸色铁青，但她还是在不断地告诫自己：不要生气！不要失态！  不要骂人！最终她实在是忍不住了，  于是怒睁杏目，用手指着他的鼻子骂道：“你真是一个混蛋！</a:t>
            </a: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41a06"/>
                </a:solidFill>
                <a:latin typeface="Cambria"/>
              </a:rPr>
              <a:t>细节描写的技巧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①</a:t>
            </a:r>
            <a:r>
              <a:rPr b="1" lang="en-US" sz="4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细观察、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抓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②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炼词语、妙修辞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③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多联想、多想象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1692360" y="404640"/>
            <a:ext cx="381636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我来总结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29dead05533a555d728b659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755640" y="0"/>
            <a:ext cx="838836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能力拓展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细节描写训练（选做题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39640" y="1052640"/>
            <a:ext cx="74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妈妈对镜穿新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老师生气了，后果很严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纯音乐 - 高山流水 - 古筝版纯音乐.mp3" descr=""/>
          <p:cNvPicPr/>
          <p:nvPr/>
        </p:nvPicPr>
        <p:blipFill>
          <a:blip r:embed="rId3"/>
          <a:stretch/>
        </p:blipFill>
        <p:spPr>
          <a:xfrm>
            <a:off x="788508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210077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03360" y="79200"/>
            <a:ext cx="7791480" cy="1341720"/>
            <a:chOff x="603360" y="79200"/>
            <a:chExt cx="7791480" cy="1341720"/>
          </a:xfrm>
        </p:grpSpPr>
        <p:pic>
          <p:nvPicPr>
            <p:cNvPr id="133" name="Rectangle 2" descr=""/>
            <p:cNvPicPr/>
            <p:nvPr/>
          </p:nvPicPr>
          <p:blipFill>
            <a:blip r:embed="rId2"/>
            <a:stretch/>
          </p:blipFill>
          <p:spPr>
            <a:xfrm>
              <a:off x="603360" y="79200"/>
              <a:ext cx="77914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603360" y="79200"/>
              <a:ext cx="7791480" cy="134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5" name=""/>
          <p:cNvSpPr txBox="1"/>
          <p:nvPr/>
        </p:nvSpPr>
        <p:spPr>
          <a:xfrm>
            <a:off x="395280" y="1557360"/>
            <a:ext cx="823104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zh-CN" sz="3200" spc="-1" strike="noStrike">
                <a:solidFill>
                  <a:srgbClr val="ff00ff"/>
                </a:solidFill>
                <a:latin typeface="Cambria"/>
              </a:rPr>
              <a:t>   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最是那</a:t>
            </a:r>
            <a:r>
              <a:rPr b="1" lang="zh-CN" sz="4000" spc="-1" strike="noStrike">
                <a:solidFill>
                  <a:srgbClr val="0070c0"/>
                </a:solidFill>
                <a:latin typeface="Cambria"/>
              </a:rPr>
              <a:t>一低头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温柔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像一朵水莲花不胜凉风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娇羞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 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道一声珍重，道一声珍重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那一声珍重里有蜜甜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忧愁</a:t>
            </a:r>
            <a:r>
              <a:rPr b="1" lang="en-US" sz="4000" spc="-1" strike="noStrike">
                <a:solidFill>
                  <a:srgbClr val="ff0066"/>
                </a:solidFill>
                <a:latin typeface="Cambria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沙扬娜拉！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6" name="民歌 世界名曲 樱花 日本经典民歌.mp3" descr=""/>
          <p:cNvPicPr/>
          <p:nvPr/>
        </p:nvPicPr>
        <p:blipFill>
          <a:blip r:embed="rId3"/>
          <a:stretch/>
        </p:blipFill>
        <p:spPr>
          <a:xfrm>
            <a:off x="665964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9563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603360" y="79200"/>
            <a:ext cx="7791480" cy="1341720"/>
            <a:chOff x="603360" y="79200"/>
            <a:chExt cx="7791480" cy="1341720"/>
          </a:xfrm>
        </p:grpSpPr>
        <p:pic>
          <p:nvPicPr>
            <p:cNvPr id="138" name="Rectangle 2" descr=""/>
            <p:cNvPicPr/>
            <p:nvPr/>
          </p:nvPicPr>
          <p:blipFill>
            <a:blip r:embed="rId1"/>
            <a:stretch/>
          </p:blipFill>
          <p:spPr>
            <a:xfrm>
              <a:off x="603360" y="79200"/>
              <a:ext cx="77914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 txBox="1"/>
            <p:nvPr/>
          </p:nvSpPr>
          <p:spPr>
            <a:xfrm>
              <a:off x="603360" y="79200"/>
              <a:ext cx="7791480" cy="134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0" name=""/>
          <p:cNvSpPr txBox="1"/>
          <p:nvPr/>
        </p:nvSpPr>
        <p:spPr>
          <a:xfrm>
            <a:off x="395280" y="1557360"/>
            <a:ext cx="823104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zh-CN" sz="3200" spc="-1" strike="noStrike">
                <a:solidFill>
                  <a:srgbClr val="ff00ff"/>
                </a:solidFill>
                <a:latin typeface="Cambria"/>
              </a:rPr>
              <a:t>   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最是那</a:t>
            </a:r>
            <a:r>
              <a:rPr b="1" lang="zh-CN" sz="4000" spc="-1" strike="noStrike">
                <a:solidFill>
                  <a:srgbClr val="0070c0"/>
                </a:solidFill>
                <a:latin typeface="Cambria"/>
              </a:rPr>
              <a:t>一低头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温柔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像一朵水莲花不胜凉风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娇羞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 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道一声珍重，道一声珍重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那一声珍重里有蜜甜的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Cambria"/>
              </a:rPr>
              <a:t>忧愁</a:t>
            </a:r>
            <a:r>
              <a:rPr b="1" lang="en-US" sz="4000" spc="-1" strike="noStrike">
                <a:solidFill>
                  <a:srgbClr val="ff0066"/>
                </a:solidFill>
                <a:latin typeface="Cambria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mbria"/>
              </a:rPr>
              <a:t>   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</a:rPr>
              <a:t>沙扬娜拉！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1" name="民歌 世界名曲 樱花 日本经典民歌.mp3" descr=""/>
          <p:cNvPicPr/>
          <p:nvPr/>
        </p:nvPicPr>
        <p:blipFill>
          <a:blip r:embed="rId2"/>
          <a:stretch/>
        </p:blipFill>
        <p:spPr>
          <a:xfrm>
            <a:off x="665964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9563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143" name="Rectangle 2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450720" y="268200"/>
              <a:ext cx="8242560" cy="11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5" name=""/>
          <p:cNvSpPr txBox="1"/>
          <p:nvPr/>
        </p:nvSpPr>
        <p:spPr>
          <a:xfrm>
            <a:off x="0" y="1557000"/>
            <a:ext cx="89647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细节描写 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—— 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对</a:t>
            </a:r>
            <a:r>
              <a:rPr b="1" lang="zh-CN" sz="3600" spc="-1" strike="noStrike">
                <a:solidFill>
                  <a:srgbClr val="000099"/>
                </a:solidFill>
                <a:latin typeface="Cambria"/>
              </a:rPr>
              <a:t>人物、</a:t>
            </a:r>
            <a:r>
              <a:rPr b="1" lang="en-US" sz="3600" spc="-1" strike="noStrike">
                <a:solidFill>
                  <a:srgbClr val="00a800"/>
                </a:solidFill>
                <a:latin typeface="Cambria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Cambria"/>
              </a:rPr>
              <a:t>景物</a:t>
            </a:r>
            <a:r>
              <a:rPr b="1" lang="zh-CN" sz="3600" spc="-1" strike="noStrike">
                <a:solidFill>
                  <a:srgbClr val="3333ff"/>
                </a:solidFill>
                <a:latin typeface="Cambria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Cambria"/>
              </a:rPr>
              <a:t>场面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中某些具有</a:t>
            </a:r>
            <a:r>
              <a:rPr b="1" lang="zh-CN" sz="3600" spc="-1" strike="noStrike" u="sng">
                <a:solidFill>
                  <a:srgbClr val="b2935c"/>
                </a:solidFill>
                <a:uFillTx/>
                <a:latin typeface="Cambria"/>
              </a:rPr>
              <a:t>典型特征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的</a:t>
            </a:r>
            <a:r>
              <a:rPr b="1" lang="zh-CN" sz="3600" spc="-1" strike="noStrike" u="sng">
                <a:solidFill>
                  <a:srgbClr val="b2935c"/>
                </a:solidFill>
                <a:uFillTx/>
                <a:latin typeface="Cambria"/>
              </a:rPr>
              <a:t>细小环节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进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ambria"/>
              </a:rPr>
              <a:t>具体、生动而又细腻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的描绘，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以达到“见神韵”的描写方法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7596360" y="476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30s"/>
          <p:cNvPicPr/>
          <p:nvPr/>
        </p:nvPicPr>
        <p:blipFill>
          <a:blip r:embed="rId3"/>
          <a:stretch/>
        </p:blipFill>
        <p:spPr>
          <a:xfrm>
            <a:off x="6551640" y="5734080"/>
            <a:ext cx="2592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6"/>
          <p:cNvSpPr/>
          <p:nvPr/>
        </p:nvSpPr>
        <p:spPr>
          <a:xfrm>
            <a:off x="611280" y="1557360"/>
            <a:ext cx="85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细节描写  雕琢神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803160" y="2655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细节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2484360" y="155736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348000" y="1125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人物细节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270960" y="2708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景物细节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270960" y="4365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生活细节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738760" y="1052640"/>
            <a:ext cx="340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貌、语言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作、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632560" y="2492280"/>
            <a:ext cx="35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环境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社会环境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物、静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796000" y="4221000"/>
            <a:ext cx="253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件细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0000"/>
                </a:solidFill>
                <a:uFillTx/>
                <a:latin typeface="Cambria"/>
              </a:rPr>
              <a:t>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ambria"/>
              </a:rPr>
              <a:t> 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班上有个同学，上课只做四件事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Cambria"/>
              </a:rPr>
              <a:t>睡觉、发呆、剪指甲、抠鼻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，但绝对不听课。这是听他的同桌说的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于是在一节数学课上，我便注意他：上课后的五分钟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他趴着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整个身子靠着桌子支撑，脚却不停地打着节拍。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我想他这也许该叫作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睡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吧；或在梦里演绎着某摇滚歌曲。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那歌或许是周杰伦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斗牛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，或是李玟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刀马旦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，而绝不会是满文军的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《</a:t>
            </a:r>
            <a:r>
              <a:rPr b="1" lang="zh-CN" sz="2800" spc="-1" strike="noStrike" u="sng">
                <a:solidFill>
                  <a:srgbClr val="b2935c"/>
                </a:solidFill>
                <a:uFillTx/>
                <a:latin typeface="Cambria"/>
              </a:rPr>
              <a:t>懂你</a:t>
            </a:r>
            <a:r>
              <a:rPr b="1" lang="en-US" sz="2800" spc="-1" strike="noStrike" u="sng">
                <a:solidFill>
                  <a:srgbClr val="b2935c"/>
                </a:solidFill>
                <a:uFillTx/>
                <a:latin typeface="Cambria"/>
              </a:rPr>
              <a:t>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五分钟后，他苏醒了，伸了一个懒腰，又趴在桌上。这次是醒着的，用手撑着一边脸，半边脸的肉顿时被挤顶成一块儿去了。我想他可能在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发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吧，眼神诡秘而茫然，定在那里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这一定可去了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20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分钟，我转头听了好几次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A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B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了。这下他才仿佛想通了什么事似的，撇过头，拍了一下后桌，那后桌顿时明白他，拿出指甲刀扔向他，“你僵尸啊，指甲长得那么快”。他便小心翼翼地修理他那双手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-360" y="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ambria"/>
              </a:rPr>
              <a:t>        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指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天天修，注定长没那么快，很快剪得手指头只剩下肉了，如果不疼的话，他恨不得也剪下一块来，这样过去了七八分钟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还剩的七八分钟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Cambria"/>
              </a:rPr>
              <a:t>抠鼻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。小心翼翼地从鼻子里取些，再不厌其烦地抹到墙边去。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Cambria"/>
              </a:rPr>
              <a:t>真苦了那墙，旧伤未愈，又添新伤，反反复复，孜孜不倦，真感叹他鼻孔里的物产丰富，永无止境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下课铃响了，他终于罢手，手拿到窗帘布里抹了抹，放进口袋，一摇一摆地离开教室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上课铃响后，他又回到座位，又做同样的的事，每节课内容一样，偶尔调换顺序而已。初中生活怎能这样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一眯、一愣、一剪、一掏中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Cambria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mbria"/>
              </a:rPr>
              <a:t>在麻木无知中消逝去？等眯完三年、愣到中考，才会知道掏来掏去，给他带来了什么！什么！！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3:24:09Z</dcterms:created>
  <dc:creator>Administrator</dc:creator>
  <dc:description/>
  <cp:keywords/>
  <dc:language>en-US</dc:language>
  <cp:lastModifiedBy>User</cp:lastModifiedBy>
  <dcterms:modified xsi:type="dcterms:W3CDTF">2015-09-25T01:20:39Z</dcterms:modified>
  <cp:revision>20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