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19.gif" ContentType="image/gif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22.png" ContentType="image/png"/>
  <Override PartName="/ppt/media/image17.gif" ContentType="image/gif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D35-E3F5-4892-8550-99881EB6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613-61AB-4C0A-9653-F936EBE6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037-E0D3-4CD8-AED9-011E6AE4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C85-C0DF-4B03-9827-41E216C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45C-3D01-4E90-9E4F-138EE1DC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D0D-712A-4C7E-8DAD-58C3770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7B6C-252A-4ABB-B2B9-4971EC64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DFCF-CD48-4E69-AB26-0D4130B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C0A-78DB-4B4C-957B-2365514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C64-CC20-4032-BC0F-A1CBB15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B59-BD5C-42DF-89B9-F4A153D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72C-5DF9-4D4B-AE0B-6BB8A8E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67A9-BCDB-4D09-8471-8139D87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4A90-ADB6-4692-818B-AAFC8A4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49F4-5E8A-4FAF-A0D4-9A75BA5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CF1E-DFB2-4D08-8D95-1221B329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012-4570-4D72-952F-DCDD78A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ACAD-4867-4567-B757-81162C1A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8370-68D5-450D-8173-070B51F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FBE8-1F20-4A30-9789-9ABA174D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54B2-AC2C-4963-8DC3-5140F91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B842-CE8B-41E0-B88D-E29EC353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679-65DE-4FED-A824-3C202C5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EF4E-49F8-4351-85C4-E184312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3370-EAF0-4F2A-8A00-F4E8557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FCED-5D4A-4C86-A607-B573B53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89A4-860E-4C84-84D2-8E5258C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56C0-B86D-404F-AABA-058DEB5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5568-EC39-48D2-8C02-54CEFF4D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66CE-31B0-438C-ABD4-1CCDC314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790-256F-4166-84F7-9A19266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3C6-3EEC-4F31-81B7-F90AE3C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CB3-4F93-4ECA-8EF3-9D6334B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883-DEFA-4A47-B001-DAF3AC6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E7E-D544-42EF-8BC3-84C80CD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F76-2C8C-42A8-9309-24DB5AF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006-A954-4C31-8C29-330C986B17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69F-1A22-4B31-94D1-78467BC3FDA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"/>
          <p:cNvGrpSpPr/>
          <p:nvPr/>
        </p:nvGrpSpPr>
        <p:grpSpPr>
          <a:xfrm>
            <a:off x="1501200" y="454320"/>
            <a:ext cx="7499520" cy="4968360"/>
            <a:chOff x="1501200" y="454320"/>
            <a:chExt cx="7499520" cy="4968360"/>
          </a:xfrm>
        </p:grpSpPr>
        <p:sp>
          <p:nvSpPr>
            <p:cNvPr id="83" name="矩形 7"/>
            <p:cNvSpPr/>
            <p:nvPr/>
          </p:nvSpPr>
          <p:spPr>
            <a:xfrm rot="21480000">
              <a:off x="1581120" y="58068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8"/>
            <p:cNvSpPr/>
            <p:nvPr/>
          </p:nvSpPr>
          <p:spPr>
            <a:xfrm rot="21540000">
              <a:off x="1590120" y="57132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1590480" y="55404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8F8-8BDE-4375-826D-4C30A0D63B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7" descr=""/>
          <p:cNvPicPr/>
          <p:nvPr/>
        </p:nvPicPr>
        <p:blipFill>
          <a:blip r:embed="rId2"/>
          <a:stretch/>
        </p:blipFill>
        <p:spPr>
          <a:xfrm>
            <a:off x="-6480" y="1536840"/>
            <a:ext cx="8723520" cy="3479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18900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99"/>
                </a:solidFill>
                <a:latin typeface="Cambria"/>
              </a:rPr>
              <a:t>记叙文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Cambria"/>
                <a:ea typeface="楷体_GB2312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Cambria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方法探究</a:t>
            </a:r>
            <a:endParaRPr b="0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124000" y="3789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5280" y="184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从上文中总结出细节描写的技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ambria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班上有个同学，上课只做四件事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Cambria"/>
              </a:rPr>
              <a:t>睡觉、发呆、剪指甲、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但绝对不听课。这是听他的同桌说的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于是在一节数学课上，我便注意他：上课后的五分钟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他趴着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整个身子靠着桌子支撑，脚却不停地打着节拍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我想他这也许该叫作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睡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；或在梦里演绎着某摇滚歌曲。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那歌或许是周杰伦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斗牛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或是李玟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刀马旦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而绝不会是满文军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懂你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五分钟后，他苏醒了，伸了一个懒腰，又趴在桌上。这次是醒着的，用手撑着一边脸，半边脸的肉顿时被挤顶成一块儿去了。我想他可能在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发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，眼神诡秘而茫然，定在那里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这一定可去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2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分钟，我转头听了好几次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了。这下他才仿佛想通了什么事似的，撇过头，拍了一下后桌，那后桌顿时明白他，拿出指甲刀扔向他，“你僵尸啊，指甲长得那么快”。他便小心翼翼地修理他那双手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指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天天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Cambria"/>
              </a:rPr>
              <a:t>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注定长没那么快，很快剪得手指头只剩下肉了，如果不疼的话，他恨不得也剪下一块来，这样过去了七八分钟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还剩的七八分钟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小心翼翼地从鼻子里取些，再不厌其烦地抹到墙边去。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真苦了那墙，旧伤未愈，又添新伤，反反复复，孜孜不倦，真感叹他鼻孔里的物产丰富，永无止境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下课铃响了，他终于罢手，手拿到窗帘布里抹了抹，放进口袋，一摇一摆地离开教室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上课铃响后，他又回到位子，又做同样的的事，每节课内容一样，偶尔调换顺序而已。初中生活怎能这样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一眯、一愣、一剪、一掏中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在麻木无知中消逝去？等眯完三年、愣到中考，才会知道掏来掏去，给他带来了什么！什么！！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80866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1a06"/>
                </a:solidFill>
                <a:latin typeface="Cambria"/>
              </a:rPr>
              <a:t>细节描写的技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①</a:t>
            </a:r>
            <a:r>
              <a:rPr b="1" lang="en-US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观察、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炼词语、妙修辞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多联想、多想象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692360" y="404640"/>
            <a:ext cx="3816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来总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411401"/>
                </a:solidFill>
                <a:uFillTx/>
                <a:latin typeface="Cambria"/>
              </a:rPr>
              <a:t>粗汉与</a:t>
            </a:r>
            <a:r>
              <a:rPr b="0" lang="zh-CN" sz="5400" spc="-1" strike="noStrike" u="sng">
                <a:solidFill>
                  <a:srgbClr val="411401"/>
                </a:solidFill>
                <a:uFillTx/>
                <a:latin typeface="Cambria"/>
              </a:rPr>
              <a:t>淑女</a:t>
            </a:r>
            <a:r>
              <a:rPr b="1" lang="zh-CN" sz="5400" spc="-1" strike="noStrike">
                <a:solidFill>
                  <a:srgbClr val="000000"/>
                </a:solidFill>
                <a:latin typeface="Cambria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mbria"/>
              </a:rPr>
              <a:t>他端起碗，拿起筷，夹了菜放进嘴里，吃起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她端起碗，拿起筷，夹了菜放进嘴里，吃起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266840" y="333360"/>
            <a:ext cx="32922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1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人物细节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963720" y="-146160"/>
            <a:ext cx="7441920" cy="1298520"/>
            <a:chOff x="963720" y="-146160"/>
            <a:chExt cx="7441920" cy="1298520"/>
          </a:xfrm>
        </p:grpSpPr>
        <p:pic>
          <p:nvPicPr>
            <p:cNvPr id="169" name="Rectangle 2" descr=""/>
            <p:cNvPicPr/>
            <p:nvPr/>
          </p:nvPicPr>
          <p:blipFill>
            <a:blip r:embed="rId1"/>
            <a:stretch/>
          </p:blipFill>
          <p:spPr>
            <a:xfrm>
              <a:off x="963720" y="-146160"/>
              <a:ext cx="7441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963720" y="-146160"/>
              <a:ext cx="7441920" cy="12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Text Box 3"/>
          <p:cNvSpPr/>
          <p:nvPr/>
        </p:nvSpPr>
        <p:spPr>
          <a:xfrm>
            <a:off x="179280" y="1197000"/>
            <a:ext cx="835344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她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端起碗，挑了几缕菜叶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慢慢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送到嘴边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害羞似的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张开樱桃小嘴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又迅速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合上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极小幅度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嚼着食物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还不停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餐巾纸擦拭唇角的余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16"/>
          <p:cNvPicPr/>
          <p:nvPr/>
        </p:nvPicPr>
        <p:blipFill>
          <a:blip r:embed="rId2"/>
          <a:stretch/>
        </p:blipFill>
        <p:spPr>
          <a:xfrm>
            <a:off x="0" y="5410080"/>
            <a:ext cx="7238880" cy="1447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940360" y="5300640"/>
            <a:ext cx="266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加修饰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44440" y="1195560"/>
            <a:ext cx="8240760" cy="1292040"/>
            <a:chOff x="244440" y="1195560"/>
            <a:chExt cx="8240760" cy="1292040"/>
          </a:xfrm>
        </p:grpSpPr>
        <p:pic>
          <p:nvPicPr>
            <p:cNvPr id="175" name="Rectangle 2" descr=""/>
            <p:cNvPicPr/>
            <p:nvPr/>
          </p:nvPicPr>
          <p:blipFill>
            <a:blip r:embed="rId1"/>
            <a:stretch/>
          </p:blipFill>
          <p:spPr>
            <a:xfrm>
              <a:off x="244440" y="1195560"/>
              <a:ext cx="82407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244440" y="1195560"/>
              <a:ext cx="8240760" cy="12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7" name="TextBox 5"/>
          <p:cNvSpPr/>
          <p:nvPr/>
        </p:nvSpPr>
        <p:spPr>
          <a:xfrm>
            <a:off x="539640" y="333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来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1007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0960" y="0"/>
            <a:ext cx="3436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2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景物细节描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765000"/>
            <a:ext cx="8424720" cy="5889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9079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初是雪粒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就像天上有谁大把大把地撒着白砂糖，落到地上，发出沙沙的声音，似乎千万条蚕在吃桑叶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一会儿，雪粒汇集成了一大片一大片的雪花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好像许许多多的白花瓣被冬姑娘大把地往下撒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雪越下越大，一簇簇，一团团。天越来越暗，雪越下越大。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 蝴蝶一般的雪花轻轻地飞舞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来了这个季节特有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68"/>
          <p:cNvPicPr/>
          <p:nvPr/>
        </p:nvPicPr>
        <p:blipFill>
          <a:blip r:embed="rId2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11280" y="1600200"/>
            <a:ext cx="175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你也带孩子，人家也带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子，你带的孩子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又脏又瘦</a:t>
            </a: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人家带的孩子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又白又胖</a:t>
            </a: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981000"/>
            <a:ext cx="453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你也带孩子，人家也带孩子，怎么你带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就跟才从垃圾堆拣出来的似的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，人家带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就像才剥壳的鸡蛋心子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，又白又光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751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886880" y="2514600"/>
            <a:ext cx="72936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文鼎中特广告体"/>
              </a:rPr>
              <a:t>妙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文鼎中特广告体"/>
              </a:rPr>
              <a:t>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、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11280" y="0"/>
            <a:ext cx="511308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细节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90600" y="12600"/>
            <a:ext cx="8302680" cy="1603440"/>
            <a:chOff x="390600" y="12600"/>
            <a:chExt cx="8302680" cy="1603440"/>
          </a:xfrm>
        </p:grpSpPr>
        <p:pic>
          <p:nvPicPr>
            <p:cNvPr id="190" name="Rectangle 2" descr=""/>
            <p:cNvPicPr/>
            <p:nvPr/>
          </p:nvPicPr>
          <p:blipFill>
            <a:blip r:embed="rId2"/>
            <a:stretch/>
          </p:blipFill>
          <p:spPr>
            <a:xfrm>
              <a:off x="390600" y="12600"/>
              <a:ext cx="8302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 txBox="1"/>
            <p:nvPr/>
          </p:nvSpPr>
          <p:spPr>
            <a:xfrm>
              <a:off x="390600" y="12600"/>
              <a:ext cx="8302680" cy="16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Cambria"/>
              </a:rPr>
              <a:t>●</a:t>
            </a:r>
            <a:r>
              <a:rPr b="1" lang="zh-CN" sz="6000" spc="-1" strike="noStrike">
                <a:solidFill>
                  <a:srgbClr val="ff3300"/>
                </a:solidFill>
                <a:latin typeface="Cambria"/>
              </a:rPr>
              <a:t>她骂他混蛋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4fe"/>
                </a:solidFill>
                <a:latin typeface="Cambria"/>
              </a:rPr>
              <a:t>           </a:t>
            </a:r>
            <a:r>
              <a:rPr b="1" lang="zh-CN" sz="4000" spc="-1" strike="noStrike">
                <a:solidFill>
                  <a:srgbClr val="4d44fe"/>
                </a:solidFill>
                <a:latin typeface="Cambria"/>
              </a:rPr>
              <a:t>展开你的想象，恰当地添加动作、神态、语言、心理等将这句话的内容充实起来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60880"/>
            <a:ext cx="820728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9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30" name="Picture 2" descr="H:\新建文件夹\t017eb8baaff7690512.jpg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60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骂他道：“你真是一个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混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012000" y="549360"/>
            <a:ext cx="280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语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1341360"/>
            <a:ext cx="69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用手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12000" y="1989000"/>
            <a:ext cx="3132000" cy="1169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动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2637000"/>
            <a:ext cx="74516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早已被气得浑身颤抖，脸色铁青，怒目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588000" y="3500280"/>
            <a:ext cx="2556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0" y="407664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其实，她早已被气得浑身颤抖，脸色铁青，但她还是在不断地告诫自己：不要失态！不要骂人！最终她实在是忍不住了，于是怒睁杏目，用手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804000" y="5013360"/>
            <a:ext cx="23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Arial"/>
              </a:rPr>
              <a:t>（添加心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365200" y="237960"/>
            <a:ext cx="4834080" cy="932040"/>
            <a:chOff x="2365200" y="237960"/>
            <a:chExt cx="4834080" cy="932040"/>
          </a:xfrm>
        </p:grpSpPr>
        <p:pic>
          <p:nvPicPr>
            <p:cNvPr id="202" name="Rectangle 2" descr=""/>
            <p:cNvPicPr/>
            <p:nvPr/>
          </p:nvPicPr>
          <p:blipFill>
            <a:blip r:embed="rId2"/>
            <a:stretch/>
          </p:blipFill>
          <p:spPr>
            <a:xfrm>
              <a:off x="2365200" y="237960"/>
              <a:ext cx="4834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2365200" y="237960"/>
              <a:ext cx="4834080" cy="93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79280" y="1196640"/>
            <a:ext cx="8583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mbria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Cambria"/>
              </a:rPr>
              <a:t>真是冤家路窄，刚好在操场上俩人不期而遇，由于上次她发现他抄别人的作业，便报告了老师，  结果他被老师狠狠地批评了一顿。今天，当着这么多同学的面，他竟然嬉皮笑脸地拦住她，一个劲地说她是：  小报告、小内奸</a:t>
            </a:r>
            <a:r>
              <a:rPr b="1" lang="en-US" sz="3200" spc="-1" strike="noStrike">
                <a:solidFill>
                  <a:srgbClr val="000099"/>
                </a:solidFill>
                <a:latin typeface="Cambria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99"/>
                </a:solidFill>
                <a:latin typeface="Cambria"/>
              </a:rPr>
              <a:t>她对他的挖苦、讽刺装作漫不经心的样子。</a:t>
            </a:r>
            <a:r>
              <a:rPr b="1" lang="zh-CN" sz="3200" spc="-1" strike="noStrike">
                <a:solidFill>
                  <a:srgbClr val="ff3300"/>
                </a:solidFill>
                <a:latin typeface="Cambria"/>
              </a:rPr>
              <a:t>其实，她早已被气得浑身颤抖，脸色铁青，但她还是在不断地告诫自己：不要生气！不要失态！  不要骂人！最终她实在是忍不住了，  于是怒睁杏目，用手指着他的鼻子骂道：“你真是一个混蛋！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1a06"/>
                </a:solidFill>
                <a:latin typeface="Cambria"/>
              </a:rPr>
              <a:t>细节描写的技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①</a:t>
            </a:r>
            <a:r>
              <a:rPr b="1" lang="en-US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观察、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炼词语、妙修辞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多联想、多想象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692360" y="404640"/>
            <a:ext cx="3816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来总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9dead05533a555d728b659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755640" y="0"/>
            <a:ext cx="838836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能力拓展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细节描写训练（选做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9640" y="1052640"/>
            <a:ext cx="74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妈妈对镜穿新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老师生气了，后果很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纯音乐 - 高山流水 - 古筝版纯音乐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10077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03360" y="79200"/>
            <a:ext cx="7791480" cy="1341720"/>
            <a:chOff x="603360" y="79200"/>
            <a:chExt cx="7791480" cy="1341720"/>
          </a:xfrm>
        </p:grpSpPr>
        <p:pic>
          <p:nvPicPr>
            <p:cNvPr id="133" name="Rectangle 2" descr=""/>
            <p:cNvPicPr/>
            <p:nvPr/>
          </p:nvPicPr>
          <p:blipFill>
            <a:blip r:embed="rId2"/>
            <a:stretch/>
          </p:blipFill>
          <p:spPr>
            <a:xfrm>
              <a:off x="603360" y="79200"/>
              <a:ext cx="77914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603360" y="79200"/>
              <a:ext cx="7791480" cy="134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395280" y="1557360"/>
            <a:ext cx="82310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最是那</a:t>
            </a:r>
            <a:r>
              <a:rPr b="1" lang="zh-CN" sz="4000" spc="-1" strike="noStrike">
                <a:solidFill>
                  <a:srgbClr val="0070c0"/>
                </a:solidFill>
                <a:latin typeface="Cambria"/>
              </a:rPr>
              <a:t>一低头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温柔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像一朵水莲花不胜凉风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娇羞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道一声珍重，道一声珍重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那一声珍重里有蜜甜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忧愁</a:t>
            </a: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沙扬娜拉！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6" name="民歌 世界名曲 樱花 日本经典民歌.mp3" descr=""/>
          <p:cNvPicPr/>
          <p:nvPr/>
        </p:nvPicPr>
        <p:blipFill>
          <a:blip r:embed="rId3"/>
          <a:stretch/>
        </p:blipFill>
        <p:spPr>
          <a:xfrm>
            <a:off x="6659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9563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03360" y="79200"/>
            <a:ext cx="7791480" cy="1341720"/>
            <a:chOff x="603360" y="79200"/>
            <a:chExt cx="7791480" cy="1341720"/>
          </a:xfrm>
        </p:grpSpPr>
        <p:pic>
          <p:nvPicPr>
            <p:cNvPr id="138" name="Rectangle 2" descr=""/>
            <p:cNvPicPr/>
            <p:nvPr/>
          </p:nvPicPr>
          <p:blipFill>
            <a:blip r:embed="rId1"/>
            <a:stretch/>
          </p:blipFill>
          <p:spPr>
            <a:xfrm>
              <a:off x="603360" y="79200"/>
              <a:ext cx="77914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 txBox="1"/>
            <p:nvPr/>
          </p:nvSpPr>
          <p:spPr>
            <a:xfrm>
              <a:off x="603360" y="79200"/>
              <a:ext cx="7791480" cy="134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0" name=""/>
          <p:cNvSpPr txBox="1"/>
          <p:nvPr/>
        </p:nvSpPr>
        <p:spPr>
          <a:xfrm>
            <a:off x="395280" y="1557360"/>
            <a:ext cx="82310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最是那</a:t>
            </a:r>
            <a:r>
              <a:rPr b="1" lang="zh-CN" sz="4000" spc="-1" strike="noStrike">
                <a:solidFill>
                  <a:srgbClr val="0070c0"/>
                </a:solidFill>
                <a:latin typeface="Cambria"/>
              </a:rPr>
              <a:t>一低头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温柔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像一朵水莲花不胜凉风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娇羞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道一声珍重，道一声珍重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那一声珍重里有蜜甜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忧愁</a:t>
            </a: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沙扬娜拉！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1" name="民歌 世界名曲 樱花 日本经典民歌.mp3" descr=""/>
          <p:cNvPicPr/>
          <p:nvPr/>
        </p:nvPicPr>
        <p:blipFill>
          <a:blip r:embed="rId2"/>
          <a:stretch/>
        </p:blipFill>
        <p:spPr>
          <a:xfrm>
            <a:off x="6659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9563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143" name="Rectangle 2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50720" y="268200"/>
              <a:ext cx="824256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0" y="1557000"/>
            <a:ext cx="8964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节描写 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—— 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对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人物、</a:t>
            </a:r>
            <a:r>
              <a:rPr b="1" lang="en-US" sz="3600" spc="-1" strike="noStrike">
                <a:solidFill>
                  <a:srgbClr val="00a8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景物</a:t>
            </a:r>
            <a:r>
              <a:rPr b="1" lang="zh-CN" sz="3600" spc="-1" strike="noStrike">
                <a:solidFill>
                  <a:srgbClr val="3333ff"/>
                </a:solidFill>
                <a:latin typeface="Cambria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场面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中某些具有</a:t>
            </a:r>
            <a:r>
              <a:rPr b="1" lang="zh-CN" sz="3600" spc="-1" strike="noStrike" u="sng">
                <a:solidFill>
                  <a:srgbClr val="b2935c"/>
                </a:solidFill>
                <a:uFillTx/>
                <a:latin typeface="Cambria"/>
              </a:rPr>
              <a:t>典型特征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的</a:t>
            </a:r>
            <a:r>
              <a:rPr b="1" lang="zh-CN" sz="3600" spc="-1" strike="noStrike" u="sng">
                <a:solidFill>
                  <a:srgbClr val="b2935c"/>
                </a:solidFill>
                <a:uFillTx/>
                <a:latin typeface="Cambria"/>
              </a:rPr>
              <a:t>细小环节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进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ambria"/>
              </a:rPr>
              <a:t>具体、生动而又细腻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的描绘，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以达到“见神韵”的描写方法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30s"/>
          <p:cNvPicPr/>
          <p:nvPr/>
        </p:nvPicPr>
        <p:blipFill>
          <a:blip r:embed="rId3"/>
          <a:stretch/>
        </p:blipFill>
        <p:spPr>
          <a:xfrm>
            <a:off x="6551640" y="5734080"/>
            <a:ext cx="2592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611280" y="155736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细节描写  雕琢神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803160" y="265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细节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484360" y="155736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348000" y="1125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物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70960" y="270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景物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270960" y="4365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活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738760" y="1052640"/>
            <a:ext cx="340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貌、语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、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632560" y="2492280"/>
            <a:ext cx="35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环境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社会环境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物、静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96000" y="422100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件细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ambria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班上有个同学，上课只做四件事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Cambria"/>
              </a:rPr>
              <a:t>睡觉、发呆、剪指甲、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但绝对不听课。这是听他的同桌说的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于是在一节数学课上，我便注意他：上课后的五分钟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他趴着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整个身子靠着桌子支撑，脚却不停地打着节拍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我想他这也许该叫作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睡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；或在梦里演绎着某摇滚歌曲。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那歌或许是周杰伦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斗牛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或是李玟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刀马旦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而绝不会是满文军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懂你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五分钟后，他苏醒了，伸了一个懒腰，又趴在桌上。这次是醒着的，用手撑着一边脸，半边脸的肉顿时被挤顶成一块儿去了。我想他可能在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发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，眼神诡秘而茫然，定在那里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这一定可去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2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分钟，我转头听了好几次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了。这下他才仿佛想通了什么事似的，撇过头，拍了一下后桌，那后桌顿时明白他，拿出指甲刀扔向他，“你僵尸啊，指甲长得那么快”。他便小心翼翼地修理他那双手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指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天天修，注定长没那么快，很快剪得手指头只剩下肉了，如果不疼的话，他恨不得也剪下一块来，这样过去了七八分钟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还剩的七八分钟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小心翼翼地从鼻子里取些，再不厌其烦地抹到墙边去。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真苦了那墙，旧伤未愈，又添新伤，反反复复，孜孜不倦，真感叹他鼻孔里的物产丰富，永无止境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下课铃响了，他终于罢手，手拿到窗帘布里抹了抹，放进口袋，一摇一摆地离开教室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上课铃响后，他又回到座位，又做同样的的事，每节课内容一样，偶尔调换顺序而已。初中生活怎能这样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一眯、一愣、一剪、一掏中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在麻木无知中消逝去？等眯完三年、愣到中考，才会知道掏来掏去，给他带来了什么！什么！！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3:24:09Z</dcterms:created>
  <dc:creator>Administrator</dc:creator>
  <dc:description/>
  <cp:keywords/>
  <dc:language>en-US</dc:language>
  <cp:lastModifiedBy>User</cp:lastModifiedBy>
  <dcterms:modified xsi:type="dcterms:W3CDTF">2015-09-25T01:20:39Z</dcterms:modified>
  <cp:revision>2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