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3B5F-C0B5-4231-B08B-CF940E83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ED1F-7E4F-477B-AA65-C2D00EA3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1909-653D-4923-84D3-8D66D1C9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13B-651A-4C71-867A-4E5A3373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A5E3-F055-4ABA-B941-028FDCB9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6728-02DB-4E0F-B5FC-79F94961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F85F-1D78-45DC-87C4-F826F4D8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600C-9718-4281-82F0-5CCA5EA6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430A-AFFB-4389-9045-5A3F7C59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02AF-396C-40EB-AFA7-7945B565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150D-11B9-4248-BAF6-5CD3C9A2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65BB-46FD-49AB-A317-DD584B3F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4551-9A33-4362-A4C7-2AC26E66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B048-970B-4FD2-A65F-E91D1D78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CEB3-EE4F-4456-8763-B2D42E83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2B93-97AA-4D0F-93B6-37EE7D4A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3AF7-481A-4763-A879-21C0DC1E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0E6-A716-49C9-B45D-73E786B1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363-60D2-4AE4-8D5F-92EF3F7A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12A-9978-429D-B707-0A2931C3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D5C-DC45-48F6-AD85-F05C72B8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BD0-A01F-49CB-8FF1-3B1A21CF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2F9-4DB3-4F9F-B768-01D70EFA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CB9-39B1-466F-8C92-1940B413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8F27-B643-44EA-9410-CBB1115DEF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133720"/>
            <a:ext cx="7128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1C49-DBAA-4412-A387-BFFF57503C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4762440" cy="3095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43960" y="1197000"/>
            <a:ext cx="10033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骆驼祥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-271440"/>
            <a:ext cx="7704000" cy="71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　　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节选的文字写的是，在曹宅拉车出了事，祥子一一回味着高妈的话，思索着自己的生活方式，充分地表现了祥子的诚实、木讷的性情和个人主义的生活态度。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 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 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"/>
          <p:cNvSpPr txBox="1"/>
          <p:nvPr/>
        </p:nvSpPr>
        <p:spPr>
          <a:xfrm rot="5400000">
            <a:off x="7342200" y="10191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情节欣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02" name=""/>
          <p:cNvSpPr/>
          <p:nvPr/>
        </p:nvSpPr>
        <p:spPr>
          <a:xfrm>
            <a:off x="1258920" y="1484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高妈还有方太太给他提供了几种攒钱的方法： 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98900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①“放出去呢，钱就会下钱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放个小型的高利贷； 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②“一块钱就可以立折子，你怎不立一个呢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储蓄； 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③“起上一个会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搞小型集资互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2997360"/>
            <a:ext cx="53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祥子是怎样想的呢？又是如何做的呢？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3664080"/>
            <a:ext cx="835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尽管“很佩服高妈的话”，却“觉得钱在自己手里比什么都稳当”：虽然“钱不会下钱，可是丢不了也是真的”。他爱钱，喜欢实实在在地攥（着：白亮、厚实、耀眼，还能时不时地数数，让人觉得踏实。 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②“把钱交出去，人家又在折子上画了几个字，打上个小印。他觉得这不是骗局，也得是骗局；白花花的现洋放进去，凭人家三画五画就算完事，祥子不上这个当”；“折子上的钱只是几个字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城里有许多的事他不明白”，“他不愿再去听，也不愿去多想”。“自己拿着自己的钱好了，不用管别的”。 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③“上哪里找这么二十位人去呢？即使能凑上，这是个面子事”；“好汉不求人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 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高妈拿他也没办法：“你真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胡同赶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直来直去；也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祥子呢？对自己点了点头，似乎承认自己的一把死拿值得佩服。” 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268000" y="404280"/>
            <a:ext cx="453708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祥子从农村来到了城市，环境变了，谋生的手段也变了，但他那种貌似诚实却狭隘的小农意识却一点也不愿去改变，就是他的理想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买一辆属于自己的洋车，也不过把洋车看做“土地”，认为是唯一可靠的东西，甚至天真地以为靠自己强壮的身体，靠诚实苦干，靠一点一点地积攒就能实现自己买车的愿望，有了自己的车子，就可以独立了，自由了。</a:t>
            </a:r>
            <a:r>
              <a:rPr b="0" lang="zh-CN" sz="2000" spc="-1" strike="noStrike">
                <a:solidFill>
                  <a:srgbClr val="ff0000"/>
                </a:solidFill>
                <a:latin typeface="Arial Rounded MT Bold"/>
              </a:rPr>
              <a:t>因本文通过祥子和高妈的谈话，表现了高妈精明干练，祥子憨厚拙直，从侧面深刻反映了旧中国社会的黑暗和下层劳动人民挣钱的艰难。 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    他认为自己和别的车夫不一样，也从来不曾考虑过别人的支持和援助，</a:t>
            </a:r>
            <a:r>
              <a:rPr b="0" lang="zh-CN" sz="2000" spc="-1" strike="noStrike">
                <a:solidFill>
                  <a:srgbClr val="ff0000"/>
                </a:solidFill>
                <a:latin typeface="Arial Rounded MT Bold"/>
              </a:rPr>
              <a:t>这种自身的局限加大了他与其他人之间的隔膜。这是一种典型的个人奋斗的道路。 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"/>
          <p:cNvSpPr txBox="1"/>
          <p:nvPr/>
        </p:nvSpPr>
        <p:spPr>
          <a:xfrm rot="5400000">
            <a:off x="7059600" y="253188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反映出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人物性格分析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24000" y="1339560"/>
            <a:ext cx="5112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高妈：</a:t>
            </a: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 ①</a:t>
            </a:r>
            <a:r>
              <a:rPr b="0" lang="zh-CN" sz="1800" spc="-1" strike="noStrike">
                <a:solidFill>
                  <a:srgbClr val="000000"/>
                </a:solidFill>
                <a:latin typeface="Arial Rounded MT Bold"/>
              </a:rPr>
              <a:t>精明、有头脑，例如：“搁在兜儿里，一个子永远是一个子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!</a:t>
            </a:r>
            <a:r>
              <a:rPr b="0" lang="zh-CN" sz="1800" spc="-1" strike="noStrike">
                <a:solidFill>
                  <a:srgbClr val="000000"/>
                </a:solidFill>
                <a:latin typeface="Arial Rounded MT Bold"/>
              </a:rPr>
              <a:t>放出去呢，钱就舍下钱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!”“</a:t>
            </a:r>
            <a:r>
              <a:rPr b="0" lang="zh-CN" sz="1800" spc="-1" strike="noStrike">
                <a:solidFill>
                  <a:srgbClr val="000000"/>
                </a:solidFill>
                <a:latin typeface="Arial Rounded MT Bold"/>
              </a:rPr>
              <a:t>车到了手，你干上一只黑签儿会，又不出利，又是体面事，准得对你的心路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!” </a:t>
            </a: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270828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泼辣、有手段，例如：“找他的巡官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句话，他的差事得搁下。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35002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热心、周到、善于雄辩，例如：苦口婆一心传授放债经验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0920" y="4365720"/>
            <a:ext cx="5042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祥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呆板、拙直。祥子没有高妈那样的头脑，既不会放债，也不愿起会。 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心、谨慎。祥子认为钱在自己手里比什么都稳当。 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6093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木讷、口拙、不善言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51280" y="1125000"/>
            <a:ext cx="5051160" cy="9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写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作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特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点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35280" y="0"/>
            <a:ext cx="5473440" cy="73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r>
              <a:rPr b="0" lang="zh-CN" sz="2000" spc="-1" strike="noStrike">
                <a:solidFill>
                  <a:srgbClr val="ffffff"/>
                </a:solidFill>
                <a:latin typeface="Arial Rounded MT Bold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Arial Rounded MT Bold"/>
              </a:rPr>
              <a:t>）语言浅显生动。</a:t>
            </a:r>
            <a:r>
              <a:rPr b="0" lang="zh-CN" sz="1800" spc="-1" strike="noStrike">
                <a:solidFill>
                  <a:srgbClr val="000000"/>
                </a:solidFill>
                <a:latin typeface="Arial Rounded MT Bold"/>
              </a:rPr>
              <a:t>把放贷赚利钱叫“钱就会下钱”，管心中无底而乱放债（可能收不回来）叫“放秃尾巴鹰”，多么生动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!</a:t>
            </a:r>
            <a:r>
              <a:rPr b="0" lang="zh-CN" sz="1800" spc="-1" strike="noStrike">
                <a:solidFill>
                  <a:srgbClr val="000000"/>
                </a:solidFill>
                <a:latin typeface="Arial Rounded MT Bold"/>
              </a:rPr>
              <a:t>老鹰没有尾巴，指放贷收不回来；乘负债人发薪之日上门讨债叫“堵窝掏”，把负债人堵在家里强行收债，多么干脆利索；管为人呆板、认死理儿叫“小胡同赶猪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 Rounded MT Bold"/>
              </a:rPr>
              <a:t>直来直去”。上述</a:t>
            </a:r>
            <a:r>
              <a:rPr b="0" lang="zh-CN" sz="1800" spc="-1" strike="noStrike">
                <a:solidFill>
                  <a:srgbClr val="808000"/>
                </a:solidFill>
                <a:latin typeface="Arial Rounded MT Bold"/>
              </a:rPr>
              <a:t>语言浅显，形象生动、深入浅出，通俗易懂。 </a:t>
            </a:r>
            <a:r>
              <a:rPr b="0" lang="zh-CN" sz="2000" spc="-1" strike="noStrike">
                <a:solidFill>
                  <a:srgbClr val="808000"/>
                </a:solidFill>
                <a:latin typeface="Arial Rounded MT Bold"/>
              </a:rPr>
              <a:t>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　　</a:t>
            </a:r>
            <a:r>
              <a:rPr b="0" lang="zh-CN" sz="2000" spc="-1" strike="noStrike">
                <a:solidFill>
                  <a:srgbClr val="ffffff"/>
                </a:solidFill>
                <a:latin typeface="Arial Rounded MT Bold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 Rounded MT Bold"/>
              </a:rPr>
              <a:t>）语言个性化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。“搁在兜儿里，一个子永远是一个子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!”“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瞧准了再放手钱，不能放秃尾巴鹰”表明了高妈精明、有头脑；“当巡警的到时候不给利，或是不归本，找他的巡官去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!”“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敢打听明白他们放饷的日子，堵窝掏”表明了高妈泼辣、有手段。  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Arial Rounded MT Bold"/>
              </a:rPr>
              <a:t>　　（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 Rounded MT Bold"/>
              </a:rPr>
              <a:t>）心理描写揭示人物精神世界和性格特征。 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　　心理描写是对人物的思想活动及其内心世界的描写，目的在于揭示人物的精神世界和性格特征。</a:t>
            </a:r>
            <a:r>
              <a:rPr b="0" lang="zh-CN" sz="2000" spc="-1" strike="noStrike">
                <a:solidFill>
                  <a:srgbClr val="808000"/>
                </a:solidFill>
                <a:latin typeface="Arial Rounded MT Bold"/>
              </a:rPr>
              <a:t>①直接使用“觉得”“知道”等词语，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如“他对高妈有相当的佩服，觉得这个女人比一般的男子还有心路与能力，她的话是抄着根儿来的。”“对于银行银号，他只知道那是出‘座儿’的地方，假若巡警不阻止在那儿搁丰的话，准能拉上‘买卖’。” 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　</a:t>
            </a:r>
            <a:r>
              <a:rPr b="0" lang="zh-CN" sz="2000" spc="-1" strike="noStrike">
                <a:solidFill>
                  <a:srgbClr val="808000"/>
                </a:solidFill>
                <a:latin typeface="Arial Rounded MT Bold"/>
              </a:rPr>
              <a:t>　②用动作暗示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，例如：“不敢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…‘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很愿意听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…‘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傻傻忽忽地一笑”，一系列动作暗示祥子从内心中对高妈非常敬佩。 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651640" y="333360"/>
            <a:ext cx="4402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思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考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333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列语句有怎样的深刻内涵？对下列语句试加分析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333360"/>
            <a:ext cx="46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资本有大小，主义是一样，因为这是资本主义的社会，像一个极细极大的筛子，一点一点地从上面往下筛钱，越往下钱越少；同时，也往下筛主义，可是上下一边儿多，因为主义不像钱那样怕筛眼小，它是无形体的，随便由什么极小的孔中也能溜下来。 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852640"/>
            <a:ext cx="9144000" cy="6426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在资本主义社会，资本可以有多有少，但是使用资本所需要的眼光、手段和规则都是一样的；“一点一点地从上面往下筛钱，越往下钱越少”是指金钱主要集中在上层社会，下层劳动人民挣钱要少得多、艰难得多；但资本主义思想却是无孔不入，人人皆知的。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8360" y="46530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她的厉害是由困苦中折磨中锻炼出来的。 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高妈的厉害、泼辣不是先天就有的，而是经历了艰难困苦被弱肉强食的黑暗社会逼出来的，这反映了下层劳动人民的生存是多么的艰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55640" y="764640"/>
            <a:ext cx="4321080" cy="468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本文通过祥子和高妈的谈话，表现了高妈</a:t>
            </a:r>
            <a:r>
              <a:rPr b="0" lang="zh-CN" sz="3200" spc="-1" strike="noStrike">
                <a:solidFill>
                  <a:srgbClr val="009999"/>
                </a:solidFill>
                <a:latin typeface="Arial Rounded MT Bold"/>
              </a:rPr>
              <a:t>精明干练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，祥子</a:t>
            </a:r>
            <a:r>
              <a:rPr b="0" lang="zh-CN" sz="3200" spc="-1" strike="noStrike">
                <a:solidFill>
                  <a:srgbClr val="009999"/>
                </a:solidFill>
                <a:latin typeface="Arial Rounded MT Bold"/>
              </a:rPr>
              <a:t>憨厚拙直，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从侧面深刻反映了</a:t>
            </a:r>
            <a:r>
              <a:rPr b="0" lang="zh-CN" sz="3200" spc="-1" strike="noStrike">
                <a:solidFill>
                  <a:srgbClr val="009999"/>
                </a:solidFill>
                <a:latin typeface="Arial Rounded MT Bold"/>
              </a:rPr>
              <a:t>旧中国社会的黑暗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和</a:t>
            </a:r>
            <a:r>
              <a:rPr b="0" lang="zh-CN" sz="3200" spc="-1" strike="noStrike">
                <a:solidFill>
                  <a:srgbClr val="009999"/>
                </a:solidFill>
                <a:latin typeface="Arial Rounded MT Bold"/>
              </a:rPr>
              <a:t>下层劳动人民挣钱的艰难。（主题）  </a:t>
            </a:r>
            <a:br>
              <a:rPr sz="3200"/>
            </a:br>
            <a:r>
              <a:rPr b="0" lang="zh-CN" sz="3200" spc="-1" strike="noStrike">
                <a:solidFill>
                  <a:srgbClr val="009999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"/>
          <p:cNvSpPr txBox="1"/>
          <p:nvPr/>
        </p:nvSpPr>
        <p:spPr>
          <a:xfrm rot="5400000">
            <a:off x="6456240" y="1831680"/>
            <a:ext cx="3313080" cy="601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课堂小结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29360" y="1700280"/>
            <a:ext cx="617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【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高妈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      —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节选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骆驼祥子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95640" y="2802240"/>
            <a:ext cx="49687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老舍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9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），本名舒庆春，字舍予，北京满族正红旗人，原姓舒觉罗氏，中国现代著名小说家、文学家、戏剧家。文革期间受到迫害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深夜，老舍含冤自沉于北京西北的太平湖畔，终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51640" y="98100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227640" y="333360"/>
            <a:ext cx="2305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老舍简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484360" y="3203640"/>
            <a:ext cx="4248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骆驼祥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老舍的代表作之一，主要是以北平（今北京）一个人力车夫祥子的行踪为线索，以二十年代末期的北京市民生活为背景，以人力车夫祥子的坎坷、悲惨的生活遭遇为主要情节，深刻揭露了旧中国的黑暗，控诉了统治阶级对劳动者的剥削、压迫，表达了作者对劳动人民的深切同情，向人们展示军阀混战、黑暗统治下的北京底层贫苦市民生活于痛苦深渊中的图景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59280" y="83664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45160" y="23508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《骆驼祥子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63640" y="692280"/>
            <a:ext cx="5616720" cy="62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课文节选自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骆驼祥子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的</a:t>
            </a:r>
            <a:r>
              <a:rPr b="0" lang="zh-CN" sz="2800" spc="-1" strike="noStrike">
                <a:solidFill>
                  <a:srgbClr val="333399"/>
                </a:solidFill>
                <a:latin typeface="Arial Rounded MT Bold"/>
              </a:rPr>
              <a:t>第八章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。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　　祥子被抓了壮丁，新置的人力车也被充了军，他第一次从心底里喊出了：“凭什么？”趁军队撤退的时候，他溜了回来，并顺手牵走了三匹骆驼，在一个村子里卖了三十五元钱，又返回了人和车厂，重新拉起了人力车。他又燃起买车的希望，“对花钱是这样一把死拿，对挣钱祥子更是不放松一步”；没包月，就拉整天；早出晚归，不拉够一定的钱数不收车，一点也不顾惜自己的身体：也开始抢生意，“像一只饿疯的野兽”，“只看见钱，多一个是一个”。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"/>
          <p:cNvSpPr/>
          <p:nvPr/>
        </p:nvSpPr>
        <p:spPr>
          <a:xfrm>
            <a:off x="5435640" y="6922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775560" y="1634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背景资料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195280" y="1339920"/>
            <a:ext cx="482436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后来拉上一个杨先生家的包月，没曾想两位太太不仅朝死里使唤他，还不让他吃饱饭，极为吝啬，祥子一怒之下便辞了职。心情沮丧的祥子，刚一回到人和车厂，便被虎妞发现了，被她灌了些酒后稀里糊涂地就与她发生了关系。有了这件事，祥子心里憋屈极了，别扭极了。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050920" y="260280"/>
            <a:ext cx="48261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正在苦闷之际，样子遇到了善良的曹先生，曹先生要他到自己的宅门里拉车。祥子“这些日子的苦恼忽然一齐铲净”，“痛快得要飞起来”了。不久，中秋节后的一个晚上，在北长街上拉着曹先生跌了一跤，车把断了，曹先生也被摔了，祥子自己也手脸全是血。尽管曹先生没有怪罪他的意思，祥子却因自己的失职，主动请辞，并且提出不要工钱。在高妈的劝说下，他不再提辞工的事了。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　　课文所节选的部分就是从这里开始的。  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祥子的结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35280" y="1413000"/>
            <a:ext cx="541008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后来虎妞就死于难产。从此以后祥子就堕落了，以前的善良正直不见了，他憎恨任何人。拉车也不去了，吃喝嫖赌的恶习也染上了，他可以为金钱出卖朋友，彻底沦为了行尸走肉。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情节概括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一（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）祥子盘算省钱、卖钱的办法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二（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2-8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）介绍高妈的精明、干练，以及高妈劝说祥子放高利贷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三（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9-11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）插叙方太太劝说祥子储蓄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四（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12-17</a:t>
            </a:r>
            <a:r>
              <a:rPr b="0" lang="zh-CN" sz="3200" spc="-1" strike="noStrike">
                <a:solidFill>
                  <a:srgbClr val="000000"/>
                </a:solidFill>
                <a:latin typeface="Arial Rounded MT Bold"/>
              </a:rPr>
              <a:t>）高妈劝说祥子起会，但没有成  功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1:25:27Z</dcterms:created>
  <dc:creator>PRINCE</dc:creator>
  <dc:description/>
  <cp:keywords/>
  <dc:language>en-US</dc:language>
  <cp:lastModifiedBy>JZ</cp:lastModifiedBy>
  <cp:lastPrinted>1899-12-30T00:00:00Z</cp:lastPrinted>
  <dcterms:modified xsi:type="dcterms:W3CDTF">2013-02-17T06:21:35Z</dcterms:modified>
  <cp:revision>26</cp:revision>
  <dc:subject/>
  <dc:title>幻灯片 1</dc:title>
</cp:coreProperties>
</file>