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7E89-E988-470E-9AAF-AC8ED95B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0971-DE4D-4D76-B416-240A3CC0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385C-5442-4BDA-BCE8-9F660448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032A-0916-401E-B3E2-CF8BD1CD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1FE-9CF6-49E9-B8A3-1B863624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6BFD-AC22-4C9B-819A-01A80110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D2A6-EF18-4561-845A-7AE00BFF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BD95-1FDD-4CDF-81CB-69452EB2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C109-40EC-4457-A362-B9795CD2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D659-0486-4CF4-87D1-3AE12458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E90D-656A-4357-9BAB-66633E99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3D4E-689E-49A9-9B17-88A96CE3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DC09-889D-4219-9BED-5919953DC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Yang\Pictures\图片1.jpg"/>
          <p:cNvPicPr/>
          <p:nvPr/>
        </p:nvPicPr>
        <p:blipFill>
          <a:blip r:embed="rId1"/>
          <a:stretch/>
        </p:blipFill>
        <p:spPr>
          <a:xfrm>
            <a:off x="611280" y="115920"/>
            <a:ext cx="8064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p_photo14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79280" y="404640"/>
            <a:ext cx="260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黑体"/>
              </a:rPr>
              <a:t>整体感知</a:t>
            </a:r>
            <a:r>
              <a:rPr b="0" lang="zh-CN" sz="5400" spc="-1" strike="noStrike">
                <a:solidFill>
                  <a:srgbClr val="ff9900"/>
                </a:solidFill>
                <a:latin typeface="隶书"/>
                <a:ea typeface="隶书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79280" y="198900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速读课文，思考：本文写了一件什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事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按什么顺序写的？ 请用简洁的语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概括（时、地、人、事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20053181822247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s69_31740"/>
          <p:cNvPicPr/>
          <p:nvPr/>
        </p:nvPicPr>
        <p:blipFill>
          <a:blip r:embed="rId2"/>
          <a:stretch/>
        </p:blipFill>
        <p:spPr>
          <a:xfrm>
            <a:off x="0" y="0"/>
            <a:ext cx="3059280" cy="2852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3555000" y="2133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时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800960" y="2205000"/>
            <a:ext cx="31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969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6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278280" y="2997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人物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728960" y="302436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阿姆斯特朗、科林斯、奥尔德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78280" y="3860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地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3123360" y="396252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美国佛罗里达半岛中部的肯尼迪航天中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555120" y="48690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发生的事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4066920" y="4869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探索月球的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2647800" y="56484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写作顺序：时间顺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6161040" y="4762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记述了人类首次登月的全过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p_photo14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179280" y="404640"/>
            <a:ext cx="260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黑体"/>
              </a:rPr>
              <a:t>整体感知</a:t>
            </a:r>
            <a:r>
              <a:rPr b="0" lang="zh-CN" sz="5400" spc="-1" strike="noStrike">
                <a:solidFill>
                  <a:srgbClr val="ff9900"/>
                </a:solidFill>
                <a:latin typeface="隶书"/>
                <a:ea typeface="隶书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79280" y="19890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２、在书中找出表示时间的词语，并且了解整个事件是如何发展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0" y="260280"/>
          <a:ext cx="8820000" cy="6469200"/>
        </p:xfrm>
        <a:graphic>
          <a:graphicData uri="http://schemas.openxmlformats.org/drawingml/2006/table">
            <a:tbl>
              <a:tblPr/>
              <a:tblGrid>
                <a:gridCol w="3400560"/>
                <a:gridCol w="54194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时    间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事    件    进    展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Text Box 56"/>
          <p:cNvSpPr/>
          <p:nvPr/>
        </p:nvSpPr>
        <p:spPr>
          <a:xfrm>
            <a:off x="424080" y="765000"/>
            <a:ext cx="21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1969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16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日上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8"/>
          <p:cNvSpPr/>
          <p:nvPr/>
        </p:nvSpPr>
        <p:spPr>
          <a:xfrm>
            <a:off x="635040" y="1197000"/>
            <a:ext cx="18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火箭发射后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分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42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0"/>
          <p:cNvSpPr/>
          <p:nvPr/>
        </p:nvSpPr>
        <p:spPr>
          <a:xfrm>
            <a:off x="769680" y="1700280"/>
            <a:ext cx="128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离地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分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1"/>
          <p:cNvSpPr/>
          <p:nvPr/>
        </p:nvSpPr>
        <p:spPr>
          <a:xfrm>
            <a:off x="685800" y="2133720"/>
            <a:ext cx="21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火箭发射后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3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小时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2"/>
          <p:cNvSpPr/>
          <p:nvPr/>
        </p:nvSpPr>
        <p:spPr>
          <a:xfrm>
            <a:off x="737640" y="2637000"/>
            <a:ext cx="17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9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日晚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点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3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3"/>
          <p:cNvSpPr/>
          <p:nvPr/>
        </p:nvSpPr>
        <p:spPr>
          <a:xfrm>
            <a:off x="737640" y="3068640"/>
            <a:ext cx="17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9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日晚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点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2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4"/>
          <p:cNvSpPr/>
          <p:nvPr/>
        </p:nvSpPr>
        <p:spPr>
          <a:xfrm>
            <a:off x="716400" y="3573360"/>
            <a:ext cx="18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0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日上午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点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2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5"/>
          <p:cNvSpPr/>
          <p:nvPr/>
        </p:nvSpPr>
        <p:spPr>
          <a:xfrm>
            <a:off x="418680" y="4005360"/>
            <a:ext cx="24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1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日凌晨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点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7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分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40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6"/>
          <p:cNvSpPr/>
          <p:nvPr/>
        </p:nvSpPr>
        <p:spPr>
          <a:xfrm>
            <a:off x="573120" y="4437000"/>
            <a:ext cx="20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1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日上午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1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点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9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7"/>
          <p:cNvSpPr/>
          <p:nvPr/>
        </p:nvSpPr>
        <p:spPr>
          <a:xfrm>
            <a:off x="767520" y="4941720"/>
            <a:ext cx="11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1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点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51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8"/>
          <p:cNvSpPr/>
          <p:nvPr/>
        </p:nvSpPr>
        <p:spPr>
          <a:xfrm>
            <a:off x="757440" y="5445000"/>
            <a:ext cx="15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2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日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点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5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9"/>
          <p:cNvSpPr/>
          <p:nvPr/>
        </p:nvSpPr>
        <p:spPr>
          <a:xfrm>
            <a:off x="716400" y="5877000"/>
            <a:ext cx="18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2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日上午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点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5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0"/>
          <p:cNvSpPr/>
          <p:nvPr/>
        </p:nvSpPr>
        <p:spPr>
          <a:xfrm>
            <a:off x="563760" y="6308640"/>
            <a:ext cx="22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5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日凌晨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点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5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分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4"/>
          <p:cNvSpPr/>
          <p:nvPr/>
        </p:nvSpPr>
        <p:spPr>
          <a:xfrm>
            <a:off x="4506480" y="765000"/>
            <a:ext cx="27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火箭推动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阿波罗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11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号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发射升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5"/>
          <p:cNvSpPr/>
          <p:nvPr/>
        </p:nvSpPr>
        <p:spPr>
          <a:xfrm>
            <a:off x="5659200" y="1197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第一级火箭脱落，火箭继续上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6"/>
          <p:cNvSpPr/>
          <p:nvPr/>
        </p:nvSpPr>
        <p:spPr>
          <a:xfrm>
            <a:off x="4832280" y="170028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第三级火箭发动机启动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7"/>
          <p:cNvSpPr/>
          <p:nvPr/>
        </p:nvSpPr>
        <p:spPr>
          <a:xfrm>
            <a:off x="5222160" y="2205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宇航员进入梦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8"/>
          <p:cNvSpPr/>
          <p:nvPr/>
        </p:nvSpPr>
        <p:spPr>
          <a:xfrm>
            <a:off x="4750560" y="263700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飞船飞过了月亮和地球引力的中和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9"/>
          <p:cNvSpPr/>
          <p:nvPr/>
        </p:nvSpPr>
        <p:spPr>
          <a:xfrm>
            <a:off x="5008680" y="314172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地面呼叫，飞船减速，准备登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0"/>
          <p:cNvSpPr/>
          <p:nvPr/>
        </p:nvSpPr>
        <p:spPr>
          <a:xfrm>
            <a:off x="5234040" y="35733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两位宇航员换乘登月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1"/>
          <p:cNvSpPr/>
          <p:nvPr/>
        </p:nvSpPr>
        <p:spPr>
          <a:xfrm>
            <a:off x="4996800" y="400536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登月舱平稳降落在月球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2"/>
          <p:cNvSpPr/>
          <p:nvPr/>
        </p:nvSpPr>
        <p:spPr>
          <a:xfrm>
            <a:off x="5366520" y="45086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登月舱打开舱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3"/>
          <p:cNvSpPr/>
          <p:nvPr/>
        </p:nvSpPr>
        <p:spPr>
          <a:xfrm>
            <a:off x="4791240" y="494172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阿姆斯特朗走下阶梯，登上月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4"/>
          <p:cNvSpPr/>
          <p:nvPr/>
        </p:nvSpPr>
        <p:spPr>
          <a:xfrm>
            <a:off x="4751640" y="544500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宇航员被唤醒，登月舱升空离开月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5"/>
          <p:cNvSpPr/>
          <p:nvPr/>
        </p:nvSpPr>
        <p:spPr>
          <a:xfrm>
            <a:off x="5018400" y="58770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登月舱与飞船对接成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6"/>
          <p:cNvSpPr/>
          <p:nvPr/>
        </p:nvSpPr>
        <p:spPr>
          <a:xfrm>
            <a:off x="5222160" y="63086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飞船进入大气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p_photo14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179280" y="404640"/>
            <a:ext cx="260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黑体"/>
              </a:rPr>
              <a:t>整体感知</a:t>
            </a:r>
            <a:r>
              <a:rPr b="0" lang="zh-CN" sz="5400" spc="-1" strike="noStrike">
                <a:solidFill>
                  <a:srgbClr val="ff9900"/>
                </a:solidFill>
                <a:latin typeface="隶书"/>
                <a:ea typeface="隶书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79280" y="227664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登月全过程可以分为几个阶段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s69_31740"/>
          <p:cNvPicPr/>
          <p:nvPr/>
        </p:nvPicPr>
        <p:blipFill>
          <a:blip r:embed="rId1"/>
          <a:stretch/>
        </p:blipFill>
        <p:spPr>
          <a:xfrm>
            <a:off x="0" y="0"/>
            <a:ext cx="3184560" cy="2654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这是“阿波罗”宇宙飞船的“鹰”号登月舱正向月球表面缓缓降落。天空中悬挂的是地球"/>
          <p:cNvPicPr/>
          <p:nvPr/>
        </p:nvPicPr>
        <p:blipFill>
          <a:blip r:embed="rId2"/>
          <a:stretch/>
        </p:blipFill>
        <p:spPr>
          <a:xfrm>
            <a:off x="0" y="3352680"/>
            <a:ext cx="3411360" cy="3505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登月小艇正要与指挥舱结合，然后由指挥舱"/>
          <p:cNvPicPr/>
          <p:nvPr/>
        </p:nvPicPr>
        <p:blipFill>
          <a:blip r:embed="rId3"/>
          <a:stretch/>
        </p:blipFill>
        <p:spPr>
          <a:xfrm>
            <a:off x="4114800" y="3559320"/>
            <a:ext cx="4191120" cy="32986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3200400" y="457200"/>
            <a:ext cx="76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一：准　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505320" y="4038480"/>
            <a:ext cx="761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三：登　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8458200" y="4114800"/>
            <a:ext cx="68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四：返　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7848720" y="533520"/>
            <a:ext cx="91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二：升　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astronautic_05_1"/>
          <p:cNvPicPr/>
          <p:nvPr/>
        </p:nvPicPr>
        <p:blipFill>
          <a:blip r:embed="rId4"/>
          <a:stretch/>
        </p:blipFill>
        <p:spPr>
          <a:xfrm>
            <a:off x="5148360" y="0"/>
            <a:ext cx="2736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45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69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p_photo14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522360" y="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cc"/>
                </a:solidFill>
                <a:latin typeface="黑体"/>
                <a:ea typeface="黑体"/>
              </a:rPr>
              <a:t>研读赏析</a:t>
            </a:r>
            <a:r>
              <a:rPr b="0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24000" y="1700280"/>
            <a:ext cx="76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宇航员踏上月球后做了几件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1286640" y="2716200"/>
            <a:ext cx="39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检查登月器的着陆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1211040" y="3573360"/>
            <a:ext cx="37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采集月壤和月岩样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1046880" y="4481640"/>
            <a:ext cx="32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树立登月纪念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从月亮上看地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1280880" y="189000"/>
            <a:ext cx="500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安装各种仪器进行科学探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6"/>
          <p:cNvPicPr/>
          <p:nvPr/>
        </p:nvPicPr>
        <p:blipFill>
          <a:blip r:embed="rId2"/>
          <a:stretch/>
        </p:blipFill>
        <p:spPr>
          <a:xfrm>
            <a:off x="250920" y="1844640"/>
            <a:ext cx="2759040" cy="2938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3"/>
          <p:cNvPicPr/>
          <p:nvPr/>
        </p:nvPicPr>
        <p:blipFill>
          <a:blip r:embed="rId3"/>
          <a:stretch/>
        </p:blipFill>
        <p:spPr>
          <a:xfrm>
            <a:off x="4427640" y="1052640"/>
            <a:ext cx="2477880" cy="2943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0"/>
          <p:cNvSpPr/>
          <p:nvPr/>
        </p:nvSpPr>
        <p:spPr>
          <a:xfrm>
            <a:off x="6526440" y="1052640"/>
            <a:ext cx="2617560" cy="30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月面上的激光反射镜，用以测量月球与地球间的精确距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埃德温·艾德林在月球上安放地震仪器。这个地震仪此后记录了多次月震的情况，并且将资料传回了地球"/>
          <p:cNvPicPr/>
          <p:nvPr/>
        </p:nvPicPr>
        <p:blipFill>
          <a:blip r:embed="rId4"/>
          <a:stretch/>
        </p:blipFill>
        <p:spPr>
          <a:xfrm>
            <a:off x="3203640" y="4254480"/>
            <a:ext cx="2092320" cy="26035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2"/>
          <p:cNvSpPr/>
          <p:nvPr/>
        </p:nvSpPr>
        <p:spPr>
          <a:xfrm>
            <a:off x="0" y="4797360"/>
            <a:ext cx="29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Times New Roman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月球车天线将摄影机的影像讯号传回地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5724360" y="4869000"/>
            <a:ext cx="32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安装在月面上的月震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76"/>
                            </p:stCondLst>
                            <p:childTnLst>
                              <p:par>
                                <p:cTn id="265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76"/>
                            </p:stCondLst>
                            <p:childTnLst>
                              <p:par>
                                <p:cTn id="269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653"/>
                            </p:stCondLst>
                            <p:childTnLst>
                              <p:par>
                                <p:cTn id="272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p_photo14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从月亮上看地球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3535560" y="376200"/>
            <a:ext cx="336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插上美国国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0" descr="图片4"/>
          <p:cNvPicPr/>
          <p:nvPr/>
        </p:nvPicPr>
        <p:blipFill>
          <a:blip r:embed="rId3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d95502d59f8563ce50da4bf3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p_photo14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从月亮上看地球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3061800" y="404640"/>
            <a:ext cx="47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与美国总统尼克松通电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1183-2"/>
          <p:cNvPicPr/>
          <p:nvPr/>
        </p:nvPicPr>
        <p:blipFill>
          <a:blip r:embed="rId3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p_photo14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461520" y="333360"/>
            <a:ext cx="205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cc"/>
                </a:solidFill>
                <a:latin typeface="黑体"/>
                <a:ea typeface="黑体"/>
              </a:rPr>
              <a:t>研读赏析</a:t>
            </a:r>
            <a:r>
              <a:rPr b="0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0" y="170028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作者为什么将时间精确到了秒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324000" y="2781360"/>
            <a:ext cx="60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因为这是一篇太空探索的文章，二太空探索，对数字的精确度要求十分高，这些数字主要是体现本文语言的准确性、科学性、真实性，体现记实报道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p_photo14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461520" y="333360"/>
            <a:ext cx="205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cc"/>
                </a:solidFill>
                <a:latin typeface="黑体"/>
                <a:ea typeface="黑体"/>
              </a:rPr>
              <a:t>研读赏析</a:t>
            </a:r>
            <a:r>
              <a:rPr b="0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0" y="2637000"/>
            <a:ext cx="853272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通过学习，我们对人类登月的全过程，已有了一个较全面的了解，人类登月有什么意义呢？（用课本中的语言回答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p_photo14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10075179"/>
          <p:cNvPicPr/>
          <p:nvPr/>
        </p:nvPicPr>
        <p:blipFill>
          <a:blip r:embed="rId2"/>
          <a:stretch/>
        </p:blipFill>
        <p:spPr>
          <a:xfrm>
            <a:off x="0" y="0"/>
            <a:ext cx="10476000" cy="7074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9"/>
          <p:cNvSpPr/>
          <p:nvPr/>
        </p:nvSpPr>
        <p:spPr>
          <a:xfrm>
            <a:off x="324000" y="404640"/>
            <a:ext cx="39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阿姆斯特朗说：“这一小步，对于一个人来说，是小小的一步；对整个人类来说，是巨大的飞跃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aaaa"/>
          <p:cNvPicPr/>
          <p:nvPr/>
        </p:nvPicPr>
        <p:blipFill>
          <a:blip r:embed="rId1"/>
          <a:stretch/>
        </p:blipFill>
        <p:spPr>
          <a:xfrm>
            <a:off x="0" y="-1684440"/>
            <a:ext cx="9144000" cy="8542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611280" y="2636640"/>
            <a:ext cx="77724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“一小步”是指宇航员们从飞船跨到月球表面的一小步，这时对个人来讲确实很容易，毫不费力。但是这一步是人类向太空领域迈出的第一步，使人类的梦想变成了现实，它显示了人类卓越的聪明才智，表明了人类高度发达的科技水平，开创了人类对宇宙探索的新纪元，这意义就非同小可，因此说这是巨大的飞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p_photo14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461520" y="333360"/>
            <a:ext cx="205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cc"/>
                </a:solidFill>
                <a:latin typeface="黑体"/>
                <a:ea typeface="黑体"/>
              </a:rPr>
              <a:t>写作特点</a:t>
            </a:r>
            <a:r>
              <a:rPr b="0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0" y="2637000"/>
            <a:ext cx="8532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有明晰的时间线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使读者比较详细地了解了登月的具体时间，也增强了事件的真实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p_photo14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461520" y="333360"/>
            <a:ext cx="205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cc"/>
                </a:solidFill>
                <a:latin typeface="黑体"/>
                <a:ea typeface="黑体"/>
              </a:rPr>
              <a:t>写作特点</a:t>
            </a:r>
            <a:r>
              <a:rPr b="0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0" y="2637000"/>
            <a:ext cx="85327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语言准确、生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）恰当的描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）用数字说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）叙述中有议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p_photo14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181620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608040" y="1647720"/>
            <a:ext cx="28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）叙述中有议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68360" y="249228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在记叙文中恰当穿插一些议论的句子，可以起到深化理解、画龙点睛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539640" y="37162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比如第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自然地中写道：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一一个伟大时代就要来到了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这将是人类进行的距离最远的一次旅行。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再比如第</a:t>
            </a:r>
            <a:r>
              <a:rPr b="1" lang="en-US" sz="3200" spc="-1" strike="noStrike">
                <a:solidFill>
                  <a:srgbClr val="00ff00"/>
                </a:solidFill>
                <a:latin typeface="黑体"/>
                <a:ea typeface="黑体"/>
              </a:rPr>
              <a:t>11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自然地中：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这是一个伟大的时刻。这是人类伟大的一步。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这是人类探索太空的里程碑。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p_photo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539640" y="26370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ff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00ff00"/>
                </a:solidFill>
                <a:latin typeface="黑体"/>
                <a:ea typeface="黑体"/>
              </a:rPr>
              <a:t>18</a:t>
            </a:r>
            <a:r>
              <a:rPr b="1" lang="zh-CN" sz="4400" spc="-1" strike="noStrike">
                <a:solidFill>
                  <a:srgbClr val="00ff00"/>
                </a:solidFill>
                <a:latin typeface="黑体"/>
                <a:ea typeface="黑体"/>
              </a:rPr>
              <a:t>课</a:t>
            </a:r>
            <a:r>
              <a:rPr b="1" lang="en-US" sz="4400" spc="-1" strike="noStrike">
                <a:solidFill>
                  <a:srgbClr val="00ff00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0ff00"/>
                </a:solidFill>
                <a:latin typeface="黑体"/>
                <a:ea typeface="黑体"/>
              </a:rPr>
              <a:t>短文两篇</a:t>
            </a:r>
            <a:r>
              <a:rPr b="1" lang="en-US" sz="4400" spc="-1" strike="noStrike">
                <a:solidFill>
                  <a:srgbClr val="00ff00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00ff00"/>
                </a:solidFill>
                <a:latin typeface="黑体"/>
                <a:ea typeface="黑体"/>
              </a:rPr>
              <a:t>中有关蝉和贝壳的描写时也有夹叙夹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p_photo14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631080" y="620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24a8"/>
                </a:solidFill>
                <a:latin typeface="Arial"/>
                <a:ea typeface="黑体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468360" y="242100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人类第一次成功地探访月球已是四十二年前的事了。时光飞逝，时至今日，人类向宇宙迈进的步伐从没停止过。那么，你知道我国最近有没有探索宇宙的计划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40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5311080" y="476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黑体"/>
              </a:rPr>
              <a:t>嫦娥奔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633840" y="1557360"/>
            <a:ext cx="51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美丽的嫦娥是射下九个太阳的英雄后羿的妻子，她因为吃了长生不老丹就飞进了月宫。她住在广寒宫里，捣药的玉兔和砍伐桂树的吴刚陪伴着她。嫦娥在每年的农历八月十五日，就会步出广寒宫，遥望人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79280" y="2205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嫦娥奔月代表了我国古时人们对神秘月球的无限向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p_photo14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7"/>
          <p:cNvSpPr/>
          <p:nvPr/>
        </p:nvSpPr>
        <p:spPr>
          <a:xfrm>
            <a:off x="539640" y="2349360"/>
            <a:ext cx="76201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  <a:ea typeface="方正黑体简体"/>
              </a:rPr>
              <a:t>     </a:t>
            </a:r>
            <a:r>
              <a:rPr b="1" lang="zh-CN" sz="3600" spc="-1" strike="noStrike">
                <a:solidFill>
                  <a:srgbClr val="bbe0e3"/>
                </a:solidFill>
                <a:latin typeface="Times New Roman"/>
                <a:ea typeface="黑体"/>
              </a:rPr>
              <a:t>根据下面的情境，展开想像，写一段不少于二百字的短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　　假如再过十五年，你驾驶着一艘宇宙飞船，在茫茫的太空中寻找外星生命。你离开地球已经好几年了。这时，透过舷窗，你看到一个美丽的蓝色星球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515520" y="549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  <a:ea typeface="黑体"/>
              </a:rPr>
              <a:t>作  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78-1109231441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u=2006226603,1219825240&amp;fm=0&amp;gp=0"/>
          <p:cNvPicPr/>
          <p:nvPr/>
        </p:nvPicPr>
        <p:blipFill>
          <a:blip r:embed="rId2"/>
          <a:stretch/>
        </p:blipFill>
        <p:spPr>
          <a:xfrm>
            <a:off x="0" y="4724280"/>
            <a:ext cx="1979640" cy="21337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5965920" y="260280"/>
            <a:ext cx="22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天宫一号”与“神八”对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4a56bd9d-1be8-4366-946d-72c1eaf2e253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u=2006226603,1219825240&amp;fm=0&amp;gp=0"/>
          <p:cNvPicPr/>
          <p:nvPr/>
        </p:nvPicPr>
        <p:blipFill>
          <a:blip r:embed="rId2"/>
          <a:stretch/>
        </p:blipFill>
        <p:spPr>
          <a:xfrm>
            <a:off x="7380360" y="4724280"/>
            <a:ext cx="1979640" cy="21337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6469200" y="189000"/>
            <a:ext cx="22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天宫一号”与“神八”对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78-110923144106"/>
          <p:cNvPicPr/>
          <p:nvPr/>
        </p:nvPicPr>
        <p:blipFill>
          <a:blip r:embed="rId1"/>
          <a:stretch/>
        </p:blipFill>
        <p:spPr>
          <a:xfrm>
            <a:off x="47520" y="0"/>
            <a:ext cx="904896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u=2006226603,1219825240&amp;fm=0&amp;gp=0"/>
          <p:cNvPicPr/>
          <p:nvPr/>
        </p:nvPicPr>
        <p:blipFill>
          <a:blip r:embed="rId2"/>
          <a:stretch/>
        </p:blipFill>
        <p:spPr>
          <a:xfrm>
            <a:off x="7164360" y="4724280"/>
            <a:ext cx="1979640" cy="21337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2292480" y="189000"/>
            <a:ext cx="22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天宫一号”与“神八”对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83bd86f7-ce0b-4f4e-b156-c019f6747c1e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532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u=2006226603,1219825240&amp;fm=0&amp;gp=0"/>
          <p:cNvPicPr/>
          <p:nvPr/>
        </p:nvPicPr>
        <p:blipFill>
          <a:blip r:embed="rId2"/>
          <a:stretch/>
        </p:blipFill>
        <p:spPr>
          <a:xfrm>
            <a:off x="7451640" y="5373720"/>
            <a:ext cx="1979640" cy="2133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2868840" y="0"/>
            <a:ext cx="22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天宫一号”与“神八”对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a9adacb6-1a4d-4bbd-b969-8c3353b03d3b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u=2006226603,1219825240&amp;fm=0&amp;gp=0"/>
          <p:cNvPicPr/>
          <p:nvPr/>
        </p:nvPicPr>
        <p:blipFill>
          <a:blip r:embed="rId2"/>
          <a:stretch/>
        </p:blipFill>
        <p:spPr>
          <a:xfrm>
            <a:off x="7451640" y="4724280"/>
            <a:ext cx="1979640" cy="21337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6"/>
          <p:cNvSpPr/>
          <p:nvPr/>
        </p:nvSpPr>
        <p:spPr>
          <a:xfrm>
            <a:off x="3732480" y="0"/>
            <a:ext cx="22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天宫一号”与“神八”对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d42da874-9b04-4333-80ef-a17986f47d34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u=2006226603,1219825240&amp;fm=0&amp;gp=0"/>
          <p:cNvPicPr/>
          <p:nvPr/>
        </p:nvPicPr>
        <p:blipFill>
          <a:blip r:embed="rId2"/>
          <a:stretch/>
        </p:blipFill>
        <p:spPr>
          <a:xfrm>
            <a:off x="7451640" y="4724280"/>
            <a:ext cx="1979640" cy="21337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349200" y="0"/>
            <a:ext cx="22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天宫一号”与“神八”对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f9e1fe8e-3499-430b-b50c-4cd6b2520e65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u=2006226603,1219825240&amp;fm=0&amp;gp=0"/>
          <p:cNvPicPr/>
          <p:nvPr/>
        </p:nvPicPr>
        <p:blipFill>
          <a:blip r:embed="rId2"/>
          <a:stretch/>
        </p:blipFill>
        <p:spPr>
          <a:xfrm>
            <a:off x="-252360" y="4724280"/>
            <a:ext cx="1979640" cy="21337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6"/>
          <p:cNvSpPr/>
          <p:nvPr/>
        </p:nvSpPr>
        <p:spPr>
          <a:xfrm>
            <a:off x="5965920" y="0"/>
            <a:ext cx="22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天宫一号”与“神八”对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78-1109231441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u=2006226603,1219825240&amp;fm=0&amp;gp=0"/>
          <p:cNvPicPr/>
          <p:nvPr/>
        </p:nvPicPr>
        <p:blipFill>
          <a:blip r:embed="rId2"/>
          <a:stretch/>
        </p:blipFill>
        <p:spPr>
          <a:xfrm>
            <a:off x="0" y="4724280"/>
            <a:ext cx="1979640" cy="21337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6"/>
          <p:cNvSpPr/>
          <p:nvPr/>
        </p:nvSpPr>
        <p:spPr>
          <a:xfrm>
            <a:off x="5996520" y="26028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天宫一号”轨道实验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78-110923144113"/>
          <p:cNvPicPr/>
          <p:nvPr/>
        </p:nvPicPr>
        <p:blipFill>
          <a:blip r:embed="rId1"/>
          <a:stretch/>
        </p:blipFill>
        <p:spPr>
          <a:xfrm>
            <a:off x="-133200" y="0"/>
            <a:ext cx="92772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u=2006226603,1219825240&amp;fm=0&amp;gp=0"/>
          <p:cNvPicPr/>
          <p:nvPr/>
        </p:nvPicPr>
        <p:blipFill>
          <a:blip r:embed="rId2"/>
          <a:stretch/>
        </p:blipFill>
        <p:spPr>
          <a:xfrm>
            <a:off x="7236000" y="4724280"/>
            <a:ext cx="1908000" cy="21337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703800" y="148428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天宫一号”轨道实验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814320" y="1116000"/>
            <a:ext cx="1521000" cy="45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黑体"/>
              </a:rPr>
              <a:t>苏轼</a:t>
            </a:r>
            <a:r>
              <a:rPr b="1" lang="en-US" sz="4400" spc="-1" strike="noStrike">
                <a:solidFill>
                  <a:srgbClr val="990000"/>
                </a:solidFill>
                <a:latin typeface="Arial"/>
                <a:ea typeface="黑体"/>
              </a:rPr>
              <a:t>《</a:t>
            </a: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黑体"/>
              </a:rPr>
              <a:t>水调歌头</a:t>
            </a:r>
            <a:r>
              <a:rPr b="1" lang="en-US" sz="4400" spc="-1" strike="noStrike">
                <a:solidFill>
                  <a:srgbClr val="990000"/>
                </a:solidFill>
                <a:latin typeface="Arial"/>
                <a:ea typeface="黑体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492360" y="657360"/>
            <a:ext cx="52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明月几时有？把酒问青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知天上宫阙、今夕是何年？我欲乘风归去，又恐琼楼玉宇，高处不胜寒。起舞弄清影，何似在人间？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转朱阁，低绮户，照无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应有恨、何事长向别时圆？人有悲欢离合，月有阴晴圆缺，此事古难全。但愿人长久，千里共蝉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p_photo14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5"/>
          <p:cNvSpPr/>
          <p:nvPr/>
        </p:nvSpPr>
        <p:spPr>
          <a:xfrm>
            <a:off x="539640" y="2349360"/>
            <a:ext cx="76201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  <a:ea typeface="方正黑体简体"/>
              </a:rPr>
              <a:t>     </a:t>
            </a:r>
            <a:r>
              <a:rPr b="1" lang="zh-CN" sz="3600" spc="-1" strike="noStrike">
                <a:solidFill>
                  <a:srgbClr val="bbe0e3"/>
                </a:solidFill>
                <a:latin typeface="Times New Roman"/>
                <a:ea typeface="黑体"/>
              </a:rPr>
              <a:t>根据下面的情境，展开想像，写一段不少于二百字的短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　　假如再过十五年，你驾驶着一艘宇宙飞船，在茫茫的太空中寻找外星生命。你离开地球已经好几年了。这时，透过舷窗，你看到一个美丽的蓝色星球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15520" y="549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  <a:ea typeface="黑体"/>
              </a:rPr>
              <a:t>作  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640" y="115560"/>
            <a:ext cx="526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月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诗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3"/>
          <p:cNvSpPr/>
          <p:nvPr/>
        </p:nvSpPr>
        <p:spPr>
          <a:xfrm>
            <a:off x="1187280" y="1339920"/>
            <a:ext cx="528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愿人长久，千里共婵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4"/>
          <p:cNvSpPr/>
          <p:nvPr/>
        </p:nvSpPr>
        <p:spPr>
          <a:xfrm>
            <a:off x="1260360" y="1989000"/>
            <a:ext cx="508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海上生明月，天涯共此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5"/>
          <p:cNvSpPr/>
          <p:nvPr/>
        </p:nvSpPr>
        <p:spPr>
          <a:xfrm>
            <a:off x="1260360" y="2565360"/>
            <a:ext cx="503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举头望明月，低头思故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6"/>
          <p:cNvSpPr/>
          <p:nvPr/>
        </p:nvSpPr>
        <p:spPr>
          <a:xfrm>
            <a:off x="1187280" y="3139920"/>
            <a:ext cx="681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江畔何人初见月，江月何年初照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7"/>
          <p:cNvSpPr/>
          <p:nvPr/>
        </p:nvSpPr>
        <p:spPr>
          <a:xfrm>
            <a:off x="1260360" y="3789360"/>
            <a:ext cx="62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举杯邀明月，对影成三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8"/>
          <p:cNvSpPr/>
          <p:nvPr/>
        </p:nvSpPr>
        <p:spPr>
          <a:xfrm>
            <a:off x="1260360" y="4437000"/>
            <a:ext cx="534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上柳梢头，人约黄昏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9"/>
          <p:cNvSpPr/>
          <p:nvPr/>
        </p:nvSpPr>
        <p:spPr>
          <a:xfrm>
            <a:off x="1332000" y="5013360"/>
            <a:ext cx="49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明月松间照，清泉石上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10"/>
          <p:cNvSpPr/>
          <p:nvPr/>
        </p:nvSpPr>
        <p:spPr>
          <a:xfrm>
            <a:off x="1260360" y="5661000"/>
            <a:ext cx="659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本将心向明月，奈何明月照沟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987640" y="-360"/>
            <a:ext cx="3192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月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意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3"/>
          <p:cNvSpPr/>
          <p:nvPr/>
        </p:nvSpPr>
        <p:spPr>
          <a:xfrm>
            <a:off x="252360" y="692280"/>
            <a:ext cx="868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李白的《静夜思》这样一首小诗，明白晓畅，如同白话，为什么无论男女老幼人人喜欢？因为里面沉积的是中华民族多年来形成的文化情感，它融会了中国人对自然、社会、人生多方面的体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国是一个农业文明的社会，自古就对自然天象特别关注，对季节的变化也特别敏感。月亮的阴晴圆缺，一年的寒来暑往，家庭的悲欢离合，人生的苦乐年华，就这样有机地结合起来，凝结成中国文化中的月亮这一特殊的意象。它可以唤醒游子的思乡，也可以引起对亲人的思念，可以寄托美好的理想，也可以引发对人生的思考。所以，咏月就成为中国诗歌中一个经久不衰的传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诗经》中有《月出》，汉乐府中有《明月何皎皎》，魏晋南北朝谢庄有《月赋》，等等。唐诗里写月的就更多了，张若虚的《春江花月夜》、张九龄的《望月怀远》、杜甫的《月夜》等都是名作，宋代苏东坡的《水调歌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明月几时有》更是现代人耳熟能详的名篇。直到现在，咏月依然是中国诗歌的一个重要主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21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4690080" y="1989000"/>
            <a:ext cx="81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本课到此结束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无标题1"/>
          <p:cNvPicPr/>
          <p:nvPr/>
        </p:nvPicPr>
        <p:blipFill>
          <a:blip r:embed="rId1"/>
          <a:stretch/>
        </p:blipFill>
        <p:spPr>
          <a:xfrm>
            <a:off x="-649440" y="-458640"/>
            <a:ext cx="9793440" cy="7316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376200" y="266760"/>
            <a:ext cx="455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0" y="0"/>
            <a:ext cx="505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月球是地球唯一的天然卫星，是距离我们最近的天体。月球本身并不发光，只反射太阳光 。月球的表面是由平原、山峰和山谷组 成的荒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还有许多 由于太空物体高速撞击月球表面而形成的陨石坑。月球少有供人类呼吸的空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图片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4748760" y="404640"/>
            <a:ext cx="305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地球与月球相距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8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万千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从月亮上看地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4726080" y="620640"/>
            <a:ext cx="4417920" cy="6048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395280" y="3429000"/>
            <a:ext cx="42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如今，幻想已经变为现实。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969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月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1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日，人类终于登上了月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104"/>
          <p:cNvPicPr/>
          <p:nvPr/>
        </p:nvPicPr>
        <p:blipFill>
          <a:blip r:embed="rId1"/>
          <a:stretch/>
        </p:blipFill>
        <p:spPr>
          <a:xfrm>
            <a:off x="0" y="-774720"/>
            <a:ext cx="9325080" cy="7632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539640" y="33994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9224a8"/>
                </a:solidFill>
                <a:latin typeface="Arial"/>
                <a:ea typeface="黑体"/>
              </a:rPr>
              <a:t>月亮上的足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241240" y="5084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24a8"/>
                </a:solidFill>
                <a:latin typeface="Arial"/>
                <a:ea typeface="黑体"/>
              </a:rPr>
              <a:t>朱长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16360" y="404640"/>
            <a:ext cx="37843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快速阅读训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"/>
          <p:cNvSpPr/>
          <p:nvPr/>
        </p:nvSpPr>
        <p:spPr>
          <a:xfrm>
            <a:off x="1044720" y="1773360"/>
            <a:ext cx="6808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时间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min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默读全文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做到集中注意力，不出声，不回视，记住文章的主要内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1:32:25Z</dcterms:created>
  <dc:creator>微软用户</dc:creator>
  <dc:description/>
  <dc:language>en-US</dc:language>
  <cp:lastModifiedBy>Administrator</cp:lastModifiedBy>
  <dcterms:modified xsi:type="dcterms:W3CDTF">2006-12-31T16:16:34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90</vt:lpwstr>
  </property>
</Properties>
</file>