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16F-A070-40FC-A684-68FE0564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17C-E096-475C-BD5D-043862DC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0AC-D68F-4C46-A2A3-0C0B838A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D06-94EA-4AC8-90DB-4D4205C2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9FD-D335-41E7-8DB7-17F976DF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9F6-A87A-4067-AE5B-B9E80B82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69E-3DDA-4EA7-BF5C-F25F75B6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0A6-5CFF-4E3B-8006-69866A35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5B6-3E8E-4D7D-AFE3-19A4D1B8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C80-49D0-4C1B-BC4B-7B731779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71B-BB75-46E7-9808-7E60F8D2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C8E-5BF0-409A-83BE-74E0A85E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CD0E-BBFF-4725-9298-687C5521D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RACK08.mp3" descr=""/>
          <p:cNvPicPr/>
          <p:nvPr/>
        </p:nvPicPr>
        <p:blipFill>
          <a:blip r:embed="rId1"/>
          <a:stretch/>
        </p:blipFill>
        <p:spPr>
          <a:xfrm>
            <a:off x="5562720" y="3352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xin_291490efacac42bb93f8f88a8db529ca_103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 rot="10800">
            <a:off x="3123720" y="2422080"/>
            <a:ext cx="19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鲁 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 rot="5225400">
            <a:off x="-1334160" y="2019960"/>
            <a:ext cx="5792760" cy="2362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-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2f5e"/>
                    </a:gs>
                    <a:gs pos="100000">
                      <a:srgbClr val="ff66cc"/>
                    </a:gs>
                  </a:gsLst>
                  <a:lin ang="16494000"/>
                </a:gradFill>
                <a:latin typeface="华文行楷"/>
              </a:rPr>
              <a:t>故乡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2f5e"/>
                  </a:gs>
                  <a:gs pos="100000">
                    <a:srgbClr val="ff66cc"/>
                  </a:gs>
                </a:gsLst>
                <a:lin ang="16494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4AFB03BEE0251FA38CFF50EDF1F64A98"/>
          <p:cNvPicPr/>
          <p:nvPr/>
        </p:nvPicPr>
        <p:blipFill>
          <a:blip r:embed="rId1"/>
          <a:stretch/>
        </p:blipFill>
        <p:spPr>
          <a:xfrm>
            <a:off x="-252360" y="26028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2843280" y="765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紧扣“变”字，把握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 rot="5400000">
            <a:off x="-216000" y="317664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故乡之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pic>
        <p:nvPicPr>
          <p:cNvPr id="105" name="Picture 5" descr="hxx7"/>
          <p:cNvPicPr/>
          <p:nvPr/>
        </p:nvPicPr>
        <p:blipFill>
          <a:blip r:embed="rId2"/>
          <a:stretch/>
        </p:blipFill>
        <p:spPr>
          <a:xfrm>
            <a:off x="2195640" y="1557360"/>
            <a:ext cx="2619360" cy="307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xx3"/>
          <p:cNvPicPr/>
          <p:nvPr/>
        </p:nvPicPr>
        <p:blipFill>
          <a:blip r:embed="rId3"/>
          <a:stretch/>
        </p:blipFill>
        <p:spPr>
          <a:xfrm>
            <a:off x="6012000" y="1557360"/>
            <a:ext cx="2643120" cy="3095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5003640" y="292428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076720" y="2997360"/>
            <a:ext cx="790560" cy="217440"/>
          </a:xfrm>
          <a:prstGeom prst="rightArrow">
            <a:avLst>
              <a:gd name="adj1" fmla="val 50000"/>
              <a:gd name="adj2" fmla="val 908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184560" y="5018040"/>
            <a:ext cx="13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476800" y="5137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vantGarde Bk BT"/>
                <a:ea typeface="幼圆"/>
              </a:rPr>
              <a:t>神异的图画（美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5580000" y="50846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萧索的荒村（阴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写现实中的故乡和记忆中的故乡运用了什么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实中的故乡描写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7720" y="2565360"/>
            <a:ext cx="8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对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4480" y="39862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作用：渲染萧条、荒凉、冷落的气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烘托悲凉的心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BJ_001"/>
          <p:cNvPicPr/>
          <p:nvPr/>
        </p:nvPicPr>
        <p:blipFill>
          <a:blip r:embed="rId1"/>
          <a:stretch/>
        </p:blipFill>
        <p:spPr>
          <a:xfrm>
            <a:off x="-181080" y="0"/>
            <a:ext cx="8944200" cy="68295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3"/>
          <p:cNvSpPr txBox="1"/>
          <p:nvPr/>
        </p:nvSpPr>
        <p:spPr>
          <a:xfrm>
            <a:off x="1981080" y="0"/>
            <a:ext cx="4800600" cy="37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_30167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3"/>
          <p:cNvSpPr/>
          <p:nvPr/>
        </p:nvSpPr>
        <p:spPr>
          <a:xfrm>
            <a:off x="533520" y="6248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537280" y="620640"/>
            <a:ext cx="310644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Arial"/>
                <a:ea typeface="华文新魏"/>
              </a:rPr>
              <a:t>故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7115040" y="692280"/>
            <a:ext cx="170496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故乡，是一个人成长的摇篮；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故乡，是漂泊的游子魂牵梦萦的精神家园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故乡，更是你我他黯然销魂的伤心之所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3" descr="cache(25)"/>
            <p:cNvPicPr/>
            <p:nvPr/>
          </p:nvPicPr>
          <p:blipFill>
            <a:blip r:embed="rId1"/>
            <a:stretch/>
          </p:blipFill>
          <p:spPr>
            <a:xfrm rot="10800000">
              <a:off x="6222960" y="3936960"/>
              <a:ext cx="2921040" cy="29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cache(25)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921040" cy="29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5"/>
          <p:cNvSpPr/>
          <p:nvPr/>
        </p:nvSpPr>
        <p:spPr>
          <a:xfrm>
            <a:off x="1676520" y="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谈谈小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24000" y="692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以塑造人物为中心，通过完整的故事情节的叙述和环境的描写反映社会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68360" y="191628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琥珀"/>
              </a:rPr>
              <a:t>小说三要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059280" y="1989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人物、情节、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826920" y="2708280"/>
            <a:ext cx="547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三要素中的主要要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50920" y="328464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琥珀"/>
              </a:rPr>
              <a:t>故事情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340000" y="335772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开端、发展、高潮、结局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序幕、尾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55640" y="4508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环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1979640" y="4508640"/>
            <a:ext cx="142920" cy="72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2340000" y="4292640"/>
            <a:ext cx="266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自然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社会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509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50943"/>
                </a:solidFill>
                <a:latin typeface="Arial"/>
              </a:rPr>
              <a:t>　　　　　　写作背景</a:t>
            </a:r>
            <a:r>
              <a:rPr b="1" lang="en-US" sz="3600" spc="-1" strike="noStrike">
                <a:solidFill>
                  <a:srgbClr val="d50943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辛亥革命后，封建王朝的专制政权被推翻了，但代之而起的是地主阶级的军阀官僚的统治。帝国主义不但操纵了中国的财政和经济命脉，而且操纵了中国的政治和军事力量。由于这双重的压迫，中国的广大人民，日益贫困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鲁迅回故乡绍兴，接母亲到北京。他亲眼目睹了故乡的破旧不堪和农民生活的贫困，百感交集，  思绪万千，一年后就以这次经历为素材，创作了小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故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次回到乡间，幼年的伙伴、农民章闰水特地从海边农村进城来探望鲁迅。章闰水年纪刚过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已是满脸皱纹，形容樵悴，向鲁迅讲述了农村人的悲惨处境，引起了鲁迅深切的同情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鲁迅以章闰水为原型，塑造了闰土这个朴实的农民形象。文章是用第一人称来写的，是作者所塑造的一个人物形象，不能指作者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4" name="Picture 8" descr="cache(25)"/>
            <p:cNvPicPr/>
            <p:nvPr/>
          </p:nvPicPr>
          <p:blipFill>
            <a:blip r:embed="rId1"/>
            <a:stretch/>
          </p:blipFill>
          <p:spPr>
            <a:xfrm rot="10800000">
              <a:off x="6222960" y="3936960"/>
              <a:ext cx="2921040" cy="29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9" descr="cache(25)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921040" cy="292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45584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76360" y="9936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866240" y="174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快速朗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116000" y="1052640"/>
            <a:ext cx="657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、本篇小说的主人公是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、小说以什么为线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、二十年的时间，“我”重回故乡。故乡的变化具体体现在哪几方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、现实中的故乡和记忆中的故乡各是怎样的画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015"/>
          <p:cNvPicPr/>
          <p:nvPr/>
        </p:nvPicPr>
        <p:blipFill>
          <a:blip r:embed="rId2"/>
          <a:stretch/>
        </p:blipFill>
        <p:spPr>
          <a:xfrm>
            <a:off x="395280" y="1268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15"/>
          <p:cNvPicPr/>
          <p:nvPr/>
        </p:nvPicPr>
        <p:blipFill>
          <a:blip r:embed="rId3"/>
          <a:stretch/>
        </p:blipFill>
        <p:spPr>
          <a:xfrm>
            <a:off x="395280" y="263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015"/>
          <p:cNvPicPr/>
          <p:nvPr/>
        </p:nvPicPr>
        <p:blipFill>
          <a:blip r:embed="rId4"/>
          <a:stretch/>
        </p:blipFill>
        <p:spPr>
          <a:xfrm>
            <a:off x="395280" y="1916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015"/>
          <p:cNvPicPr/>
          <p:nvPr/>
        </p:nvPicPr>
        <p:blipFill>
          <a:blip r:embed="rId5"/>
          <a:stretch/>
        </p:blipFill>
        <p:spPr>
          <a:xfrm>
            <a:off x="395280" y="3284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说主人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说线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6120" y="1465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闰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14172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回故乡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在故乡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离故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35320" y="39337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我回故乡的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见闻和感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线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7308720" y="5516640"/>
            <a:ext cx="100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908000" y="350028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硬笔楷书简体"/>
              </a:rPr>
              <a:t>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7199280" y="3429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硬笔楷书简体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 rot="1246200">
            <a:off x="3203280" y="476280"/>
            <a:ext cx="3962160" cy="3357360"/>
          </a:xfrm>
          <a:prstGeom prst="irregularSeal2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211640" y="15573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9333800">
            <a:off x="2771640" y="3428640"/>
            <a:ext cx="976320" cy="81000"/>
          </a:xfrm>
          <a:prstGeom prst="rightArrow">
            <a:avLst>
              <a:gd name="adj1" fmla="val 50000"/>
              <a:gd name="adj2" fmla="val 301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 rot="2299200">
            <a:off x="6372000" y="3573360"/>
            <a:ext cx="976320" cy="98640"/>
          </a:xfrm>
          <a:prstGeom prst="leftArrow">
            <a:avLst>
              <a:gd name="adj1" fmla="val 50000"/>
              <a:gd name="adj2" fmla="val 2474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93680" y="179856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1"/>
          <p:cNvSpPr txBox="1"/>
          <p:nvPr/>
        </p:nvSpPr>
        <p:spPr>
          <a:xfrm rot="5400000">
            <a:off x="-647640" y="260028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故乡之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pic>
        <p:nvPicPr>
          <p:cNvPr id="88" name="Picture 12" descr="4AFB03BEE0251FA38CFF50EDF1F64A98"/>
          <p:cNvPicPr/>
          <p:nvPr/>
        </p:nvPicPr>
        <p:blipFill>
          <a:blip r:embed="rId1"/>
          <a:stretch/>
        </p:blipFill>
        <p:spPr>
          <a:xfrm>
            <a:off x="0" y="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pic_30167"/>
          <p:cNvPicPr/>
          <p:nvPr/>
        </p:nvPicPr>
        <p:blipFill>
          <a:blip r:embed="rId2"/>
          <a:stretch/>
        </p:blipFill>
        <p:spPr>
          <a:xfrm>
            <a:off x="0" y="5145120"/>
            <a:ext cx="1908000" cy="171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父亲3"/>
          <p:cNvPicPr/>
          <p:nvPr/>
        </p:nvPicPr>
        <p:blipFill>
          <a:blip r:embed="rId3"/>
          <a:stretch/>
        </p:blipFill>
        <p:spPr>
          <a:xfrm>
            <a:off x="7440480" y="4797360"/>
            <a:ext cx="1703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hxx7"/>
          <p:cNvPicPr/>
          <p:nvPr/>
        </p:nvPicPr>
        <p:blipFill>
          <a:blip r:embed="rId1"/>
          <a:stretch/>
        </p:blipFill>
        <p:spPr>
          <a:xfrm>
            <a:off x="2195640" y="981000"/>
            <a:ext cx="4763880" cy="568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843280" y="189000"/>
            <a:ext cx="42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记忆中的故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123920" y="765000"/>
            <a:ext cx="54612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深蓝的天空中挂着一轮金黄的圆月，下面是海边的沙地，都种着一望无际的碧绿的西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29680" y="100656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059600" y="1099800"/>
            <a:ext cx="1521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神异的图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hxx3"/>
          <p:cNvPicPr/>
          <p:nvPr/>
        </p:nvPicPr>
        <p:blipFill>
          <a:blip r:embed="rId1"/>
          <a:stretch/>
        </p:blipFill>
        <p:spPr>
          <a:xfrm>
            <a:off x="2627280" y="907920"/>
            <a:ext cx="4319640" cy="2779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841920" y="189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实中的故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422360" y="836640"/>
            <a:ext cx="5461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渐近故乡时，天气又阴晦了，冷风吹进船舱中，呜呜的响，从蓬隙向外一望，苍黄的天底下，远近横着几个萧索的荒村，没有一些活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pic_30167"/>
          <p:cNvPicPr/>
          <p:nvPr/>
        </p:nvPicPr>
        <p:blipFill>
          <a:blip r:embed="rId2"/>
          <a:stretch/>
        </p:blipFill>
        <p:spPr>
          <a:xfrm>
            <a:off x="2627280" y="3618000"/>
            <a:ext cx="4321080" cy="324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7682040" y="11509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670880" y="160488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萧索的荒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2:59:50Z</dcterms:created>
  <dc:creator>微软用户</dc:creator>
  <dc:description/>
  <dc:language>en-US</dc:language>
  <cp:lastModifiedBy>微软用户</cp:lastModifiedBy>
  <dcterms:modified xsi:type="dcterms:W3CDTF">2015-11-16T07:22:38Z</dcterms:modified>
  <cp:revision>81</cp:revision>
  <dc:subject/>
  <dc:title>幻灯片 1</dc:title>
</cp:coreProperties>
</file>