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9AE0-AEDE-434D-8F7F-D8C70391CE8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6CD0-B12D-40A8-BF82-9FE0C4A54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4330-87F6-48EB-8BD1-D9424DF39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789B-38E5-4B24-815F-D3AC19CBA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A830-D218-4CA8-87DF-39E0F3602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3D5E-1995-4E4D-80CD-00666A1D7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16F2-949F-48EB-96B0-331A9EBD5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8C17-F3BE-4B59-8173-6347FE0FE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9650-EFEC-45CB-B83F-C916A486D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1C1-9FDE-4823-A7E2-F3117D7D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549-6F71-4127-B497-A4B823FF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3DE-A40E-43C1-92EC-BDF331DC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3A9-38EE-41EF-B1CD-7D90A926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F594-2427-4E87-ADD2-900BA749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C1D6-BB0F-41D7-ABC4-5FB09532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3CCC-9582-4AA0-AD57-398AD1CE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B269-B592-40F0-908C-B1CC3CBF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5470-2D58-48E0-9907-60A358A2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E77D-972B-415A-A1B4-CD476C4C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41C9-BE29-45B4-993B-58BBC7F4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191E-F838-4B61-9118-37DEE368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4C36-C7AF-47BD-9A91-780A376C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FEB7-72BA-4847-817D-ACD32539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D7BE-E01A-4F65-B62D-6D5C1F1F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E85C-59A9-4E73-83FC-1F452944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3AE6-C418-4F96-AB8C-60FA9BFE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62E-F8C1-4534-8C12-ED42C103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8B5-B6CB-4CDD-B0BF-E75C12B5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8C6-23E3-4280-80F4-9A94FEB9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E16-904F-491B-AEF1-5586BE48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FEB2-295E-4E03-B388-E64E4633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683-B5F4-4ECF-8BA9-5731774B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D1A-EC83-42BA-A290-08BE0CAD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D712-7E11-40F8-9706-786DDB3DCD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F335-12D6-481F-B038-73B35C5E9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一、筛选并整合文中的信息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即通读全文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把握与传主相关的重要事实，了解传主的生活经历或人生轨迹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把握传主的性格特征或人生追求、思想个性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把握传主的历史地位和作用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把握作者对传主的态度与评价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把握传主的自我认识和评价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归纳概括传主的主要经历、重要事迹（事件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09480" y="152280"/>
            <a:ext cx="80010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alibri"/>
                <a:ea typeface="黑体"/>
              </a:rPr>
              <a:t>对比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　　（截取两件不同的事物或同一事物的两个不同的方面，两相比较。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使形象美丑显得更加鲜明，双方特点比得更加显著，正反道理说得更加深刻，矛盾问题揭得更加尖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alibri"/>
                <a:ea typeface="黑体"/>
              </a:rPr>
              <a:t>先抑后扬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使文章跌宕起伏，耐人寻味。前后形成鲜明对比，使文章更精彩，给读者留下深刻的印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5800" y="723960"/>
            <a:ext cx="79246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alibri"/>
                <a:ea typeface="黑体"/>
              </a:rPr>
              <a:t>衬托法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①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突出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强调表现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主体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事物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　　②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表达强烈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感情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和感受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　　③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深化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文章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主题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80880" y="68580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象征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 ①将某些比较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抽象的精神品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化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具体的可以感知的形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从而给读者留下深刻的印象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 ②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便于明说的意思含蓄地表达出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赋予文章以深意，从而给读者留下咀嚼回味的余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152280"/>
            <a:ext cx="81532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alibri"/>
                <a:ea typeface="黑体"/>
              </a:rPr>
              <a:t>人称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①自传（第一人称）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文本以当事人的口吻来叙述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叙述亲切自然，能自由地表达思想感情，给读者以真实生动之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②他传（第三人称）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作者以局外人的视点进行叙述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能比较直接地展现丰富多彩的生活，不受时间和空间限制，反映现实比较灵活自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09480" y="304920"/>
            <a:ext cx="8077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alibri"/>
                <a:ea typeface="黑体"/>
              </a:rPr>
              <a:t>叙述顺序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①顺叙：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使人物、事件的叙述有头有尾、脉络清楚，有较强的时空层次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②倒叙：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造成悬念、埋下伏笔，以吸引读者，增加文章的可读性和感染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③插叙：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帮助展开主要事件，或对主要人物的身份、性格作简要介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151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三、鉴赏人物形象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-210240" y="1628640"/>
            <a:ext cx="1399320" cy="316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深入了解传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2340000" y="476280"/>
            <a:ext cx="1657080" cy="5344920"/>
            <a:chOff x="2340000" y="476280"/>
            <a:chExt cx="1657080" cy="5344920"/>
          </a:xfrm>
        </p:grpSpPr>
        <p:sp>
          <p:nvSpPr>
            <p:cNvPr id="110" name="Text Box 4"/>
            <p:cNvSpPr/>
            <p:nvPr/>
          </p:nvSpPr>
          <p:spPr>
            <a:xfrm>
              <a:off x="2340000" y="476280"/>
              <a:ext cx="16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身份籍贯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5"/>
            <p:cNvSpPr/>
            <p:nvPr/>
          </p:nvSpPr>
          <p:spPr>
            <a:xfrm>
              <a:off x="2340000" y="1339920"/>
              <a:ext cx="16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相貌性格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 Box 6"/>
            <p:cNvSpPr/>
            <p:nvPr/>
          </p:nvSpPr>
          <p:spPr>
            <a:xfrm>
              <a:off x="2340000" y="2203560"/>
              <a:ext cx="16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兴趣爱好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 Box 7"/>
            <p:cNvSpPr/>
            <p:nvPr/>
          </p:nvSpPr>
          <p:spPr>
            <a:xfrm>
              <a:off x="2340000" y="3860640"/>
              <a:ext cx="16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思想品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2340000" y="4653000"/>
              <a:ext cx="16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事迹贡献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2340000" y="5300640"/>
              <a:ext cx="16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地位影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2340000" y="3068640"/>
              <a:ext cx="16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能力专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Text Box 11"/>
          <p:cNvSpPr/>
          <p:nvPr/>
        </p:nvSpPr>
        <p:spPr>
          <a:xfrm>
            <a:off x="4724280" y="1447920"/>
            <a:ext cx="1871640" cy="5814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外部表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716360" y="3789360"/>
            <a:ext cx="1873440" cy="5814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内部思想情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6877080" y="1125360"/>
            <a:ext cx="1440000" cy="1068840"/>
          </a:xfrm>
          <a:prstGeom prst="rect">
            <a:avLst/>
          </a:prstGeom>
          <a:noFill/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思想认识层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6948360" y="3789360"/>
            <a:ext cx="1440000" cy="1068840"/>
          </a:xfrm>
          <a:prstGeom prst="rect">
            <a:avLst/>
          </a:prstGeom>
          <a:noFill/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行动做法层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15"/>
          <p:cNvSpPr/>
          <p:nvPr/>
        </p:nvSpPr>
        <p:spPr>
          <a:xfrm>
            <a:off x="5508720" y="2133720"/>
            <a:ext cx="287280" cy="1511280"/>
          </a:xfrm>
          <a:prstGeom prst="downArrow">
            <a:avLst>
              <a:gd name="adj1" fmla="val 50000"/>
              <a:gd name="adj2" fmla="val 13151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7524720" y="2349360"/>
            <a:ext cx="287280" cy="1368720"/>
          </a:xfrm>
          <a:prstGeom prst="downArrow">
            <a:avLst>
              <a:gd name="adj1" fmla="val 50000"/>
              <a:gd name="adj2" fmla="val 11911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1547640" y="836640"/>
            <a:ext cx="648000" cy="4753080"/>
          </a:xfrm>
          <a:custGeom>
            <a:avLst/>
            <a:gdLst>
              <a:gd name="textAreaLeft" fmla="*/ 414000 w 648000"/>
              <a:gd name="textAreaRight" fmla="*/ 648000 w 648000"/>
              <a:gd name="textAreaTop" fmla="*/ 123840 h 4753080"/>
              <a:gd name="textAreaBottom" fmla="*/ 4629240 h 475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28600" y="257040"/>
            <a:ext cx="84582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概括传主形象特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Calibri"/>
              </a:rPr>
              <a:t>、先抓评论，明确传主的主要特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Calibri"/>
              </a:rPr>
              <a:t>、由事及人，在划分段落层次的基础上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alibri"/>
              </a:rPr>
              <a:t>归纳出每个层次的传主的形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Calibri"/>
              </a:rPr>
              <a:t>、往往从：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性格、学识（或专业）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为人处世（人品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几个方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alibri"/>
              </a:rPr>
              <a:t>答案模式：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概括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分析（简述具体事例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（根据具体题目而定，有时只需概括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151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四、理解关键词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818720" y="4143240"/>
            <a:ext cx="15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全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页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4"/>
          <p:cNvGrpSpPr/>
          <p:nvPr/>
        </p:nvGrpSpPr>
        <p:grpSpPr>
          <a:xfrm>
            <a:off x="891360" y="1447920"/>
            <a:ext cx="3223440" cy="4038480"/>
            <a:chOff x="891360" y="1447920"/>
            <a:chExt cx="3223440" cy="4038480"/>
          </a:xfrm>
        </p:grpSpPr>
        <p:sp>
          <p:nvSpPr>
            <p:cNvPr id="128" name="Rectangle 5"/>
            <p:cNvSpPr/>
            <p:nvPr/>
          </p:nvSpPr>
          <p:spPr>
            <a:xfrm>
              <a:off x="891360" y="3094200"/>
              <a:ext cx="213156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alibri"/>
                </a:rPr>
                <a:t>起重要作用的句子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AutoShape 6"/>
            <p:cNvSpPr/>
            <p:nvPr/>
          </p:nvSpPr>
          <p:spPr>
            <a:xfrm>
              <a:off x="3733920" y="1447920"/>
              <a:ext cx="380880" cy="40384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Rectangle 10"/>
          <p:cNvSpPr/>
          <p:nvPr/>
        </p:nvSpPr>
        <p:spPr>
          <a:xfrm>
            <a:off x="4191120" y="1511640"/>
            <a:ext cx="480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在文中传达重要信息，直接关系到正确理解文意、把握文章主旨的句子；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4191120" y="2848320"/>
            <a:ext cx="480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在文中有总起、过渡、总结作用的，或体现文章主旨的句子；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4191120" y="4002480"/>
            <a:ext cx="480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内涵丰富或意思含蓄，需要仔细领会的句子；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4191120" y="5134320"/>
            <a:ext cx="480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句式特殊的句子，如倒装句、对称句、矛盾句等。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微软雅黑"/>
                <a:ea typeface="微软雅黑"/>
              </a:rPr>
              <a:t>简答题中筛选并整合信息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常见题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概括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----------------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原因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----------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表现在哪些方面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简要分析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----------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哪些因素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简要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记叙了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-----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哪些主要事情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52280" y="384120"/>
            <a:ext cx="87631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结构较复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对理解文章有影响的语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能帮助读者准确理解作品主旨或脉络层次的关键性语句，即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文眼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意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比较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含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内涵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较为丰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蕴含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某种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深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层含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句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在文章结构上有着重要作用，能帮助读者把握文章结构、理解文章思想内容的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起始句、总结句、过渡句、收束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含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修辞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手法，能增强文章表达效果的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850640" y="28944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要用直接明确的语言转述出来，恢复它的本来面目。）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309120" y="9738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要根据句子中的内容分点解说出来。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46240" y="33361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要说出它的浅层意思和深层意思。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286080" y="62474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既要把修辞意转化出来又要明确作用。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425320" y="2226240"/>
            <a:ext cx="347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既要概括出主题思想又要把握文章感情基调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。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3840120" y="51044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既要陈述内容又要明确作用。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124280" y="0"/>
            <a:ext cx="2619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Calibri"/>
                <a:ea typeface="黑体"/>
              </a:rPr>
              <a:t>怎样分析重要的句子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152280" y="1647000"/>
            <a:ext cx="876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具有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警策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作用的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子。文字简练，内涵丰富，具有发人深思、动人心魄、催人奋起的作用，被广泛引用的句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用典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即句子中用了典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在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表达效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上有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特殊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作用的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言在此而意在彼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或在一定语境下产生临时意义，容易被误解的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665520" y="29548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要用简洁明了的语言把哲理揭示出来。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664800" y="38692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典故的意义是透彻理解句意的关键。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122560" y="470844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既要理解句意还要说明表达效果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865760" y="59436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要联系上下文准确理解语境句意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3" dur="1" fill="hold"/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783720" y="380880"/>
            <a:ext cx="9122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黑体"/>
              </a:rPr>
              <a:t>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09480" y="1143000"/>
            <a:ext cx="7696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从分析句子的结构入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从分析句中的重要词语入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从分析句子的位置入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从分析句子的修辞手法入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从分析作者的表达意图入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52280" y="274680"/>
            <a:ext cx="51818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黑体"/>
              </a:rPr>
              <a:t>语句所在位置及其表意作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460960" y="1249200"/>
            <a:ext cx="10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(1) 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语句位于文章的开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533520" y="182880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点明主旨，领起下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设置悬念，吸引读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点明思想感情变化的线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蓄势、铺垫，奠定感情基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即不直接点明观点，而是为观点的提出服务，或者为下文的叙事与抒情奠定感情基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2445840" y="533520"/>
            <a:ext cx="9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语句位于文章的中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838080" y="1295280"/>
            <a:ext cx="762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承上启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过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用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衬托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即在行文中，为了使叙述主体彰显而谈到其他事物，其他事物就有衬托作用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渲染烘托气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即在行文中为了使主体更加突出而对环境等加以描写，为人物的出场营造气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762120" y="1888920"/>
            <a:ext cx="754380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总结上文，突出中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呼应上文，前后呼应，使文章结构完整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点明主旨，升华感情，深化主题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含蓄地表达主旨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往往是借助象征性的景物描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241720" y="487440"/>
            <a:ext cx="9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(3)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语句位于文章末尾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2286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4648320"/>
            <a:ext cx="74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24000" y="2492280"/>
            <a:ext cx="7924680" cy="76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中宋"/>
                <a:ea typeface="华文中宋"/>
              </a:rPr>
              <a:t>   </a:t>
            </a:r>
            <a:r>
              <a:rPr b="1" lang="zh-CN" sz="4400" spc="-1" strike="noStrike">
                <a:solidFill>
                  <a:srgbClr val="a50021"/>
                </a:solidFill>
                <a:latin typeface="华文中宋"/>
                <a:ea typeface="华文中宋"/>
              </a:rPr>
              <a:t>一般技巧：定位</a:t>
            </a:r>
            <a:r>
              <a:rPr b="1" lang="en-US" sz="4400" spc="-1" strike="noStrike">
                <a:solidFill>
                  <a:srgbClr val="a50021"/>
                </a:solidFill>
                <a:latin typeface="华文中宋"/>
                <a:ea typeface="华文中宋"/>
              </a:rPr>
              <a:t>+</a:t>
            </a:r>
            <a:r>
              <a:rPr b="1" lang="zh-CN" sz="4400" spc="-1" strike="noStrike">
                <a:solidFill>
                  <a:srgbClr val="a50021"/>
                </a:solidFill>
                <a:latin typeface="华文中宋"/>
                <a:ea typeface="华文中宋"/>
              </a:rPr>
              <a:t>提取</a:t>
            </a:r>
            <a:r>
              <a:rPr b="1" lang="en-US" sz="4400" spc="-1" strike="noStrike">
                <a:solidFill>
                  <a:srgbClr val="a50021"/>
                </a:solidFill>
                <a:latin typeface="华文中宋"/>
                <a:ea typeface="华文中宋"/>
              </a:rPr>
              <a:t>+</a:t>
            </a:r>
            <a:r>
              <a:rPr b="1" lang="zh-CN" sz="4400" spc="-1" strike="noStrike">
                <a:solidFill>
                  <a:srgbClr val="a50021"/>
                </a:solidFill>
                <a:latin typeface="华文中宋"/>
                <a:ea typeface="华文中宋"/>
              </a:rPr>
              <a:t>整合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151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二、传记的表现手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（一）选材的处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补充：选材的典型、新颖、以小见大、点面结合、正侧结合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51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（二）作用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51920"/>
            <a:ext cx="769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457200" y="1143000"/>
            <a:ext cx="8153280" cy="48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Calibri"/>
                <a:ea typeface="黑体"/>
              </a:rPr>
              <a:t>细节描写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　　（阅读传记需要特别关注细节描写。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通过传主的日常生活细节，刻画传主的形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①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呈现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传主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内心世界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折射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出传主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精神品质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，多方面多角度地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展现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出传主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个性特征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　　②使传主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形象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更加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丰满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鲜活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，使传主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生命历程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更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富有光彩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　　③还可增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文章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可读性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感染力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57200" y="84240"/>
            <a:ext cx="822960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alibri"/>
                <a:ea typeface="黑体"/>
              </a:rPr>
              <a:t>引用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　　（传记常用的表现手法，如引用传主在书信、日记中的表白，引用同学、同事、友人的回忆，引用档案资料等材料。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①可以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印证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作者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观点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　　②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增强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文章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真实性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可读性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　　③充分使用传主的有关资料，可以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塑造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丰满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人物形象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凸显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传主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精神面貌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，起到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增强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作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历史深度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情感力度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的作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④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有助于读者全面而深刻了解传主的精神和影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57200" y="60948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alibri"/>
                <a:ea typeface="黑体"/>
              </a:rPr>
              <a:t>环境（景物）描写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①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交代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事情发生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地点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增加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事情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真实性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　　②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渲染气氛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烘托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传主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心情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　　③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寄托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传主的思想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感情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　　④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反映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传主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性格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或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品质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00:11:03Z</dcterms:created>
  <dc:creator>Administrator</dc:creator>
  <dc:description/>
  <dc:language>en-US</dc:language>
  <cp:lastModifiedBy>DADI</cp:lastModifiedBy>
  <dcterms:modified xsi:type="dcterms:W3CDTF">2013-03-20T00:39:24Z</dcterms:modified>
  <cp:revision>8</cp:revision>
  <dc:subject/>
  <dc:title>一、筛选并整合文中的信息。 </dc:title>
</cp:coreProperties>
</file>