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A4BC-5AD8-41FB-B23C-F26C307E5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ABD0-A75D-47B7-8620-011DAEA8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ECF-3C1C-4126-9C1B-891B8B60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904-50B0-4F9D-92A0-C9019B56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9EB-A99B-4D18-A6A1-EBEBBD9A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945-EC55-4C9A-A16A-EE2C6BD0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43F-1852-454A-BF36-2AF43E81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45EF-392F-43CB-AD60-22B2C936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C59-7D02-47B2-8963-A2888DE1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E4D-21B6-46BB-992F-062BC67F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ED1-E193-43A3-AB83-7E0B44DC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048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34800" y="3808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66652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65048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34800" y="3565080"/>
            <a:ext cx="18892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18EF-E23F-4585-919E-EB75761B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7828560"/>
            <a:ext cx="129564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73240" y="35650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73240" y="380880"/>
            <a:ext cx="2863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666520" y="3565080"/>
            <a:ext cx="586764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034C-0089-48DC-8345-CB36BE7ED7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0440" y="1413000"/>
            <a:ext cx="1642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我爱这土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54200" y="3573360"/>
            <a:ext cx="13993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艾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04920" y="304920"/>
          <a:ext cx="853416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304920" y="5335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精读诗歌，探究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1430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诗歌中鸟儿用 “嘶哑的喉咙”歌唱，她歌唱的对象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1676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土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8120" y="1676520"/>
            <a:ext cx="22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河流、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57800" y="167652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黑体"/>
              </a:rPr>
              <a:t>黎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2860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如何理解“被暴风雨打击着的土地”“悲愤的河流”“无止息的吹刮着的激怒的风”和“温柔的黎明” ？ （联系背景思考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352680"/>
            <a:ext cx="5486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被暴风雨打击着的土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悲愤的河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无止息的吹刮着的激怒的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温柔的黎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4290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41148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47242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1800" y="54100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57800" y="3352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指正在遭受日寇欺凌的祖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3809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土地上的河流，像长期郁结在人民心中的悲愤一般汹涌奔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6483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象征人民心中对侵略者暴行的愤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象征着独立自由的曙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304920" y="304920"/>
          <a:ext cx="8534160" cy="62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4920"/>
                    <a:ext cx="8534160" cy="62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533520" y="533520"/>
            <a:ext cx="8142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诗中 “鸟”是一个怎样的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寄寓了诗人怎样的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0384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这只“鸟”是一个饱受磨难，拼尽全力用整个生命去歌唱的形象。实际寄寓了诗人痛爱这苦难的祖国以及愿为祖国献出一切的决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16765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17524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生——用嘶哑的喉咙歌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43828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死——连羽毛也要腐烂在土地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32680" y="2154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1752480"/>
            <a:ext cx="152280" cy="106704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16720" y="1989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我爱这土地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5146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诗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96080" y="2438280"/>
            <a:ext cx="228600" cy="381240"/>
          </a:xfrm>
          <a:prstGeom prst="downArrow">
            <a:avLst>
              <a:gd name="adj1" fmla="val 50000"/>
              <a:gd name="adj2" fmla="val 4169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91520" y="2819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祖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304812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3048120"/>
            <a:ext cx="914400" cy="304560"/>
          </a:xfrm>
          <a:prstGeom prst="lef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90920" y="29718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鸟的形象”以及诗人的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3429000"/>
            <a:ext cx="5335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304920" y="228600"/>
          <a:ext cx="85341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09480" y="914400"/>
            <a:ext cx="7925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4.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这首诗的第二节有什么作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与第一节之间有什么联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2860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第二节是对主题的高度的概括和升华。表达出诗人对苦难的祖国，爱得深、痛得切的悲愤感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3886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而第一节则是对“爱土地（祖国）”主题的抒情性的铺陈描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04920" y="228600"/>
          <a:ext cx="8534160" cy="624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990720" y="8380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诗歌的表现手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21337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本诗用了哪些表现手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象征，排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华文隶书"/>
              </a:rPr>
              <a:t>意象写实和象征手法交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990720"/>
            <a:ext cx="29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我爱这土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1828800"/>
            <a:ext cx="16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意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11640" y="1989000"/>
            <a:ext cx="14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象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20040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411480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土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495288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河流、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5867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黎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00200" y="1676520"/>
            <a:ext cx="50328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1600200"/>
            <a:ext cx="42732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339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诗人自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4114800"/>
            <a:ext cx="24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祖国大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502920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抗争精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5943600"/>
            <a:ext cx="22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曙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830920" y="1828800"/>
            <a:ext cx="3313080" cy="4800600"/>
          </a:xfrm>
          <a:prstGeom prst="parallelogram">
            <a:avLst>
              <a:gd name="adj" fmla="val 8866"/>
            </a:avLst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5880" y="1981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诗人以鸟的形象自喻，用饱含激情的诗句歌唱祖国，歌唱神圣的民族解放战争，这种鸟儿对土地的痴情，表达出诗人愿为祖国奉献一切的赤子衷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617220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3505320"/>
            <a:ext cx="1295640" cy="152280"/>
          </a:xfrm>
          <a:prstGeom prst="rightArrow">
            <a:avLst>
              <a:gd name="adj1" fmla="val 50000"/>
              <a:gd name="adj2" fmla="val 21270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44197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53341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251460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2590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123640" y="1598760"/>
            <a:ext cx="7201080" cy="50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小鸟活着时倾尽全力，它歌唱土地、河流、黎明，生命耗尽后便投身土地的怀抱，与它所挚爱的土地融为一体，实际上寄寓了诗人愿为祖国献身一切的决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零落成泥碾作尘，只有香如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落红不是无情物，化作春泥更护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楷体_GB2312"/>
              </a:rPr>
              <a:t>春蚕到死丝方尽，蜡炬成灰泪始干。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780000" y="333360"/>
            <a:ext cx="207936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主题归纳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7564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68000" y="907560"/>
            <a:ext cx="687564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爱国高于一切。       ——肖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国家是大家的，爱国是每个人的本分。                 ——陶行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爱国主义就是千百年来固定下来的对自己祖国的一种最深厚的感情。——列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下兴亡，匹夫有责。    ——顾炎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我是中国人民的儿子，我深情地爱着我的祖国和人民。          ——邓小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635280" y="692280"/>
            <a:ext cx="200844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爱国名言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67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67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67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67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340000" y="1628640"/>
            <a:ext cx="6804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先天下之忧而忧，后天下之乐而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——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范仲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一寸丹心图报国，两行清泪为思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——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于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位卑未敢忘忧国。          ——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捐躯赴国难，视死忽如归。  ——曹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死去原知万事空，但悲不见九州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王师北定中原日，家祭无忘告乃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                    ——</a:t>
            </a: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51280" y="549360"/>
            <a:ext cx="22860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古诗词名句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533520" y="0"/>
            <a:ext cx="5472000" cy="4149720"/>
          </a:xfrm>
          <a:prstGeom prst="cloudCallout">
            <a:avLst>
              <a:gd name="adj1" fmla="val 41907"/>
              <a:gd name="adj2" fmla="val 4774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假如诗人还健在，面对繁荣昌盛的祖国，还用《我爱这土地》抒情，他会怎样写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4572000"/>
            <a:ext cx="33908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拓展延伸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830920" y="2492280"/>
            <a:ext cx="331308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4572000"/>
            <a:ext cx="3390840" cy="19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拓展延伸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830920" y="2492280"/>
            <a:ext cx="3313080" cy="43657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 txBox="1"/>
          <p:nvPr/>
        </p:nvSpPr>
        <p:spPr>
          <a:xfrm>
            <a:off x="2556000" y="1197000"/>
            <a:ext cx="4174920" cy="14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过把瘾 我做小诗人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2362320" cy="3200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48769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510552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艾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62064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艾青，原名蒋海澄，浙江人。现代著名诗人。早期诗作多诅咒黑暗，调子沉重忧郁；抗战时期的作品多为觉醒了的民族而歌唱，格调高昂。代表作《大堰河——我的保姆》《黎明的通知》《我爱这土地》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0" r="0" b="-114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755640" y="1844640"/>
            <a:ext cx="815328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琥珀"/>
              </a:rPr>
              <a:t>我爱这土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193" name=""/>
          <p:cNvSpPr/>
          <p:nvPr/>
        </p:nvSpPr>
        <p:spPr>
          <a:xfrm>
            <a:off x="7696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44680" y="3733920"/>
            <a:ext cx="13993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艾   青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76440" y="528948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33"/>
                </a:solidFill>
                <a:latin typeface="Times New Roman"/>
                <a:ea typeface="华文行楷"/>
              </a:rPr>
              <a:t>课件制作：刘梦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340000" y="259920"/>
            <a:ext cx="68040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对诗人所创造的意象的分析，把握文章的主题，理解诗人炽热的爱国思乡情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握现代诗歌的学习方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掌握课文的基础上，进一步培养学生的爱国主义感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2492280"/>
            <a:ext cx="19368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明确目标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816120"/>
            <a:ext cx="1295640" cy="57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84000" y="476280"/>
            <a:ext cx="648036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朗读要求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读音准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停顿恰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重音读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富有节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68360" y="58150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8406"/>
                </a:moveTo>
                <a:lnTo>
                  <a:pt x="8227" y="8406"/>
                </a:lnTo>
                <a:lnTo>
                  <a:pt x="12649" y="3794"/>
                </a:lnTo>
                <a:lnTo>
                  <a:pt x="12649" y="17806"/>
                </a:lnTo>
                <a:lnTo>
                  <a:pt x="8227" y="13194"/>
                </a:lnTo>
                <a:lnTo>
                  <a:pt x="3797" y="13194"/>
                </a:lnTo>
                <a:close/>
              </a:path>
              <a:path fill="darken" w="21607" h="21600">
                <a:moveTo>
                  <a:pt x="14303" y="10800"/>
                </a:moveTo>
                <a:lnTo>
                  <a:pt x="17810" y="10800"/>
                </a:lnTo>
              </a:path>
              <a:path fill="darken" w="21607" h="21600">
                <a:moveTo>
                  <a:pt x="14303" y="8406"/>
                </a:moveTo>
                <a:lnTo>
                  <a:pt x="17810" y="5639"/>
                </a:lnTo>
              </a:path>
              <a:path fill="darken" w="21607" h="21600">
                <a:moveTo>
                  <a:pt x="14303" y="13194"/>
                </a:moveTo>
                <a:lnTo>
                  <a:pt x="17810" y="15961"/>
                </a:ln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916280"/>
            <a:ext cx="204480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朗读诗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67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67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67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67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16668" t="8892" r="0" b="0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696080" y="99072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457200"/>
            <a:ext cx="495288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假如我是一只鸟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我也应该用嘶哑的喉咙歌唱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这被暴风雨所打击着的土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这永远汹涌着我们的悲愤的河流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这无止息地吹刮着的激怒的风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和那来自林间的无比温柔的黎明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然后我死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连羽毛也腐烂在土地里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为什么我的眼里常含泪水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因为我对这土地爱得深沉……</a:t>
            </a:r>
            <a:r>
              <a:rPr b="1" lang="zh-CN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5715000"/>
            <a:ext cx="42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爱这土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340000" y="260280"/>
            <a:ext cx="662472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的“土地”“河流”“风”“黎明”象征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人对土地、河流、风和黎明的描写，蕴涵了他怎样的思想感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中哪两句诗直接抒发了“我”对“这土地”的热爱之情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怎样理解下面这两句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我是一只鸟，我也应该用嘶哑的喉咙歌唱”“然后我死了，连羽毛也腐烂在土地里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嘶哑的喉咙歌唱”一句，“嘶哑”表达了作者什么感情？如果用“嘹亮”好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79280" y="2492280"/>
            <a:ext cx="2116080" cy="8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自学指导</a:t>
            </a:r>
            <a:endParaRPr b="0" lang="en-US" sz="2400" spc="1" strike="noStrike">
              <a:ln w="19080">
                <a:solidFill>
                  <a:srgbClr val="ff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411280" y="4508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诗人对土地、河流、风和黎明的描写，形象地表达了当时祖国大地遭受的苦难、人民的悲愤以及对光明的向往和希冀</a:t>
            </a: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68360" y="260280"/>
            <a:ext cx="669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土地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繁衍养育中华民族的祖国大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黎明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独立自由的曙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悲愤的河流”“激怒的风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风起云涌的不屈不挠的抗战斗争和对敌人的无比愤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这被暴风雨所打击的土地”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象征遭受日军欺凌的国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700280"/>
            <a:ext cx="2050920" cy="114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808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自学反馈</a:t>
            </a:r>
            <a:endParaRPr b="0" lang="en-US" sz="2400" spc="1" strike="noStrike">
              <a:ln w="12600">
                <a:solidFill>
                  <a:srgbClr val="ff9900"/>
                </a:solidFill>
                <a:miter/>
              </a:ln>
              <a:solidFill>
                <a:srgbClr val="808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484360" y="533520"/>
            <a:ext cx="6480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诗中“用嘶哑的喉咙歌唱”的“鸟”是一个怎样的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如何理解这只“鸟”歌唱至死，最后“连羽毛也腐烂在土地里面”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11280" y="2637000"/>
            <a:ext cx="6275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只“鸟”是一个饱受磨难，拼尽全力用整个生命去歌唱的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它歌唱土地、河流、风和黎明，生命耗尽后便投身土地的怀抱，与它所挚爱的土地融为一体，实际上寄寓了诗人愿为祖国献出一切的决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27280" y="476280"/>
            <a:ext cx="6041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这首诗的第二节与第一节之间有什么联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黑体"/>
              </a:rPr>
              <a:t>怎样理解最后两句诗之间的因果关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514600"/>
            <a:ext cx="6211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一节是对“爱土地（祖国）”主题的抒情性的铺陈描述，第二节短小精悍的两行是对主题的高度凝炼的概括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最后两句诗之间因果关系的一问一答，是爱国者目睹满目疮痍的祖国，爱得越深、痛得越切的悲愤表情的特写。在这一节里诗意得到了提炼和升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2T07:18:41Z</dcterms:created>
  <dc:creator>软件仓库</dc:creator>
  <dc:description/>
  <dc:language>en-US</dc:language>
  <cp:lastModifiedBy>微软用户</cp:lastModifiedBy>
  <dcterms:modified xsi:type="dcterms:W3CDTF">2016-02-24T09:58:22Z</dcterms:modified>
  <cp:revision>44</cp:revision>
  <dc:subject/>
  <dc:title>PowerPoint 演示文稿</dc:title>
</cp:coreProperties>
</file>