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52A-81BC-44B2-B744-D3E557F22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CF6-D0AB-49F0-A851-8DF2B0E5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4CD-0B26-4AB9-A2C4-408DCA0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189-F49E-41F1-9682-0C85ACB5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71E-C23C-46DB-966C-5917FF69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2641-3592-4032-AE3D-0FAF0C888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08C-9364-4656-AB2B-BB579E8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C1EE-C9CE-4D74-91D2-2C44B8F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723C-63F0-4F18-90D8-8F176286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02A-2686-4B96-8980-2F477365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D19-890A-49E3-8C2B-AA7AAEE19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FAD-BB96-4691-9063-10355F47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DB17-38D7-43F3-89B1-3AA3C0E2C0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0440" y="1413000"/>
            <a:ext cx="1642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我爱这土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4200" y="3573360"/>
            <a:ext cx="1399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艾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304920"/>
          <a:ext cx="853416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533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精读诗歌，探究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143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诗歌中鸟儿用 “嘶哑的喉咙”歌唱，她歌唱的对象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676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6765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河流、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16765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黎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86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如何理解“被暴风雨打击着的土地”“悲愤的河流”“无止息的吹刮着的激怒的风”和“温柔的黎明” ？ （联系背景思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352680"/>
            <a:ext cx="5486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被暴风雨打击着的土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悲愤的河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无止息的吹刮着的激怒的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温柔的黎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4114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7242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410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指正在遭受日寇欺凌的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3809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土地上的河流，像长期郁结在人民心中的悲愤一般汹涌奔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6483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象征人民心中对侵略者暴行的愤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象征着独立自由的曙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304920"/>
          <a:ext cx="853416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533520"/>
            <a:ext cx="814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诗中 “鸟”是一个怎样的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寄寓了诗人怎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038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这只“鸟”是一个饱受磨难，拼尽全力用整个生命去歌唱的形象。实际寄寓了诗人痛爱这苦难的祖国以及愿为祖国献出一切的决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6765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生——用嘶哑的喉咙歌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死——连羽毛也要腐烂在土地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17524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198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我爱这土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诗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2438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0481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3048120"/>
            <a:ext cx="914400" cy="30456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971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鸟的形象”以及诗人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4290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04920" y="228600"/>
          <a:ext cx="8534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9144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这首诗的第二节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与第一节之间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二节是对主题的高度的概括和升华。表达出诗人对苦难的祖国，爱得深、痛得切的悲愤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86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而第一节则是对“爱土地（祖国）”主题的抒情性的铺陈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920" y="228600"/>
          <a:ext cx="8534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990720" y="838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诗歌的表现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133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本诗用了哪些表现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象征，排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意象写实和象征手法交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990720"/>
            <a:ext cx="29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我爱这土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2880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意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1989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象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20040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114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土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95288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河流、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黎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00200" y="16765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1600200"/>
            <a:ext cx="4273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诗人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41148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祖国大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50292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抗争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94360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曙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30920" y="1828800"/>
            <a:ext cx="3313080" cy="4800600"/>
          </a:xfrm>
          <a:prstGeom prst="parallelogram">
            <a:avLst>
              <a:gd name="adj" fmla="val 8866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1981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诗人以鸟的形象自喻，用饱含激情的诗句歌唱祖国，歌唱神圣的民族解放战争，这种鸟儿对土地的痴情，表达出诗人愿为祖国奉献一切的赤子衷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61722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50532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197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53341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514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590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123640" y="1598760"/>
            <a:ext cx="72010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鸟活着时倾尽全力，它歌唱土地、河流、黎明，生命耗尽后便投身土地的怀抱，与它所挚爱的土地融为一体，实际上寄寓了诗人愿为祖国献身一切的决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零落成泥碾作尘，只有香如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落红不是无情物，化作春泥更护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春蚕到死丝方尽，蜡炬成灰泪始干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80000" y="333360"/>
            <a:ext cx="207936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主题归纳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68000" y="907560"/>
            <a:ext cx="6875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国高于一切。       ——肖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国家是大家的，爱国是每个人的本分。                 ——陶行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国主义就是千百年来固定下来的对自己祖国的一种最深厚的感情。——列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下兴亡，匹夫有责。    ——顾炎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是中国人民的儿子，我深情地爱着我的祖国和人民。          ——邓小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35280" y="692280"/>
            <a:ext cx="2008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爱国名言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67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67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67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67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340000" y="1628640"/>
            <a:ext cx="680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先天下之忧而忧，后天下之乐而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范仲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寸丹心图报国，两行清泪为思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于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位卑未敢忘忧国。          ——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捐躯赴国难，视死忽如归。  ——曹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死去原知万事空，但悲不见九州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王师北定中原日，家祭无忘告乃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5128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古诗词名句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0"/>
            <a:ext cx="5472000" cy="4149720"/>
          </a:xfrm>
          <a:prstGeom prst="cloudCallout">
            <a:avLst>
              <a:gd name="adj1" fmla="val 41907"/>
              <a:gd name="adj2" fmla="val 477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诗人还健在，面对繁荣昌盛的祖国，还用《我爱这土地》抒情，他会怎样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72000"/>
            <a:ext cx="33908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拓展延伸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830920" y="2492280"/>
            <a:ext cx="331308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572000"/>
            <a:ext cx="33908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拓展延伸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30920" y="2492280"/>
            <a:ext cx="3313080" cy="4365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2556000" y="1197000"/>
            <a:ext cx="4174920" cy="14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过把瘾 我做小诗人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36232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艾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2064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艾青，原名蒋海澄，浙江人。现代著名诗人。早期诗作多诅咒黑暗，调子沉重忧郁；抗战时期的作品多为觉醒了的民族而歌唱，格调高昂。代表作《大堰河——我的保姆》《黎明的通知》《我爱这土地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0" b="-114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755640" y="1844640"/>
            <a:ext cx="81532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琥珀"/>
              </a:rPr>
              <a:t>我爱这土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44680" y="3733920"/>
            <a:ext cx="1399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艾   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6440" y="5289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课件制作：刘梦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40000" y="259920"/>
            <a:ext cx="680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对诗人所创造的意象的分析，把握文章的主题，理解诗人炽热的爱国思乡情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现代诗歌的学习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掌握课文的基础上，进一步培养学生的爱国主义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2492280"/>
            <a:ext cx="1936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确目标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816120"/>
            <a:ext cx="1295640" cy="57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000" y="476280"/>
            <a:ext cx="648036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朗读要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读音准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停顿恰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重音读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富有节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8406"/>
                </a:moveTo>
                <a:lnTo>
                  <a:pt x="8227" y="8406"/>
                </a:lnTo>
                <a:lnTo>
                  <a:pt x="12649" y="3794"/>
                </a:lnTo>
                <a:lnTo>
                  <a:pt x="12649" y="17806"/>
                </a:lnTo>
                <a:lnTo>
                  <a:pt x="8227" y="13194"/>
                </a:lnTo>
                <a:lnTo>
                  <a:pt x="3797" y="13194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17810" y="10800"/>
                </a:lnTo>
              </a:path>
              <a:path fill="darken" w="21607" h="21600">
                <a:moveTo>
                  <a:pt x="14303" y="8406"/>
                </a:moveTo>
                <a:lnTo>
                  <a:pt x="17810" y="5639"/>
                </a:lnTo>
              </a:path>
              <a:path fill="darken" w="21607" h="21600">
                <a:moveTo>
                  <a:pt x="14303" y="13194"/>
                </a:moveTo>
                <a:lnTo>
                  <a:pt x="17810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916280"/>
            <a:ext cx="204480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朗读诗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7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7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7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7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668" t="8892" r="0" b="0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96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457200"/>
            <a:ext cx="49528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假如我是一只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我也应该用嘶哑的喉咙歌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被暴风雨所打击着的土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永远汹涌着我们的悲愤的河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无止息地吹刮着的激怒的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和那来自林间的无比温柔的黎明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然后我死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连羽毛也腐烂在土地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为什么我的眼里常含泪水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因为我对这土地爱得深沉……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爱这土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40000" y="260280"/>
            <a:ext cx="6624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的“土地”“河流”“风”“黎明”象征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对土地、河流、风和黎明的描写，蕴涵了他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哪两句诗直接抒发了“我”对“这土地”的热爱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下面这两句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我是一只鸟，我也应该用嘶哑的喉咙歌唱”“然后我死了，连羽毛也腐烂在土地里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嘶哑的喉咙歌唱”一句，“嘶哑”表达了作者什么感情？如果用“嘹亮”好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2492280"/>
            <a:ext cx="2116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指导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1280" y="4508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诗人对土地、河流、风和黎明的描写，形象地表达了当时祖国大地遭受的苦难、人民的悲愤以及对光明的向往和希冀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60280"/>
            <a:ext cx="669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土地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繁衍养育中华民族的祖国大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黎明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独立自由的曙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悲愤的河流”“激怒的风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风起云涌的不屈不挠的抗战斗争和对敌人的无比愤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这被暴风雨所打击的土地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遭受日军欺凌的国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700280"/>
            <a:ext cx="205092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自学反馈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4360" y="533520"/>
            <a:ext cx="64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诗中“用嘶哑的喉咙歌唱”的“鸟”是一个怎样的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如何理解这只“鸟”歌唱至死，最后“连羽毛也腐烂在土地里面”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2637000"/>
            <a:ext cx="627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只“鸟”是一个饱受磨难，拼尽全力用整个生命去歌唱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它歌唱土地、河流、风和黎明，生命耗尽后便投身土地的怀抱，与它所挚爱的土地融为一体，实际上寄寓了诗人愿为祖国献出一切的决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27280" y="476280"/>
            <a:ext cx="604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这首诗的第二节与第一节之间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怎样理解最后两句诗之间的因果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514600"/>
            <a:ext cx="621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一节是对“爱土地（祖国）”主题的抒情性的铺陈描述，第二节短小精悍的两行是对主题的高度凝炼的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最后两句诗之间因果关系的一问一答，是爱国者目睹满目疮痍的祖国，爱得越深、痛得越切的悲愤表情的特写。在这一节里诗意得到了提炼和升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7:18:41Z</dcterms:created>
  <dc:creator>软件仓库</dc:creator>
  <dc:description/>
  <dc:language>en-US</dc:language>
  <cp:lastModifiedBy>微软用户</cp:lastModifiedBy>
  <dcterms:modified xsi:type="dcterms:W3CDTF">2016-02-24T09:58:22Z</dcterms:modified>
  <cp:revision>44</cp:revision>
  <dc:subject/>
  <dc:title>PowerPoint 演示文稿</dc:title>
</cp:coreProperties>
</file>