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563-B5D3-4D2E-B6ED-9BDB33B7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AF2-89DF-4773-A4EE-0282B7A9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B8A-0221-45D1-A1F2-22751C1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AA8-030B-4560-90B6-8EDEEB3B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237-543F-4A52-AD0B-8AEA5E9F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53D-9390-4B04-946A-2AF3C7A7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EAD-AE26-4519-BB21-F7A62685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481-6997-4E98-A807-6B36FDD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C6-5AD6-43E2-B79E-09A7CAA1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658-A013-4CBB-9F38-F395878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EB1-9A23-4484-B004-6B44063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ACC-8A5A-48D4-A807-13809DE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ABDB-8B8B-4524-B26A-90A17C7C14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联机映像占位符 61443" descr="yaog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1444"/>
          <p:cNvSpPr txBox="1"/>
          <p:nvPr/>
        </p:nvSpPr>
        <p:spPr>
          <a:xfrm>
            <a:off x="826920" y="1484280"/>
            <a:ext cx="7056720" cy="27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安塞腰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标题 1" descr=""/>
          <p:cNvPicPr/>
          <p:nvPr/>
        </p:nvPicPr>
        <p:blipFill>
          <a:blip r:embed="rId2"/>
          <a:stretch/>
        </p:blipFill>
        <p:spPr>
          <a:xfrm>
            <a:off x="166680" y="174600"/>
            <a:ext cx="3822840" cy="1044720"/>
          </a:xfrm>
          <a:prstGeom prst="rect">
            <a:avLst/>
          </a:prstGeom>
          <a:ln w="0">
            <a:noFill/>
          </a:ln>
        </p:spPr>
      </p:pic>
      <p:pic>
        <p:nvPicPr>
          <p:cNvPr id="44" name="文本占位符 2" descr=""/>
          <p:cNvPicPr/>
          <p:nvPr/>
        </p:nvPicPr>
        <p:blipFill>
          <a:blip r:embed="rId3"/>
          <a:stretch/>
        </p:blipFill>
        <p:spPr>
          <a:xfrm>
            <a:off x="34920" y="2060640"/>
            <a:ext cx="903276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79875"/>
          <p:cNvSpPr/>
          <p:nvPr/>
        </p:nvSpPr>
        <p:spPr>
          <a:xfrm>
            <a:off x="36360" y="1268280"/>
            <a:ext cx="90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从不同侧面、不同角度展示安塞腰鼓的美，试用“</a:t>
            </a:r>
            <a:r>
              <a:rPr b="1" lang="en-US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___________</a:t>
            </a:r>
            <a:r>
              <a:rPr b="0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美，你看（听）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的句式来说并</a:t>
            </a: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从词、句式、修辞、写法、结构等各方面进行评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9877"/>
          <p:cNvSpPr/>
          <p:nvPr/>
        </p:nvSpPr>
        <p:spPr>
          <a:xfrm>
            <a:off x="250920" y="4437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：  </a:t>
            </a: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华文中宋"/>
              </a:rPr>
              <a:t>蓄势待发的后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美，你看</a:t>
            </a:r>
            <a:r>
              <a:rPr b="0" lang="zh-CN" sz="3200" spc="-1" strike="noStrike" u="sng">
                <a:solidFill>
                  <a:srgbClr val="000099"/>
                </a:solidFill>
                <a:uFillTx/>
                <a:latin typeface="Times New Roman"/>
                <a:ea typeface="华文中宋"/>
              </a:rPr>
              <a:t>他们身后是一片高梁地。他们朴实得就像那片高梁。咝溜溜的南风吹动了高梁叶子，也吹动了他们的衣衫。他们的神情沉稳而安静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太阳形 79878"/>
          <p:cNvSpPr/>
          <p:nvPr/>
        </p:nvSpPr>
        <p:spPr>
          <a:xfrm>
            <a:off x="8101080" y="6093000"/>
            <a:ext cx="718920" cy="5760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文本框 1" descr=""/>
          <p:cNvPicPr/>
          <p:nvPr/>
        </p:nvPicPr>
        <p:blipFill>
          <a:blip r:embed="rId2"/>
          <a:stretch/>
        </p:blipFill>
        <p:spPr>
          <a:xfrm>
            <a:off x="166680" y="31680"/>
            <a:ext cx="33768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7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86021"/>
          <p:cNvSpPr/>
          <p:nvPr/>
        </p:nvSpPr>
        <p:spPr>
          <a:xfrm>
            <a:off x="755640" y="3500280"/>
            <a:ext cx="82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歌颂激荡的生命和磅礴的力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冲破束缚、阻碍的强烈渴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歌颂阳刚之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）人就应该这样痛快淋漓的活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86022"/>
          <p:cNvSpPr/>
          <p:nvPr/>
        </p:nvSpPr>
        <p:spPr>
          <a:xfrm>
            <a:off x="0" y="1339920"/>
            <a:ext cx="913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安塞腰鼓为什么会具有如此美感，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作者在歌颂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文本框 11270" descr=""/>
          <p:cNvPicPr/>
          <p:nvPr/>
        </p:nvPicPr>
        <p:blipFill>
          <a:blip r:embed="rId2"/>
          <a:stretch/>
        </p:blipFill>
        <p:spPr>
          <a:xfrm>
            <a:off x="166680" y="31680"/>
            <a:ext cx="30495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D:\Documents and Settings\wgld\桌面\安塞腰鼓\鼓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横卷形 4" descr=""/>
          <p:cNvPicPr/>
          <p:nvPr/>
        </p:nvPicPr>
        <p:blipFill>
          <a:blip r:embed="rId2"/>
          <a:stretch/>
        </p:blipFill>
        <p:spPr>
          <a:xfrm>
            <a:off x="209520" y="-4680"/>
            <a:ext cx="4326120" cy="149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11"/>
          <p:cNvSpPr/>
          <p:nvPr/>
        </p:nvSpPr>
        <p:spPr>
          <a:xfrm>
            <a:off x="6174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-605160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文本框 16391" descr=""/>
          <p:cNvPicPr/>
          <p:nvPr/>
        </p:nvPicPr>
        <p:blipFill>
          <a:blip r:embed="rId3"/>
          <a:stretch/>
        </p:blipFill>
        <p:spPr>
          <a:xfrm>
            <a:off x="466560" y="2203560"/>
            <a:ext cx="80647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6:53:04Z</dcterms:created>
  <dc:creator>qingyunjushi</dc:creator>
  <dc:description/>
  <dc:language>en-US</dc:language>
  <cp:lastModifiedBy>qingyunjushi</cp:lastModifiedBy>
  <dcterms:modified xsi:type="dcterms:W3CDTF">2016-03-20T11:57:05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