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7F68-D195-45E2-9854-4072BE6F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6E4-2327-400F-990E-B23A969E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7E3-7F64-4D41-A32F-8705A537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C57-2413-417E-A8A7-02D0E15B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E76C-DA40-42EB-BC39-D86647A3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307-B8EA-4ABD-8931-197E6663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E70E-0A0F-4876-9BB2-D33E4EC5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F21-C515-404F-9F4C-539C835E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78E-5320-4126-8E53-17F513E6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F77-DB6F-4C6A-BC55-D23F8AF2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D9E3-6B23-4D94-81F3-123A0922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5E9-3D82-4B3D-AB8D-C78F89C6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725B-B3C5-4377-A276-445A68F0DB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39.xml"/><Relationship Id="rId3" Type="http://schemas.openxmlformats.org/officeDocument/2006/relationships/slide" Target="slide47.xml"/><Relationship Id="rId4" Type="http://schemas.openxmlformats.org/officeDocument/2006/relationships/slide" Target="slide25.xm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307800"/>
            <a:ext cx="8893080" cy="6000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黑体"/>
              </a:rPr>
              <a:t>言之有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四两拨千斤”——虚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90720" y="9907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副词的运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48769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家都希望你来，你居然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场球比上一场打得格外激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175248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、辨明词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876920"/>
            <a:ext cx="74678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个偶尔的机会，我认识了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能够得救，幸亏了医院的医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2438280"/>
            <a:ext cx="68580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、弄清词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00600"/>
            <a:ext cx="8839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很可能是暗害林峰事件的再次重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气词只放在句子末尾，有时也放在句中停顿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2004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、避免重复或矛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267080"/>
            <a:ext cx="88390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谁也不会否认，地球不是绕着太阳转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难道能否认培养国家建设人才不是我们的任务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38862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、用好否定副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解题指导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副词辨识正误题，应注意从以下几方面审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表达的范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表达的程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表达的数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该类副词的语法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该词在句中的表达效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9640" y="537480"/>
            <a:ext cx="809784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填入下列句子横线处的词语，正确的一项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真不巧，李家文——走了三四小时你就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）有意见就提——，为什么要吞吞吐吐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）刚得病的时候，我也——悲观过，是同志们的鼓励使我坚强起来的。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）这件事情本来就十分清楚，——研究，按照老甄的意思办就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A  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刚才    吗    已经  无须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B  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刚刚    吗    曾经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未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刚刚  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  嘛    曾经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无须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D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刚才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    嘛    已经  未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43280" y="3284640"/>
            <a:ext cx="86364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4064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断依次填入下面各句的虚词正确的一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8893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家的进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要超过咱们了，咱们得加油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不了解情况就大发议论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主观了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丹考虑问题脑子很灵活，刘磊的思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敏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马上    不免     更加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马上   未免   更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立刻    不免     越发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立刻   未免   越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马上”所表示的时间性幅度要稍大一些，偏口语化；而“立刻”表示的是即刻要发生的事情，偏书面语化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“未免”表示对某种过分的情况不以为然，侧重在主观评价；“不免”表示客观上不容易避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“越发”限用于同一人或事物的进一步变化；两个人或事物比较时，不能用“越发”，必须用“更加”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900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形形色色的“的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54072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区别“的、得、地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”的用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助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语气词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492280"/>
            <a:ext cx="144360" cy="2305080"/>
          </a:xfrm>
          <a:custGeom>
            <a:avLst/>
            <a:gdLst>
              <a:gd name="textAreaLeft" fmla="*/ 42480 w 144360"/>
              <a:gd name="textAreaRight" fmla="*/ 144360 w 144360"/>
              <a:gd name="textAreaTop" fmla="*/ 95760 h 2305080"/>
              <a:gd name="textAreaBottom" fmla="*/ 220932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2492280"/>
            <a:ext cx="504720" cy="1513080"/>
          </a:xfrm>
          <a:custGeom>
            <a:avLst/>
            <a:gdLst>
              <a:gd name="textAreaLeft" fmla="*/ 322560 w 504720"/>
              <a:gd name="textAreaRight" fmla="*/ 505080 w 504720"/>
              <a:gd name="textAreaTop" fmla="*/ 13320 h 1513080"/>
              <a:gd name="textAreaBottom" fmla="*/ 149976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1"/>
                  <a:pt x="10800" y="622"/>
                </a:cubicBezTo>
                <a:lnTo>
                  <a:pt x="10800" y="2978"/>
                </a:lnTo>
                <a:cubicBezTo>
                  <a:pt x="10800" y="3289"/>
                  <a:pt x="5400" y="3600"/>
                  <a:pt x="0" y="3600"/>
                </a:cubicBezTo>
                <a:cubicBezTo>
                  <a:pt x="5400" y="3600"/>
                  <a:pt x="10800" y="3911"/>
                  <a:pt x="10800" y="4222"/>
                </a:cubicBezTo>
                <a:lnTo>
                  <a:pt x="10800" y="20978"/>
                </a:lnTo>
                <a:cubicBezTo>
                  <a:pt x="10800" y="2128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421000"/>
            <a:ext cx="907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饰语和中心语之间，作为定语的标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在词或词组的后边，组成名词性“的”字短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插在动宾短语中间，表示过去发生的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8000" y="4797360"/>
            <a:ext cx="7058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陈述语气，表示情况确实如此。常与“是”连用，“的”的后面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补不出中心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语气词“的”和助词“的”的区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”的后面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能不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添相应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名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能添加的是助词，不能添加的是语气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删去“是、的”之后，句子的基本意思改变没有；改变了的，“的”是助词，相反就是语气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那岸上站着的一群人是看划龙船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他是会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他今天会回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12000" y="4005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助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77080" y="4581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语气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77080" y="515772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语气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2924280"/>
            <a:ext cx="1440000" cy="576000"/>
          </a:xfrm>
          <a:prstGeom prst="wedgeEllipseCallout">
            <a:avLst>
              <a:gd name="adj1" fmla="val -31148"/>
              <a:gd name="adj2" fmla="val 170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断下面句子中的“的”是助词还是语气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一九五三年秋天由师范学校毕业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个区的中心小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了教师的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学生的生活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他的意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人的勇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凡而伟大的、包罗万象的、担负着无数艰巨任务的区委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0000" y="3213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助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20000" y="2708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助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20000" y="2205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助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20000" y="3645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助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20000" y="4076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助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64360" y="53737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助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12000" y="1700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语气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406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做不成任何事情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别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媒人的天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他介绍而成家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闹过离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过这个意思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架吵嘴什么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十点钟到的北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9640" y="1844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助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720" y="24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助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2924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助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2720" y="3429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助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3272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助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32720" y="4508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助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88000" y="1268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语气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32720" y="5013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助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介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在名词、代词或名词性短语前头，合起来表示起止、方向、处所、时间、对象、目的等的词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95280" y="981000"/>
            <a:ext cx="8208720" cy="5543280"/>
            <a:chOff x="395280" y="981000"/>
            <a:chExt cx="8208720" cy="5543280"/>
          </a:xfrm>
        </p:grpSpPr>
        <p:grpSp>
          <p:nvGrpSpPr>
            <p:cNvPr id="155" name=""/>
            <p:cNvGrpSpPr/>
            <p:nvPr/>
          </p:nvGrpSpPr>
          <p:grpSpPr>
            <a:xfrm>
              <a:off x="402120" y="986040"/>
              <a:ext cx="8193960" cy="5532480"/>
              <a:chOff x="402120" y="986040"/>
              <a:chExt cx="8193960" cy="553248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402120" y="986040"/>
                <a:ext cx="1302840" cy="669960"/>
                <a:chOff x="402120" y="986040"/>
                <a:chExt cx="1302840" cy="6699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501840" y="986040"/>
                  <a:ext cx="11026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Times New Roman"/>
                    </a:rPr>
                    <a:t>内容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02120" y="986040"/>
                  <a:ext cx="130284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705320" y="986040"/>
                <a:ext cx="6890760" cy="669960"/>
                <a:chOff x="1705320" y="986040"/>
                <a:chExt cx="6890760" cy="6699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804680" y="986040"/>
                  <a:ext cx="669096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Times New Roman"/>
                    </a:rPr>
                    <a:t>例  词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705320" y="986040"/>
                  <a:ext cx="68907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02120" y="1656360"/>
                <a:ext cx="1302840" cy="838080"/>
                <a:chOff x="402120" y="1656360"/>
                <a:chExt cx="1302840" cy="8380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01840" y="1656360"/>
                  <a:ext cx="1102680" cy="83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ff0000"/>
                      </a:solidFill>
                      <a:latin typeface="宋体"/>
                    </a:rPr>
                    <a:t>时间、方向、处所</a:t>
                  </a:r>
                  <a:r>
                    <a:rPr b="1" lang="zh-CN" sz="22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02120" y="1656360"/>
                  <a:ext cx="1302840" cy="83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1705320" y="1656360"/>
                <a:ext cx="6890760" cy="838080"/>
                <a:chOff x="1705320" y="1656360"/>
                <a:chExt cx="6890760" cy="838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804680" y="1656360"/>
                  <a:ext cx="6690960" cy="83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ff0000"/>
                      </a:solidFill>
                      <a:latin typeface="宋体"/>
                    </a:rPr>
                    <a:t>从、自、自从、于、至、往、当、当着、朝向、趁、由、随、随着、沿、沿着、顺、顺着、乘、冲（</a:t>
                  </a:r>
                  <a:r>
                    <a:rPr b="1" lang="zh-CN" sz="2200" spc="-1" strike="noStrike">
                      <a:solidFill>
                        <a:srgbClr val="ff0000"/>
                      </a:solidFill>
                      <a:latin typeface="Times New Roman"/>
                    </a:rPr>
                    <a:t>chòng</a:t>
                  </a:r>
                  <a:r>
                    <a:rPr b="1" lang="zh-CN" sz="2200" spc="-1" strike="noStrike">
                      <a:solidFill>
                        <a:srgbClr val="ff0000"/>
                      </a:solidFill>
                      <a:latin typeface="宋体"/>
                    </a:rPr>
                    <a:t>）</a:t>
                  </a:r>
                  <a:r>
                    <a:rPr b="1" lang="zh-CN" sz="22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705320" y="1656360"/>
                  <a:ext cx="6890760" cy="83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02120" y="2494800"/>
                <a:ext cx="1302840" cy="838080"/>
                <a:chOff x="402120" y="2494800"/>
                <a:chExt cx="1302840" cy="8380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01840" y="2494800"/>
                  <a:ext cx="1102680" cy="83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宋体"/>
                    </a:rPr>
                    <a:t>比较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02120" y="2494800"/>
                  <a:ext cx="1302840" cy="83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705320" y="2494800"/>
                <a:ext cx="6890760" cy="838080"/>
                <a:chOff x="1705320" y="2494800"/>
                <a:chExt cx="6890760" cy="8380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804680" y="2494800"/>
                  <a:ext cx="6690960" cy="83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宋体"/>
                    </a:rPr>
                    <a:t>比、和、跟、与、同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705320" y="2494800"/>
                  <a:ext cx="6890760" cy="83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02120" y="3333240"/>
                <a:ext cx="1302840" cy="837720"/>
                <a:chOff x="402120" y="3333240"/>
                <a:chExt cx="1302840" cy="8377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01840" y="3333240"/>
                  <a:ext cx="1102680" cy="83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ff0000"/>
                      </a:solidFill>
                      <a:latin typeface="宋体"/>
                    </a:rPr>
                    <a:t>方式、方法、手段</a:t>
                  </a:r>
                  <a:r>
                    <a:rPr b="1" lang="zh-CN" sz="22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02120" y="3333240"/>
                  <a:ext cx="1302840" cy="83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705320" y="3333240"/>
                <a:ext cx="6890760" cy="837720"/>
                <a:chOff x="1705320" y="3333240"/>
                <a:chExt cx="6890760" cy="8377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804680" y="3333240"/>
                  <a:ext cx="6690960" cy="83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ff0000"/>
                      </a:solidFill>
                      <a:latin typeface="宋体"/>
                    </a:rPr>
                    <a:t>按、按照、照、依、依照、本着、经、经过、据、根据、通过、以、将、把、被、凭、鉴于等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705320" y="3333240"/>
                  <a:ext cx="6890760" cy="83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402120" y="4171320"/>
                <a:ext cx="1302840" cy="670320"/>
                <a:chOff x="402120" y="4171320"/>
                <a:chExt cx="1302840" cy="6703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01840" y="4171320"/>
                  <a:ext cx="110268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宋体"/>
                    </a:rPr>
                    <a:t>原因、目的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02120" y="4171320"/>
                  <a:ext cx="1302840" cy="67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1705320" y="4171320"/>
                <a:ext cx="6890760" cy="670320"/>
                <a:chOff x="1705320" y="4171320"/>
                <a:chExt cx="6890760" cy="6703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804680" y="4171320"/>
                  <a:ext cx="669096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宋体"/>
                    </a:rPr>
                    <a:t>因、因为、由于、为了、为着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705320" y="4171320"/>
                  <a:ext cx="6890760" cy="67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02120" y="4842360"/>
                <a:ext cx="1302840" cy="837720"/>
                <a:chOff x="402120" y="4842360"/>
                <a:chExt cx="1302840" cy="8377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501840" y="4842360"/>
                  <a:ext cx="1102680" cy="83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ff0000"/>
                      </a:solidFill>
                      <a:latin typeface="宋体"/>
                    </a:rPr>
                    <a:t>对象、范围、关联</a:t>
                  </a:r>
                  <a:r>
                    <a:rPr b="1" lang="zh-CN" sz="22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02120" y="4842360"/>
                  <a:ext cx="1302840" cy="83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705320" y="4842360"/>
                <a:ext cx="6890760" cy="837720"/>
                <a:chOff x="1705320" y="4842360"/>
                <a:chExt cx="6890760" cy="8377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804680" y="4842360"/>
                  <a:ext cx="6690960" cy="83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ff0000"/>
                      </a:solidFill>
                      <a:latin typeface="宋体"/>
                    </a:rPr>
                    <a:t>对、对于、关于、替、同、与、跟、和、给、把、将、被、连、任凭、至于、顺</a:t>
                  </a:r>
                  <a:r>
                    <a:rPr b="1" lang="zh-CN" sz="22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705320" y="4842360"/>
                  <a:ext cx="6890760" cy="83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402120" y="5680440"/>
                <a:ext cx="1302840" cy="838080"/>
                <a:chOff x="402120" y="5680440"/>
                <a:chExt cx="1302840" cy="8380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01840" y="5680440"/>
                  <a:ext cx="1102680" cy="83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Times New Roman"/>
                    </a:rPr>
                    <a:t>表示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宋体"/>
                    </a:rPr>
                    <a:t>排除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02120" y="5680440"/>
                  <a:ext cx="1302840" cy="83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705320" y="5680440"/>
                <a:ext cx="6890760" cy="838080"/>
                <a:chOff x="1705320" y="5680440"/>
                <a:chExt cx="6890760" cy="8380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804680" y="5680440"/>
                  <a:ext cx="6690960" cy="83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宋体"/>
                    </a:rPr>
                    <a:t>除、除了、除开、除去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705320" y="5680440"/>
                  <a:ext cx="6890760" cy="83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>
              <a:off x="395280" y="981000"/>
              <a:ext cx="8208720" cy="5543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62120" y="838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介词的运用注意的几个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495288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于《祝福》，我们有特别深刻的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于经济方面，我们要尽量给他帮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141300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、避免错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4343400"/>
            <a:ext cx="830556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于开展海水养殖，至今未引起各级领导同志的注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所大学非常有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引了来自于一百多个国家的外国留学生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12952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、避免滥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343400"/>
            <a:ext cx="8381880" cy="20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消息是我哥哥单位听到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如一切新事物都会引起人们的议论一样，差额选举也褒贬不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213372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、避免漏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343400"/>
            <a:ext cx="830556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怎样对待缺点错误上，我们应该有正确的认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正朝着把自己培养成为又红又专的人材前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27813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、注意搭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3068640"/>
            <a:ext cx="46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083120"/>
            <a:ext cx="8610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音乐对他并不陌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些奇形怪状的石头对我产生了浓厚的兴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206064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、避免搭配不完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学  习  任 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了解虚词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掌握一些常见虚词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重点：辨析虚词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难点：区分易混淆的虚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-120744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764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介词的辨识正误题从以下方面审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介词的语法功能是否得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有无介词误用或滥用现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适当运用换位法，即把容易混淆的有关介词分别换位，从而判断介词的使用正确与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介词与其所带的宾语是否搭配得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28600"/>
            <a:ext cx="83059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们试制了十九个心脏瓣，从而填补了我国在生物瓣替换领域的空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这个故事里告诉我们一个真理：虚心使人进步、骄傲使人落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我们党的老一辈无产阶级革命家身上，都无不闪耀着为党为公的光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我累得睁不开眼的时候，一想起老师的鼓励，精神就振作起未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于我们学校，由于开展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雷锋，创三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活动，出现了新气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41800" y="1341360"/>
            <a:ext cx="50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（“在”是多余的，应删去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92360" y="24210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从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里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使句子缺少主语，应删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3500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（“在”使句子缺少主语，应删去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46483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当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使句子缺少主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00000" y="61657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（“对于”都使句子缺少主语，应删去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8763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可漏用介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应该使用介词的地方而没有使用，就是漏用介词。漏用介词同样会使表意不清，句子不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江北地区的新石器时代文化，会议展开了热烈的讨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2133720"/>
            <a:ext cx="7440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（“江北地区的新石器时代文化”之前要加上“对于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否则句子的结构和表意都不清楚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3505320"/>
            <a:ext cx="60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（应在“动物”之后加上介词“在”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4876920"/>
            <a:ext cx="39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（在句首加上“从”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6172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（在“就是”之后加上“关于”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29718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种习性是动物长期求食活动中发展起来的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962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在这次期中考试中所反映出来的问题，我们就可以看到思想教育工作薄弱所造成的严重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53341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战国时期出现的《禹贡》和秦汉之际出现的《管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员》，就是我国古代土壤的专门著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228600"/>
            <a:ext cx="8686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可误用介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用这个介词而误用了那个介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月三十日夜，本市普降大雪，对城市交通带来不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198108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“对”应改为“给”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48000" y="321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“从”应改为“在”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42670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“对于”应改为“关于”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792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“把”应改为“用”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514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革命的后代，决不能靠借老子的光，从优越舒适的小天地里成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3657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于金沙江，我曾听人讲过不少优美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4724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国家能够多生产一些这类配件，就可以把节省下来的外汇，进口我国暂时还不能生产的仪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304920"/>
            <a:ext cx="8534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介词宾语不完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介词不能单独使用，后边必须有完整的介词宾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秧歌剧在教育群众，引导群众参加斗争都有一定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2133720"/>
            <a:ext cx="64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在“斗争”的后边应加上“等方面”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3581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在“武器”的后边应加上“的观点”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14600" y="4800600"/>
            <a:ext cx="59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在“形象”的后边应加上“方面”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2743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与鲁迅当时认为文学是改变国民精神的有力武器基本一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4191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部电影在塑造周总理的形象所提供的经验是非常宝贵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04920" y="380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介词同后进的介词宾语不搭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育行政主管部门多次指示我们将占用的校舍尽早搬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14479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错用“将”，使前后文不搭配。应改为“从”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29973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“根据”不能同“大熊猫”搭配，应在“大熊猫”加“习性”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4038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应在“轨道”的后边加上“的时候”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介词“对”的后边不能用“……上”，应把“上”删去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22096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物园根据大熊猫安排了大熊猫所需要的生活环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3429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地球穿过彗星轨道，我们就能看到流星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诗中运用对比手法，对揭露敌人本质与表现我军力量上起了重大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动词与介词的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真理在人民一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黑板上写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北京了，到了北京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跟我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43280" y="234936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是动词，单独做谓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306864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是介词，与黑板上构成介宾短语做写的状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92720" y="38606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动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59280" y="436572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动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3683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跟谁说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我一支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我讲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门斜对商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对我很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咱俩比速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比你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56000" y="620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介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24360" y="1268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动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80000" y="184464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介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95640" y="2349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动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2997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介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64000" y="3716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动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59280" y="4292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介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719000" y="863640"/>
            <a:ext cx="5942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结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些虚词，在使用过程中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范围、意义、语法等方面的特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规定，只有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了解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些规定性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用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才能做到准确运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要了解用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靠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积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可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辨析时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些熟悉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子加以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类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结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用虚词，要注意它们在句中的位置，如果位置恰当，句意就准确鲜明，否则，不仅会使句意不明。甚至会改变句子原意。</a:t>
            </a:r>
            <a:r>
              <a:rPr b="1" lang="zh-CN" sz="4400" spc="-1" strike="noStrike" u="sng">
                <a:solidFill>
                  <a:srgbClr val="009999"/>
                </a:solidFill>
                <a:uFillTx/>
                <a:latin typeface="Arial"/>
              </a:rPr>
              <a:t>一是</a:t>
            </a:r>
            <a:r>
              <a:rPr b="0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否定副词在把字句、被字句中放“把”“被”字之前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；一是复句中关联词的位置：分句间的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主语一致时，关联词语放在主语的后面，反之，放在主语的前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身二任——虚虚实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弟弟打破了——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他一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儿工作呢？——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图书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打个电话——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我一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中国奋斗——都是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挥了挥手——他面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就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说的做——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下按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楷体_GB2312"/>
              </a:rPr>
              <a:t>注意虚词在句中的位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大夫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人的病情没搞清楚就开处方，这是不  负责任的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他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因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字中有个“海”字，所以大家都叫他“海 哥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顾老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除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懂日语外，教地理的周老师也懂得日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委员因受贿丑闻被逐出国际奥委会。第二天，世界各大报纸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关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起震惊国际体坛的事件都作了详细报道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88455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否定副词“没”应该放在“把”字的前面，该句却放在了“搞清楚”之前，导致位置错位的毛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“因为”应放在句首，因为该句两个分句的主语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“除了”应放在首句，因为该句陈述的对象是周老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不是顾老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该句陈述对象为顾老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“除了”应放在”顾老师”之后，如，顾老师除了懂日语外，还懂英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这句就犯了虚词“关于”位置不当的毛病。“关于……事件”这个介宾短语不能放在主语后面，如要保留这一短语，就应将它放在主语“世界各大报纸”前，或者将“关于”改成“对于” 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“关于”放在句首，“对于”放在句首或句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明确虚词位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般来讲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副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在形容词或动词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介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般用在名词、代词或名词性短语之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连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虽然不和任何句子成分发生关系，但由于表意的需要，其位置有时在主语之前，有时却在主语之后，不能随意挪动，不然就会影响文意的表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“他拿起望远镜看了一阵，想了一会儿，接着在地图上飞快地画了一些符号，然后用望远镜仔细地再看了一阵”，其中最明显的错误是不应用“再”，而应用“又”。但这个虚词的位置也不当，应将“又”放在“然后”一词之后，才能正确地表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此外，在复句中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果前后两个分句的主语相同，关联词可放在主语的后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果前后两个分句的主语不同，那么，关联词语的位置都应放在主语之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例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尽管他行车已三十万公里，却从没有发生过重大事故”，句中主语相同，“他”应放在“尽管”之前。但也有特殊的情况，关 联词位置变化并不影响语意的表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09480" y="1295280"/>
            <a:ext cx="792504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用虚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需要做到三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一、理解并掌握虚词的语法特点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二、在具体的语境中掌握虚词的用法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三、增加阅读量，培养语感，积极发掘规范使用虚词的潜意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9280" y="260280"/>
            <a:ext cx="896472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高考分析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虚词的运用在高考中属于常考题。考查的虚词主要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关联词、副词和介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考查的角度有三种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①辨析虚词使用正确与否；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②辨析选择用法相近或容易混淆的关联词语；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③在第Ⅱ卷中，修改使用不当的虚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法指导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虚词的辨析、选用同样要从词义、用法等方面入手，充分考虑到虚词在句子成份，结构中所起的不同作用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完成以下练习，归纳错误的类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浙江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00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高考）依次填入下列各句横线处的词语，最恰当的一组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第一次庭审时，原告律师向法庭所作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揭露了三年来原告在这起家庭暴力案件中遭受虐待的真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应当讲信用，对已经作出的允诺就决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汪曾祺先生终生主要从事创作，即使偶尔也写些评论，甚至这些评论可以归入学术论文一类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的说来，他天生就是一个作家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难算是一个纯粹的学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申述    食言    但／而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申述    失言    不过／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申诉    失言    但／而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申诉    食言    不过／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-36360" y="4076640"/>
            <a:ext cx="93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北京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00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高考）下列依次填入横线处的词语，恰当的一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常规的计算机相比，生物计算机具有密集度高的突出优点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子制成生物电子元件，将比硅芯片上的电子元件要小得多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小到几十亿分之一米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生物芯片本身具有天然独特的立体化结构，其密度要比平面型硅集成电路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由于   甚至   所以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只是   也许   可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如果   甚至   而且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虽然   也许   然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5640" y="307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677440" y="40514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71280" y="44280"/>
            <a:ext cx="889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00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全国高考）依次填入下列各句横线处的词语，最恰当的一组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中美关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荡，不符合双方的根本利益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你比他只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差一点，其实两人不相上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③这几天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接到一些莫名其妙的电子邮件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一再 多少 往往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再三 多少 常常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一再 稍微 常常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再三 稍微 往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8000" y="2997360"/>
            <a:ext cx="90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00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全国高考）依次填入下列各句横线处的词语，最恰当的一组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报载孙中山的孙女孙穗芳女士近年多次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北京大学，为推动孙中山研究做出了贡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北京市政府对城市建设布局做出了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前将每年增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平方米的绿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邓亚萍现在留给大家的印象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渐成熟的仪表风度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依然保留的拼搏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莅临    计划    不仅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且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莅临    规划    不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亲临    规划    不仅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且是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亲临    计划    不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60360" y="450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42920" y="3357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8000" y="11592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0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全高考）下列各句方括号中，必须加“的”字的一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了实施西部大开发战略，加快当地经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[    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展，国家将在西部地区新建十大工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文学家在太阳系外一共发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颗行星，它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[    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存在是通过间接渠道推断出来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风险投资的注入可以使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[    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钱袋立即充盈，有实力去市场上拼抢厮杀，谋求新的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有“乒坛黑马”之称，具备直接拍选手快、灵、狠的特点，是欧亚高手取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[   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大障碍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①③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②④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②③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①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920" y="4005360"/>
            <a:ext cx="91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999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高考）依次填入下面一段文字中横线处的关联词语，恰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当的一组是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小说家应尽可能把人物对话写得流利自然，生动活泼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完全像实际说 话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讲故事或作报告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决不能像日常说话那样支离破碎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写稿 子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像一篇文章。 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虽然  而  却  即使  也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尽管  可是  而  虽然  但 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尽管  而  却  虽然  但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虽然  相反  可  即使  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604360" y="11592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43280" y="43401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4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4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0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列各句中，加点的词语使用不恰当的一句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有丰富的知识和较强的能力，又有较高素质的人，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才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称为完全的或健全的人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警方还发现这个邪教组织已经建立了自己的网站，网页上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不少蛊惑人心、反科学的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和与中国签署协议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成员国都将双边协议文本提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T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秘书处后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T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工作组才会组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成员国投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的艺术见解独到、深刻，近年来，常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应邀到许多高校发表演讲，深受学生欢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12000" y="6093000"/>
            <a:ext cx="81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45080" y="3333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透过现象看本质——虚词的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与实词发生关系时，产生的只表示抽象的语法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虚词只能附着实词，不能单独说出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虚词不能象实词那样自由充当主语、宾语、定语、谓语、中心语、补语等各种句法成分（除副词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防止虚词滥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252720" y="1052640"/>
            <a:ext cx="939636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虚词的功能是帮助表意，不能随便省略，但也不能滥用，否则就会犯“多余”的毛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问题的严重性还在于对种种不爱惜人民币的错误做法，以及随意将人民币放大后销售的违法行为，尚未引起社会的广泛关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句话的主语是“严重性”，谓语是“在于”，“在于”的后边都是宾语。再分析宾语，它的主语是“对……行为”，这是个介宾短语，但介宾短语是不能做主语的，“对”的参入淹没了宾语的主语，造成了句子结构上的混乱，去掉“对”反而句意明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如：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有一些电视剧本不能采用的原因，是因为它们格调太低，只能迎合少数人的口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这是关联词语滥用， 应去掉“因为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97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897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97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897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97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避免虚词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虚词误用主要包括关联词语的误用和介词的误用。关联词语的误用是因为不明辨分句之间的逻辑关系而导致的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“贪图小利的人往往只看到自己的小圈子，打自己的小算盘，进而忽视了集体和国家的利益”，其中就是因为把因果关系理解为递进关系所致，此处“进而”应为“因而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0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897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897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897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40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虚词错误类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40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117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7a00"/>
                </a:solidFill>
                <a:latin typeface="Arial"/>
              </a:rPr>
              <a:t>一、词类混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连词混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造纸厂的废水直接排放到淮河，使淮河水变得又臭又黑，许多水生物、植物大量减少和灭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从连词“和”连接的内容来看，“减少”“绝迹”是递进关系不是并列关系，当用递进关系连词“甚至”</a:t>
            </a:r>
            <a:r>
              <a:rPr b="0" lang="zh-CN" sz="3600" spc="-1" strike="noStrike">
                <a:solidFill>
                  <a:srgbClr val="66ff33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5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864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介词混用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王大娘省吃俭用，把平时节省下来的零用钱，给山村小学的孩子们买了一台电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          ——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不是“把零用钱买了电脑”，而是“用零用钱买了电脑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副词混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是刚进车间的新工人，做起活来未免慢一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——“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未免”同一些词语搭配表示对某种事物、行为评价和对过分情况的不以为然；“不免”表示某种结果不可避免，结合句意，应用“不免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2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2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7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01680" y="476280"/>
            <a:ext cx="8540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连词、介词混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到目前为止，人们还不能控制自然灾荒，农业收成的好坏，在很大程度上还是由于自然条件的好坏决定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——“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自然条件的好坏”在句中为介词短语做状语，应用介词“由”，而不是连词“由于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4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9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-8470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475920"/>
            <a:ext cx="88423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连词、副词混用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近年来，我国的经济建设、文化建设都有长足的进步，但与此同时也应当看到，在一些中小城市，甚至在一些农村，封建迷信正在抬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在“中小城市”和“农村”应用副词“特别”或“尤其”来表示强调，却误用了递进连词“甚至” 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-163944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117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7a00"/>
                </a:solidFill>
                <a:latin typeface="Arial"/>
              </a:rPr>
              <a:t>二、搭配不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论老师和学生，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+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考试过程中，都要经历一个从观念到思想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——“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无论（不论、不管） ”只能与“还”“还是”搭配，不能与“和”搭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位置不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不仅认识她，王军也认识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——“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不仅”应放在句首，因为前后两个分句的主语不同，若两个分句的主语相同，关联词应放在前一分句的主语之后，如：我不仅认识他，而且也认识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2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0520" y="934920"/>
            <a:ext cx="9109080" cy="2835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细黑"/>
                <a:ea typeface="华文细黑"/>
              </a:rPr>
              <a:t>依次填入下列各句横线处的词语，最恰当的一组是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①</a:t>
            </a:r>
            <a:r>
              <a:rPr b="0" lang="zh-CN" sz="30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中美关系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动荡，不符合双方的根本利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②</a:t>
            </a:r>
            <a:r>
              <a:rPr b="0" lang="zh-CN" sz="30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你比他只是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差一点，其实两人不相上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③</a:t>
            </a:r>
            <a:r>
              <a:rPr b="0" lang="zh-CN" sz="3000" spc="-1" strike="noStrike">
                <a:solidFill>
                  <a:srgbClr val="000000"/>
                </a:solidFill>
                <a:latin typeface="华文细黑"/>
                <a:ea typeface="华文细黑"/>
              </a:rPr>
              <a:t>这几天我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接到一些莫名其妙的电子邮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00"/>
                </a:solidFill>
                <a:latin typeface="华文细黑"/>
                <a:ea typeface="华文细黑"/>
              </a:rPr>
              <a:t>A.</a:t>
            </a:r>
            <a:r>
              <a:rPr b="0" lang="zh-CN" sz="3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一再     多少     往往      </a:t>
            </a:r>
            <a:r>
              <a:rPr b="0" lang="zh-CN" sz="3000" spc="-1" strike="noStrike">
                <a:solidFill>
                  <a:srgbClr val="ffff00"/>
                </a:solidFill>
                <a:latin typeface="华文细黑"/>
                <a:ea typeface="华文细黑"/>
              </a:rPr>
              <a:t>B. </a:t>
            </a:r>
            <a:r>
              <a:rPr b="0" lang="zh-CN" sz="3000" spc="-1" strike="noStrike">
                <a:solidFill>
                  <a:srgbClr val="ffff00"/>
                </a:solidFill>
                <a:latin typeface="华文细黑"/>
                <a:ea typeface="华文细黑"/>
              </a:rPr>
              <a:t>再三     多少     常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00"/>
                </a:solidFill>
                <a:latin typeface="华文细黑"/>
                <a:ea typeface="华文细黑"/>
              </a:rPr>
              <a:t>C.</a:t>
            </a:r>
            <a:r>
              <a:rPr b="0" lang="zh-CN" sz="3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一再     稍微     常常      </a:t>
            </a:r>
            <a:r>
              <a:rPr b="0" lang="zh-CN" sz="3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.</a:t>
            </a:r>
            <a:r>
              <a:rPr b="0" lang="zh-CN" sz="3000" spc="-1" strike="noStrike">
                <a:solidFill>
                  <a:srgbClr val="ffff00"/>
                </a:solidFill>
                <a:latin typeface="华文细黑"/>
                <a:ea typeface="华文细黑"/>
              </a:rPr>
              <a:t>再三     稍微     往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258920" y="4292640"/>
            <a:ext cx="5218920" cy="2349360"/>
            <a:chOff x="1258920" y="4292640"/>
            <a:chExt cx="5218920" cy="2349360"/>
          </a:xfrm>
        </p:grpSpPr>
        <p:sp>
          <p:nvSpPr>
            <p:cNvPr id="317" name=""/>
            <p:cNvSpPr/>
            <p:nvPr/>
          </p:nvSpPr>
          <p:spPr>
            <a:xfrm>
              <a:off x="1258920" y="4537080"/>
              <a:ext cx="731520" cy="2087640"/>
            </a:xfrm>
            <a:prstGeom prst="borderCallout2">
              <a:avLst>
                <a:gd name="adj1" fmla="val 18750"/>
                <a:gd name="adj2" fmla="val -8333"/>
                <a:gd name="adj3" fmla="val 5476"/>
                <a:gd name="adj4" fmla="val 112365"/>
                <a:gd name="adj5" fmla="val -42888"/>
                <a:gd name="adj6" fmla="val 114532"/>
              </a:avLst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cc"/>
                  </a:solidFill>
                  <a:latin typeface="Arial"/>
                  <a:ea typeface="华文细黑"/>
                </a:rPr>
                <a:t>无彼限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896720" y="4292640"/>
              <a:ext cx="1580760" cy="2349360"/>
            </a:xfrm>
            <a:prstGeom prst="borderCallout2">
              <a:avLst>
                <a:gd name="adj1" fmla="val 18750"/>
                <a:gd name="adj2" fmla="val -8333"/>
                <a:gd name="adj3" fmla="val 4861"/>
                <a:gd name="adj4" fmla="val -7532"/>
                <a:gd name="adj5" fmla="val -46490"/>
                <a:gd name="adj6" fmla="val -8032"/>
              </a:avLst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cc"/>
                  </a:solidFill>
                  <a:latin typeface="Arial"/>
                  <a:ea typeface="华文细黑"/>
                </a:rPr>
                <a:t>修饰积极意义形容词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87160" y="4102200"/>
            <a:ext cx="5032800" cy="2600280"/>
            <a:chOff x="2387160" y="4102200"/>
            <a:chExt cx="5032800" cy="2600280"/>
          </a:xfrm>
        </p:grpSpPr>
        <p:sp>
          <p:nvSpPr>
            <p:cNvPr id="320" name=""/>
            <p:cNvSpPr/>
            <p:nvPr/>
          </p:nvSpPr>
          <p:spPr>
            <a:xfrm flipH="1">
              <a:off x="2386800" y="4119480"/>
              <a:ext cx="739800" cy="2583000"/>
            </a:xfrm>
            <a:prstGeom prst="borderCallout2">
              <a:avLst>
                <a:gd name="adj1" fmla="val 18750"/>
                <a:gd name="adj2" fmla="val -8333"/>
                <a:gd name="adj3" fmla="val 4421"/>
                <a:gd name="adj4" fmla="val -25111"/>
                <a:gd name="adj5" fmla="val -13953"/>
                <a:gd name="adj6" fmla="val -3991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545454"/>
                </a:gs>
                <a:gs pos="100000">
                  <a:srgbClr val="000000"/>
                </a:gs>
              </a:gsLst>
              <a:lin ang="5400000"/>
            </a:gradFill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无彼限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34160" y="4102200"/>
              <a:ext cx="685800" cy="2576520"/>
            </a:xfrm>
            <a:prstGeom prst="borderCallout2">
              <a:avLst>
                <a:gd name="adj1" fmla="val 18750"/>
                <a:gd name="adj2" fmla="val -8333"/>
                <a:gd name="adj3" fmla="val 4435"/>
                <a:gd name="adj4" fmla="val 126851"/>
                <a:gd name="adj5" fmla="val -13925"/>
                <a:gd name="adj6" fmla="val 14328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545454"/>
                </a:gs>
                <a:gs pos="100000">
                  <a:srgbClr val="000000"/>
                </a:gs>
              </a:gsLst>
              <a:lin ang="5400000"/>
            </a:gradFill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</a:rPr>
                <a:t>规律条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69920" y="4091040"/>
            <a:ext cx="4413240" cy="2608200"/>
            <a:chOff x="169920" y="4091040"/>
            <a:chExt cx="4413240" cy="2608200"/>
          </a:xfrm>
        </p:grpSpPr>
        <p:sp>
          <p:nvSpPr>
            <p:cNvPr id="323" name=""/>
            <p:cNvSpPr/>
            <p:nvPr/>
          </p:nvSpPr>
          <p:spPr>
            <a:xfrm>
              <a:off x="3867120" y="4195800"/>
              <a:ext cx="716040" cy="2503440"/>
            </a:xfrm>
            <a:prstGeom prst="borderCallout2">
              <a:avLst>
                <a:gd name="adj1" fmla="val 18750"/>
                <a:gd name="adj2" fmla="val -8333"/>
                <a:gd name="adj3" fmla="val 4564"/>
                <a:gd name="adj4" fmla="val 138578"/>
                <a:gd name="adj5" fmla="val -16615"/>
                <a:gd name="adj6" fmla="val 171175"/>
              </a:avLst>
            </a:pr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5400000"/>
            </a:gradFill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66"/>
                  </a:solidFill>
                  <a:latin typeface="Arial"/>
                  <a:ea typeface="华文细黑"/>
                </a:rPr>
                <a:t>主体须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9920" y="4091040"/>
              <a:ext cx="792000" cy="2571840"/>
            </a:xfrm>
            <a:prstGeom prst="borderCallout2">
              <a:avLst>
                <a:gd name="adj1" fmla="val 18750"/>
                <a:gd name="adj2" fmla="val -8333"/>
                <a:gd name="adj3" fmla="val 4444"/>
                <a:gd name="adj4" fmla="val 109620"/>
                <a:gd name="adj5" fmla="val -11976"/>
                <a:gd name="adj6" fmla="val 109819"/>
              </a:avLst>
            </a:pr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5400000"/>
            </a:gradFill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66"/>
                  </a:solidFill>
                  <a:latin typeface="Arial"/>
                  <a:ea typeface="华文细黑"/>
                </a:rPr>
                <a:t>主体可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7400" y="88920"/>
            <a:ext cx="5021280" cy="520560"/>
          </a:xfrm>
          <a:prstGeom prst="rect">
            <a:avLst/>
          </a:prstGeom>
          <a:solidFill>
            <a:srgbClr val="009999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华文细黑"/>
                <a:ea typeface="华文细黑"/>
              </a:rPr>
              <a:t>[</a:t>
            </a:r>
            <a:r>
              <a:rPr b="1" lang="zh-CN" sz="2800" spc="-1" strike="noStrike">
                <a:solidFill>
                  <a:srgbClr val="a50021"/>
                </a:solidFill>
                <a:latin typeface="华文细黑"/>
                <a:ea typeface="华文细黑"/>
              </a:rPr>
              <a:t>练习</a:t>
            </a:r>
            <a:r>
              <a:rPr b="1" lang="zh-CN" sz="2800" spc="-1" strike="noStrike">
                <a:solidFill>
                  <a:srgbClr val="a50021"/>
                </a:solidFill>
                <a:latin typeface="华文细黑"/>
                <a:ea typeface="华文细黑"/>
              </a:rPr>
              <a:t>1·2002</a:t>
            </a:r>
            <a:r>
              <a:rPr b="1" lang="zh-CN" sz="2800" spc="-1" strike="noStrike">
                <a:solidFill>
                  <a:srgbClr val="a50021"/>
                </a:solidFill>
                <a:latin typeface="华文细黑"/>
                <a:ea typeface="华文细黑"/>
              </a:rPr>
              <a:t>年全国高考卷</a:t>
            </a:r>
            <a:r>
              <a:rPr b="1" lang="zh-CN" sz="2800" spc="-1" strike="noStrike">
                <a:solidFill>
                  <a:srgbClr val="a50021"/>
                </a:solidFill>
                <a:latin typeface="华文细黑"/>
                <a:ea typeface="华文细黑"/>
              </a:rPr>
              <a:t>·5]</a:t>
            </a:r>
            <a:r>
              <a:rPr b="0" lang="zh-CN" sz="2800" spc="-1" strike="noStrike">
                <a:solidFill>
                  <a:srgbClr val="a50021"/>
                </a:solidFill>
                <a:latin typeface="华文细黑"/>
                <a:ea typeface="华文细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167600" y="217440"/>
            <a:ext cx="1523880" cy="5508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[</a:t>
            </a:r>
            <a:r>
              <a:rPr b="0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答案</a:t>
            </a:r>
            <a:r>
              <a:rPr b="0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C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1520280"/>
            <a:ext cx="8518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实词 </a:t>
            </a:r>
            <a:br>
              <a:rPr sz="3200"/>
            </a:b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实词是有实在意义的词，可以独立充当句子成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一般可以单独回答问题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每一个实词都可以详细解说其词义。现代汉语实词一般名词、动词、形容词、数词、量词、代词六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虚词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虚词是没有实在意义的词，一般不能单独充当句子成分（副词例外），不能单独回答问题（少数副词除外）。其存在的价值在于帮助构成句子的语法结构，表示某种语法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523880"/>
            <a:ext cx="861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5080" y="1270080"/>
            <a:ext cx="287964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虚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表示的意义都不太实在，一般不能单独回答问题，但能帮助实词造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65720" y="1557360"/>
            <a:ext cx="206280" cy="3535200"/>
          </a:xfrm>
          <a:custGeom>
            <a:avLst/>
            <a:gdLst>
              <a:gd name="textAreaLeft" fmla="*/ 131760 w 206280"/>
              <a:gd name="textAreaRight" fmla="*/ 206640 w 206280"/>
              <a:gd name="textAreaTop" fmla="*/ 92160 h 3535200"/>
              <a:gd name="textAreaBottom" fmla="*/ 3443040 h 35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4356000" y="981000"/>
            <a:ext cx="2210040" cy="838440"/>
          </a:xfrm>
          <a:custGeom>
            <a:avLst/>
            <a:gdLst>
              <a:gd name="textAreaLeft" fmla="*/ 519480 w 2210040"/>
              <a:gd name="textAreaRight" fmla="*/ 1689120 w 2210040"/>
              <a:gd name="textAreaTop" fmla="*/ 98280 h 838440"/>
              <a:gd name="textAreaBottom" fmla="*/ 525960 h 838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副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4356000" y="1773360"/>
            <a:ext cx="2210040" cy="838080"/>
          </a:xfrm>
          <a:custGeom>
            <a:avLst/>
            <a:gdLst>
              <a:gd name="textAreaLeft" fmla="*/ 519480 w 2210040"/>
              <a:gd name="textAreaRight" fmla="*/ 1689120 w 2210040"/>
              <a:gd name="textAreaTop" fmla="*/ 98280 h 838080"/>
              <a:gd name="textAreaBottom" fmla="*/ 525600 h 83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介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4356000" y="2646360"/>
            <a:ext cx="2210040" cy="838080"/>
          </a:xfrm>
          <a:custGeom>
            <a:avLst/>
            <a:gdLst>
              <a:gd name="textAreaLeft" fmla="*/ 519480 w 2210040"/>
              <a:gd name="textAreaRight" fmla="*/ 1689120 w 2210040"/>
              <a:gd name="textAreaTop" fmla="*/ 98280 h 838080"/>
              <a:gd name="textAreaBottom" fmla="*/ 525600 h 83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连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>
            <a:off x="4378320" y="3332160"/>
            <a:ext cx="2209680" cy="838080"/>
          </a:xfrm>
          <a:custGeom>
            <a:avLst/>
            <a:gdLst>
              <a:gd name="textAreaLeft" fmla="*/ 519120 w 2209680"/>
              <a:gd name="textAreaRight" fmla="*/ 1688760 w 2209680"/>
              <a:gd name="textAreaTop" fmla="*/ 98280 h 838080"/>
              <a:gd name="textAreaBottom" fmla="*/ 525600 h 83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助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7640" y="4094280"/>
            <a:ext cx="2209680" cy="838080"/>
          </a:xfrm>
          <a:custGeom>
            <a:avLst/>
            <a:gdLst>
              <a:gd name="textAreaLeft" fmla="*/ 519120 w 2209680"/>
              <a:gd name="textAreaRight" fmla="*/ 1688760 w 2209680"/>
              <a:gd name="textAreaTop" fmla="*/ 98280 h 838080"/>
              <a:gd name="textAreaBottom" fmla="*/ 525600 h 83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叹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10080" y="4856040"/>
            <a:ext cx="2438280" cy="838440"/>
          </a:xfrm>
          <a:custGeom>
            <a:avLst/>
            <a:gdLst>
              <a:gd name="textAreaLeft" fmla="*/ 573120 w 2438280"/>
              <a:gd name="textAreaRight" fmla="*/ 1863720 w 2438280"/>
              <a:gd name="textAreaTop" fmla="*/ 98280 h 838440"/>
              <a:gd name="textAreaBottom" fmla="*/ 525960 h 838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拟声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37440"/>
            <a:ext cx="806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副词：在句中表示动作、行为、性质、状态的程度、范围、时间、趋向等的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如：很、非常、一律、也、将来等。在虚词中，副词是唯一能独立作句子成分的词，并且有少数副词（比如“不、没有、也许、大概”等）也可以单独回答问题，具有一定的实词特点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二）助词：在句中起辅助作用的词。现代汉语中的助词主要有：“的”、“地”、“得”、“着”、“了”、“过”。文言文中助词比较复杂，常见的有“之”、“者”等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三）、连词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在句中起连接作用的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连词往往标示词、短语、句子、句群、语段之间的逻辑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：虽然、但是、因此、无论等。连词常常成对搭配使用或与副词搭配使用，如：“因为……所以……”、“即使……也……”、“只有……才……”等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320" y="265320"/>
            <a:ext cx="8302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四）介词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表示动作对象、时间等的引介关系的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介词在汉语中比较复杂。如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在、从、对于、关于等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五）叹词：表示感叹或惊奇、惊喜、疑虑等语气的词。如：啊、唉、呀等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六）拟声词：模拟人或事物声音的词。如：哗、唧唧、哐等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800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副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在动词、形容词前面，表示程度、范围、时间、频率、语气、情貌等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7360" y="912960"/>
            <a:ext cx="12304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" y="912960"/>
            <a:ext cx="1452600" cy="6919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69960" y="912960"/>
            <a:ext cx="74534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例  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9080" y="912960"/>
            <a:ext cx="7675560" cy="6919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38160" y="1604880"/>
            <a:ext cx="1573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表示程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320" y="1609560"/>
            <a:ext cx="1452600" cy="8636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6200" y="1609560"/>
            <a:ext cx="7705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很、极、最、太、更、更加、格外、十分、极其、比较、相当、稍微、略微、多么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67000" y="1609560"/>
            <a:ext cx="7675560" cy="8636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440" y="2473200"/>
            <a:ext cx="15001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表示范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80" y="2468520"/>
            <a:ext cx="1452600" cy="8650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69960" y="2468520"/>
            <a:ext cx="7572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都、全、单、共、光、尽、净、仅、就、只、一共、一起、一同、一道、一齐、一概、一味、统统、总共、仅仅、惟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59080" y="2468520"/>
            <a:ext cx="7675560" cy="8650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440" y="3338640"/>
            <a:ext cx="1500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表示时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80" y="3333600"/>
            <a:ext cx="1452600" cy="8636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69960" y="3333600"/>
            <a:ext cx="7572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刚、正、将、老（是）、总（是）、早就、已经、正在、立刻、马上、起初、原先、一向、永远、从来、偶尔、随时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59080" y="3333600"/>
            <a:ext cx="7675560" cy="8636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1440" y="4202280"/>
            <a:ext cx="1357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表示频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0" y="4197240"/>
            <a:ext cx="1452600" cy="6922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69960" y="4197240"/>
            <a:ext cx="7453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又、再、还、也、屡次、常常、往往、经常、不断、反复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59080" y="4197240"/>
            <a:ext cx="7675560" cy="6922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1440" y="4923000"/>
            <a:ext cx="15001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表示语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80" y="4889520"/>
            <a:ext cx="1452600" cy="8636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69960" y="4889520"/>
            <a:ext cx="745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不、没、没有、别、未必、准、一定、必定、必然、却、倒、可、就、幸亏、难道、何尝、偏偏、索性、简直、反正、多亏、也许、大约、好在、敢情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59080" y="4889520"/>
            <a:ext cx="7675560" cy="8636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440" y="5757840"/>
            <a:ext cx="14284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表示情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" y="5757840"/>
            <a:ext cx="1452240" cy="8650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69960" y="5753160"/>
            <a:ext cx="745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百般、特地、互相、擅自、几乎、渐渐、逐渐、逐步、猛然、依然、仍然、当然、毅然、果然、差点儿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59080" y="5753160"/>
            <a:ext cx="7675560" cy="8650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907920"/>
            <a:ext cx="9144000" cy="5715000"/>
          </a:xfrm>
          <a:prstGeom prst="rect">
            <a:avLst/>
          </a:prstGeom>
          <a:noFill/>
          <a:ln w="93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01:11:13Z</dcterms:created>
  <dc:creator>微软用户</dc:creator>
  <dc:description/>
  <dc:language>en-US</dc:language>
  <cp:lastModifiedBy>微软用户</cp:lastModifiedBy>
  <dcterms:modified xsi:type="dcterms:W3CDTF">2009-04-18T01:12:25Z</dcterms:modified>
  <cp:revision>2</cp:revision>
  <dc:subject/>
  <dc:title>幻灯片 1</dc:title>
</cp:coreProperties>
</file>