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557-CFC7-4EAD-B3F9-3DB2F4E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CC0-C789-4EA4-BB3C-777505E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90A-D6D2-46BD-838E-8E1E9B0A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D28-CCBE-4A5F-B11A-A1DBFF3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C9E-A62C-49AB-A763-48611F0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9A6-E305-47FC-ABFA-ADD08CB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3A2-2DAF-45B2-ACC1-7B52047E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231-7A21-4530-9113-D492098E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DD4-C3FF-4206-BE48-F0179C9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E58-BB5B-4518-BD0E-D8FA42C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387-324D-4AA3-993C-56F70B4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16F-00F5-4DA1-82C2-235748A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6D0-E784-40DF-9D1D-1848A3DB8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033800" cy="558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6021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080" y="0"/>
            <a:ext cx="458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343400" y="228600"/>
            <a:ext cx="4521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487600" cy="4523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6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肖像描写的技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45240" y="1600200"/>
            <a:ext cx="3472560" cy="2288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一、运用了大量的比喻和夸张的修辞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二、先抑后扬的手法：用伟人平庸丑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的外表来反衬其眼睛的神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98560" y="838080"/>
            <a:ext cx="12474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读与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52800" y="19810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第二部分是从哪几个方面来描写托尔斯泰的眼睛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31920" y="31240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里蕴藏着丰富的感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的威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赞美他犀利的目光，同时揭示他人生的不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505320" cy="99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用心灵感受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用头脑思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道目光就像一把锃亮的钢刀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来，又稳又准，击中要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托尔斯泰这对眼睛里有一百只眼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对珠宝有魔力，有磁性，可以把人世间的物质吸进去，然后向我们这个时代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放射出精确无误的频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这一副寒光四射的匕首转而对它们的主人时是十分可怕的，因为锋刃无情，直戳要害，正好刺中了他的心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0"/>
            <a:ext cx="2743200" cy="1676520"/>
          </a:xfrm>
          <a:prstGeom prst="cloudCallout">
            <a:avLst>
              <a:gd name="adj1" fmla="val -75578"/>
              <a:gd name="adj2" fmla="val 7395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58760" y="2286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师的语言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且含义深刻，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否都懂了，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出你的疑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81280" y="3784680"/>
            <a:ext cx="54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写出托尔斯泰目光犀利深刻，具有准确的洞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高尔基这句话运用夸张恰当地，很好地道出了托尔斯泰那种能把万事万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尽收眼底的全方位的观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托尔斯泰的文学创作，既来自于对社会生活，人间世态的观察、研究，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时又用他的艺术巨笔把它们准确地表现出来，展示了时代的本质和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这句话写出了托尔斯泰作为“清醒的现实主义”作家，对现实的批判是极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深刻而准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838080"/>
            <a:ext cx="1828800" cy="581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28600"/>
            <a:ext cx="3886200" cy="1523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5440" y="199224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一方面说托尔斯泰“可以任意支配整个世界及其知识财富”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他是幸福的；但另一方面又说他得不到“属于自已的那一份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福”，这是否矛盾？你怎样理解作者所说的“幸福”的含义？联系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斯泰的生平（主要是晚年的思想变化）讨论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505320"/>
            <a:ext cx="467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具有这种犀利目光，能够看清真相的人，可以任意支配整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世界及其知识财富”，这是说这样的人可以成为整个世界及其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财富的主宰和主人。而”能够看清真相的人“常常是痛苦的，如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斯泰看透了暴政、丑恶、虚伪和苦难，也看清了造成人间种种罪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的原因，并尽其自己毕生的努力去改变它，但总是事与愿违，所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他痛苦。晚年的托尔斯泰厌弃贵族生活，决然放弃财产，以致和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人产生矛盾，最后毅然离家出走，而客死于途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5715000"/>
            <a:ext cx="9144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7438680" y="572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生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77120" y="60958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俄国最伟大的作家。出生于贵族家庭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退学回故乡在自己领地上作改革农奴制的尝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在高加索军队中服役并开始写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、六十年代托尔斯泰看到资本主义社会重重矛盾，但找不到消灭社会罪恶的途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676520"/>
            <a:ext cx="7543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6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托尔斯泰创作了长篇历史小说《战争与和平》，这是其          创作历程中的第一个里程碑。小说结构宏大，人物众多，典型形象鲜活饱满，是一部具有史诗和编年史特色的鸿篇巨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他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修改，完成其第二部里程碑式巨著《安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卡列尼娜》，小说艺术已达炉火纯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352680"/>
            <a:ext cx="73152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托尔斯泰晚年力求过简朴的平民生活，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代中期开始，托尔斯泰增强了对社会现实的批判态度，对自己宣传的博爱而不抗恶的思想也常常感到怀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创作的长篇小说《复活》是他长期思想、艺术探索的总结，也是对俄国社会批判最全面深刻、有力的一部著作，成为世界文学不朽名著之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皇政府早就因他的《论饥荒》一文而企图将他监禁或流放，但摄于他的声望和社会舆论而中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2578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写信给日皇和沙皇反对日俄战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决意放弃财产，从家中独自出走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病逝于一个小站，享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一代文学巨匠走完其人生旅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8480" y="228600"/>
            <a:ext cx="911880" cy="44496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托尔斯泰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1828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191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772400" y="5029200"/>
            <a:ext cx="1371600" cy="135396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6676560" y="60958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隶书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4826160" cy="380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454800">
            <a:off x="152280" y="2663640"/>
            <a:ext cx="5042160" cy="4041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8000" y="1814400"/>
            <a:ext cx="3106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《重读大师》一书中王祥夫著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说：“读托尔斯泰的小说，总似乎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人能听到一种深深的叹息，感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作家在无情地鞭挞着人类的灵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而同时，也能让你感到他对人的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深的爱，一切都基于深深的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2901960" cy="4221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2952720" cy="4221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27520" cy="422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18400" y="445788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作业一：课外阅读托尔斯泰的一部小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写一篇读书笔记。（《复活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《安娜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卡列尼娜》、《战争与和平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6782040" cy="5037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64800" y="5257800"/>
            <a:ext cx="236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作业二：读《人世间最美的坟墓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一文，写写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1573200" cy="250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2657520" cy="3786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38680" y="44197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斯蒂芬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·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茨威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19520"/>
            <a:ext cx="38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的写作成就以小说和人物传记见著。他为著名文学和历史人物所作的评论和传记，使他享有很高的声誉。代表作有小说《最初的经历》《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斯蒂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茨威格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81—194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奥地利著名小说家、传记作家，出身于富裕的犹太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5445000"/>
            <a:ext cx="34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陌生女人的来信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943600"/>
            <a:ext cx="84596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记《三位大师》、《罗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兰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、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肖像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托尔斯泰的伟大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51000" y="4114800"/>
            <a:ext cx="296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速读课文，找出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的外貌描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124080"/>
            <a:ext cx="3962520" cy="685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即行动快速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60280"/>
            <a:ext cx="91440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……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1628640"/>
            <a:ext cx="2700360" cy="13737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96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09600" y="1523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74680" y="20574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09600" y="2637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97000" y="3581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4760" y="5029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860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43120" y="83808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476360"/>
            <a:ext cx="35053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133720"/>
            <a:ext cx="350532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771640"/>
            <a:ext cx="350532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1620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59040" y="441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152280"/>
            <a:ext cx="2362320" cy="1676520"/>
          </a:xfrm>
          <a:prstGeom prst="cloudCallout">
            <a:avLst>
              <a:gd name="adj1" fmla="val -31990"/>
              <a:gd name="adj2" fmla="val 75472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457200"/>
            <a:ext cx="19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228600"/>
            <a:ext cx="89154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……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1598760"/>
            <a:ext cx="25146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画出外貌描写中运用修辞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981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夸张——在描写人或事物时，故意言过其实，尽量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扩大或缩小的描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76320"/>
            <a:ext cx="1944720" cy="907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喻、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773360"/>
            <a:ext cx="87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须发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度看，你都能见到热带森林般茂密的须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样粗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修辞效果：形象鲜明，特征突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	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喻意深刻，韵味无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685800"/>
            <a:ext cx="3276720" cy="1828800"/>
          </a:xfrm>
          <a:prstGeom prst="cloudCallout">
            <a:avLst>
              <a:gd name="adj1" fmla="val -32750"/>
              <a:gd name="adj2" fmla="val 88629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0040" y="109548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在课文前半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描写托尔斯泰平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甚至丑陋的外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02080" y="3809880"/>
            <a:ext cx="3613320" cy="11912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他平庸甚至丑陋的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为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灵魂的高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衬他的眼睛精美绝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89000"/>
            <a:ext cx="173016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52280"/>
            <a:ext cx="16761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手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600200"/>
            <a:ext cx="115092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00600"/>
            <a:ext cx="115092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971800"/>
            <a:ext cx="360360" cy="1584360"/>
          </a:xfrm>
          <a:prstGeom prst="downArrow">
            <a:avLst>
              <a:gd name="adj1" fmla="val 50000"/>
              <a:gd name="adj2" fmla="val 1099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762120"/>
            <a:ext cx="304560" cy="3200400"/>
          </a:xfrm>
          <a:custGeom>
            <a:avLst/>
            <a:gdLst>
              <a:gd name="textAreaLeft" fmla="*/ 0 w 304560"/>
              <a:gd name="textAreaRight" fmla="*/ 10980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4:21Z</dcterms:created>
  <dc:creator/>
  <dc:description/>
  <dc:language>en-US</dc:language>
  <cp:lastModifiedBy>番茄花园</cp:lastModifiedBy>
  <dcterms:modified xsi:type="dcterms:W3CDTF">2010-11-09T05:03:46Z</dcterms:modified>
  <cp:revision>31</cp:revision>
  <dc:subject/>
  <dc:title>幻灯片 1</dc:title>
</cp:coreProperties>
</file>