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DEC-AFAF-46A5-A05E-F9D9F527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D5F-153A-4667-A1E4-71FDA6EA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6E7-0C62-4ED2-8F4E-4981C24F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39C-99FA-4037-90B2-13AB7ED5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A18-1145-4018-83AD-9826EC0F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417-8F03-4FD5-9C99-F1C2A9E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E59-BDEB-44EC-B5EF-49AF4F1D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DBF-8FDA-427D-9EEE-C4EAE28C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770-2468-4081-8968-11CAB25A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CD7-7361-4D1A-844F-7E9FFA16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115-6AFE-4A7C-A259-C0DCB908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36D-DA1E-42FE-B2F8-BEFEEFD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1D29-FAB6-461E-A2F7-CA7524DF87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692280"/>
          <a:ext cx="8258040" cy="59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82580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79280" y="295200"/>
          <a:ext cx="8466120" cy="656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95200"/>
                    <a:ext cx="8466120" cy="65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412920"/>
          <a:ext cx="8466120" cy="63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63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556000" y="907920"/>
          <a:ext cx="527508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907920"/>
                    <a:ext cx="52750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27280" y="1484280"/>
          <a:ext cx="527544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148428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411280" y="2060640"/>
          <a:ext cx="527544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206064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195640" y="2637000"/>
          <a:ext cx="52750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263700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50920" y="5958000"/>
          <a:ext cx="8539200" cy="90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920" y="5958000"/>
                    <a:ext cx="85392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11280" y="4076640"/>
          <a:ext cx="7758000" cy="11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076640"/>
                    <a:ext cx="7758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50920" y="412920"/>
          <a:ext cx="8466120" cy="59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04800" y="1622520"/>
          <a:ext cx="747720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800" y="1622520"/>
                    <a:ext cx="74772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39640" y="3284640"/>
          <a:ext cx="787572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284640"/>
                    <a:ext cx="78757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724360" y="4437000"/>
          <a:ext cx="527544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443700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868560" y="5013360"/>
          <a:ext cx="527544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68560" y="501336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39640" y="5589720"/>
          <a:ext cx="52754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558972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427640" y="5546880"/>
          <a:ext cx="5263920" cy="61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27640" y="5546880"/>
                    <a:ext cx="52639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77880" y="1622520"/>
          <a:ext cx="7891560" cy="22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622520"/>
                    <a:ext cx="789156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52400" y="471600"/>
          <a:ext cx="7875720" cy="576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00" y="471600"/>
                    <a:ext cx="7875720" cy="57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295200"/>
          <a:ext cx="8466120" cy="656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95200"/>
                    <a:ext cx="8466120" cy="65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412920"/>
          <a:ext cx="8466120" cy="59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357200" y="1488960"/>
          <a:ext cx="69372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1488960"/>
                    <a:ext cx="6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332000" y="2060640"/>
          <a:ext cx="69372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06064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580000" y="2060640"/>
          <a:ext cx="69372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06064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851280" y="2060640"/>
          <a:ext cx="693720" cy="59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06064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771640" y="2046240"/>
          <a:ext cx="693720" cy="59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2046240"/>
                    <a:ext cx="6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364000" y="1484280"/>
          <a:ext cx="69408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64000" y="1484280"/>
                    <a:ext cx="6940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11640" y="1484280"/>
          <a:ext cx="693720" cy="590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1484280"/>
                    <a:ext cx="6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725560" y="1413000"/>
          <a:ext cx="694080" cy="59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25560" y="1413000"/>
                    <a:ext cx="694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76720" y="4941720"/>
          <a:ext cx="337644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941720"/>
                    <a:ext cx="3376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348000" y="4351320"/>
          <a:ext cx="3554280" cy="590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4351320"/>
                    <a:ext cx="35542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348000" y="3789360"/>
          <a:ext cx="221292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48000" y="3789360"/>
                    <a:ext cx="22129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042920" y="2637000"/>
          <a:ext cx="693720" cy="590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263700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771640" y="2637000"/>
          <a:ext cx="693720" cy="590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71640" y="263700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49560" y="2622600"/>
          <a:ext cx="693720" cy="590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49560" y="2622600"/>
                    <a:ext cx="693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03640" y="5516640"/>
          <a:ext cx="3376440" cy="5904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203640" y="5516640"/>
                    <a:ext cx="3376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412920"/>
          <a:ext cx="8466120" cy="59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868560" y="819000"/>
          <a:ext cx="52754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8560" y="81900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868560" y="1539720"/>
          <a:ext cx="527544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8560" y="153972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68560" y="1989000"/>
          <a:ext cx="5275440" cy="59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68560" y="198900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68560" y="2708280"/>
          <a:ext cx="527544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68560" y="270828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868560" y="3141720"/>
          <a:ext cx="52754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8560" y="314172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635280" y="3860640"/>
          <a:ext cx="5275440" cy="594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386064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68560" y="4348080"/>
          <a:ext cx="5275440" cy="59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68560" y="434808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868560" y="4995720"/>
          <a:ext cx="5275440" cy="59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68560" y="499572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412920"/>
          <a:ext cx="8466120" cy="71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55640" y="3068640"/>
          <a:ext cx="8126280" cy="11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068640"/>
                    <a:ext cx="812628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95280" y="5157720"/>
          <a:ext cx="7462800" cy="11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5157720"/>
                    <a:ext cx="7462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8360" y="6093000"/>
          <a:ext cx="7462800" cy="11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6093000"/>
                    <a:ext cx="746280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203640" y="1557360"/>
          <a:ext cx="5275080" cy="5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55736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2637000"/>
          <a:ext cx="527544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3700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3860640"/>
          <a:ext cx="5275440" cy="59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86064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50920" y="4365720"/>
          <a:ext cx="52750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436572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50920" y="5013360"/>
          <a:ext cx="5279760" cy="78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920" y="5013360"/>
                    <a:ext cx="52797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1600" y="3790800"/>
          <a:ext cx="8259480" cy="17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00" y="3790800"/>
                    <a:ext cx="82594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68360" y="2997360"/>
          <a:ext cx="8082000" cy="11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997360"/>
                    <a:ext cx="808200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556000" y="2205000"/>
          <a:ext cx="5275080" cy="5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220500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627280" y="2781360"/>
          <a:ext cx="527544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2781360"/>
                    <a:ext cx="5275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700360" y="3357720"/>
          <a:ext cx="527508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335772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348000" y="3914640"/>
          <a:ext cx="5275440" cy="59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3914640"/>
                    <a:ext cx="5275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412920"/>
          <a:ext cx="846612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920"/>
                    <a:ext cx="846612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84360" y="1557360"/>
          <a:ext cx="759456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57360"/>
                    <a:ext cx="75945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84360" y="3284640"/>
          <a:ext cx="527508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284640"/>
                    <a:ext cx="5275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68360" y="5073480"/>
          <a:ext cx="7742160" cy="178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5073480"/>
                    <a:ext cx="774216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4:18:19Z</dcterms:created>
  <dc:creator>Administrator</dc:creator>
  <dc:description/>
  <dc:language>en-US</dc:language>
  <cp:lastModifiedBy>Windows 用户</cp:lastModifiedBy>
  <dcterms:modified xsi:type="dcterms:W3CDTF">2016-09-07T09:39:46Z</dcterms:modified>
  <cp:revision>80</cp:revision>
  <dc:subject/>
  <dc:title>幻灯片 1</dc:title>
</cp:coreProperties>
</file>