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61.wmf" ContentType="image/x-wmf"/>
  <Override PartName="/ppt/media/image23.wmf" ContentType="image/x-wmf"/>
  <Override PartName="/ppt/media/image60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19CA-E966-47A2-B91C-5F383688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004E-902E-4977-B8BD-B04E1B0D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75B-941F-495D-96EC-1CA1471C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B18-EAAC-469C-9A62-E7AA93D9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EB3-9EA8-4FA5-BD39-E06E43C7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114-0C79-4993-A549-A7F90A49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6B50-02E5-4EC6-B293-66810B9C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367-5B02-493F-A04F-4E22A18A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5B3E-E87B-42E9-BC11-090FC173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01DB-6777-4CE1-BCF3-389A284F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EF7F-1CDB-4B19-9416-4D2AC1E6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910-A2DB-47BC-A2F7-063B0936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4892-4938-497D-8B9D-FECC2FB887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692280"/>
          <a:ext cx="8258040" cy="59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92280"/>
                    <a:ext cx="825804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79280" y="295200"/>
          <a:ext cx="8466120" cy="656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95200"/>
                    <a:ext cx="8466120" cy="65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50920" y="412920"/>
          <a:ext cx="846612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50920" y="412920"/>
          <a:ext cx="8466120" cy="63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63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556000" y="907920"/>
          <a:ext cx="5275080" cy="5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907920"/>
                    <a:ext cx="527508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627280" y="1484280"/>
          <a:ext cx="527544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1484280"/>
                    <a:ext cx="5275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411280" y="2060640"/>
          <a:ext cx="5275440" cy="59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1280" y="2060640"/>
                    <a:ext cx="5275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195640" y="2637000"/>
          <a:ext cx="5275080" cy="59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95640" y="2637000"/>
                    <a:ext cx="52750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50920" y="5958000"/>
          <a:ext cx="8539200" cy="90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0920" y="5958000"/>
                    <a:ext cx="85392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50920" y="412920"/>
          <a:ext cx="846612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611280" y="4076640"/>
          <a:ext cx="7758000" cy="117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076640"/>
                    <a:ext cx="775800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50920" y="412920"/>
          <a:ext cx="8466120" cy="59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04800" y="1622520"/>
          <a:ext cx="7477200" cy="11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800" y="1622520"/>
                    <a:ext cx="74772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39640" y="3284640"/>
          <a:ext cx="7875720" cy="11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284640"/>
                    <a:ext cx="78757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724360" y="4437000"/>
          <a:ext cx="5275440" cy="59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4437000"/>
                    <a:ext cx="5275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868560" y="5013360"/>
          <a:ext cx="5275440" cy="59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68560" y="5013360"/>
                    <a:ext cx="5275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39640" y="5589720"/>
          <a:ext cx="5275440" cy="59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9640" y="5589720"/>
                    <a:ext cx="5275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427640" y="5546880"/>
          <a:ext cx="5263920" cy="618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27640" y="5546880"/>
                    <a:ext cx="526392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50920" y="412920"/>
          <a:ext cx="846612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677880" y="1622520"/>
          <a:ext cx="7891560" cy="22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7880" y="1622520"/>
                    <a:ext cx="789156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50920" y="412920"/>
          <a:ext cx="846612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752400" y="471600"/>
          <a:ext cx="7875720" cy="576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00" y="471600"/>
                    <a:ext cx="7875720" cy="57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295200"/>
          <a:ext cx="8466120" cy="656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95200"/>
                    <a:ext cx="8466120" cy="65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50920" y="412920"/>
          <a:ext cx="8466120" cy="59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357200" y="1488960"/>
          <a:ext cx="693720" cy="5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7200" y="1488960"/>
                    <a:ext cx="6937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332000" y="2060640"/>
          <a:ext cx="693720" cy="59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2060640"/>
                    <a:ext cx="6937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580000" y="2060640"/>
          <a:ext cx="693720" cy="59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0000" y="2060640"/>
                    <a:ext cx="6937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851280" y="2060640"/>
          <a:ext cx="693720" cy="59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1280" y="2060640"/>
                    <a:ext cx="6937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771640" y="2046240"/>
          <a:ext cx="693720" cy="590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71640" y="2046240"/>
                    <a:ext cx="6937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364000" y="1484280"/>
          <a:ext cx="694080" cy="590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64000" y="1484280"/>
                    <a:ext cx="6940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211640" y="1484280"/>
          <a:ext cx="693720" cy="590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1484280"/>
                    <a:ext cx="6937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725560" y="1413000"/>
          <a:ext cx="694080" cy="590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25560" y="1413000"/>
                    <a:ext cx="6940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276720" y="4941720"/>
          <a:ext cx="3376440" cy="588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76720" y="4941720"/>
                    <a:ext cx="33764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348000" y="4351320"/>
          <a:ext cx="3554280" cy="590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48000" y="4351320"/>
                    <a:ext cx="35542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348000" y="3789360"/>
          <a:ext cx="2212920" cy="58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348000" y="3789360"/>
                    <a:ext cx="22129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042920" y="2637000"/>
          <a:ext cx="693720" cy="590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42920" y="2637000"/>
                    <a:ext cx="6937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771640" y="2637000"/>
          <a:ext cx="693720" cy="5904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771640" y="2637000"/>
                    <a:ext cx="6937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949560" y="2622600"/>
          <a:ext cx="693720" cy="5904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949560" y="2622600"/>
                    <a:ext cx="6937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203640" y="5516640"/>
          <a:ext cx="3376440" cy="5904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203640" y="5516640"/>
                    <a:ext cx="33764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412920"/>
          <a:ext cx="8466120" cy="59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868560" y="819000"/>
          <a:ext cx="5275440" cy="5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8560" y="819000"/>
                    <a:ext cx="52754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868560" y="1539720"/>
          <a:ext cx="5275440" cy="59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68560" y="1539720"/>
                    <a:ext cx="52754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868560" y="1989000"/>
          <a:ext cx="5275440" cy="59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68560" y="1989000"/>
                    <a:ext cx="52754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868560" y="2708280"/>
          <a:ext cx="5275440" cy="59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68560" y="2708280"/>
                    <a:ext cx="5275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868560" y="3141720"/>
          <a:ext cx="5275440" cy="59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68560" y="3141720"/>
                    <a:ext cx="5275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635280" y="3860640"/>
          <a:ext cx="5275440" cy="594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5280" y="3860640"/>
                    <a:ext cx="52754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868560" y="4348080"/>
          <a:ext cx="5275440" cy="593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68560" y="4348080"/>
                    <a:ext cx="5275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3868560" y="4995720"/>
          <a:ext cx="5275440" cy="594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68560" y="4995720"/>
                    <a:ext cx="52754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50920" y="412920"/>
          <a:ext cx="8466120" cy="71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71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55640" y="3068640"/>
          <a:ext cx="8126280" cy="119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3068640"/>
                    <a:ext cx="812628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95280" y="5157720"/>
          <a:ext cx="7462800" cy="119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5157720"/>
                    <a:ext cx="746280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68360" y="6093000"/>
          <a:ext cx="7462800" cy="119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6093000"/>
                    <a:ext cx="746280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50920" y="412920"/>
          <a:ext cx="846612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203640" y="1557360"/>
          <a:ext cx="5275080" cy="59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557360"/>
                    <a:ext cx="52750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0" y="2637000"/>
          <a:ext cx="527544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37000"/>
                    <a:ext cx="5275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3860640"/>
          <a:ext cx="5275440" cy="59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3860640"/>
                    <a:ext cx="52754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50920" y="4365720"/>
          <a:ext cx="5275080" cy="59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920" y="4365720"/>
                    <a:ext cx="52750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50920" y="5013360"/>
          <a:ext cx="5279760" cy="782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0920" y="5013360"/>
                    <a:ext cx="52797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50920" y="412920"/>
          <a:ext cx="846612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71600" y="3790800"/>
          <a:ext cx="8259480" cy="17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00" y="3790800"/>
                    <a:ext cx="825948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50920" y="412920"/>
          <a:ext cx="846612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68360" y="2997360"/>
          <a:ext cx="8082000" cy="119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997360"/>
                    <a:ext cx="808200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50920" y="412920"/>
          <a:ext cx="846612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556000" y="2205000"/>
          <a:ext cx="5275080" cy="59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2205000"/>
                    <a:ext cx="52750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627280" y="2781360"/>
          <a:ext cx="527544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2781360"/>
                    <a:ext cx="5275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700360" y="3357720"/>
          <a:ext cx="5275080" cy="59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0360" y="3357720"/>
                    <a:ext cx="52750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348000" y="3914640"/>
          <a:ext cx="5275440" cy="59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8000" y="3914640"/>
                    <a:ext cx="52754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412920"/>
          <a:ext cx="846612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84360" y="1557360"/>
          <a:ext cx="7594560" cy="11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557360"/>
                    <a:ext cx="75945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684360" y="3284640"/>
          <a:ext cx="527508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284640"/>
                    <a:ext cx="52750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68360" y="5073480"/>
          <a:ext cx="7742160" cy="178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5073480"/>
                    <a:ext cx="774216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04:18:19Z</dcterms:created>
  <dc:creator>Administrator</dc:creator>
  <dc:description/>
  <dc:language>en-US</dc:language>
  <cp:lastModifiedBy>Windows 用户</cp:lastModifiedBy>
  <dcterms:modified xsi:type="dcterms:W3CDTF">2016-09-07T09:39:46Z</dcterms:modified>
  <cp:revision>80</cp:revision>
  <dc:subject/>
  <dc:title>幻灯片 1</dc:title>
</cp:coreProperties>
</file>