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laser.wav" ContentType="audio/x-wav"/>
  <Override PartName="/ppt/media/image16.jpeg" ContentType="image/jpeg"/>
  <Override PartName="/ppt/media/image21.jpeg" ContentType="image/jpeg"/>
  <Override PartName="/ppt/media/chimes.wav" ContentType="audio/x-wav"/>
  <Override PartName="/ppt/media/image29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3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25.jpeg" ContentType="image/jpeg"/>
  <Override PartName="/ppt/media/image4.jpeg" ContentType="image/jpeg"/>
  <Override PartName="/ppt/media/suction.wav" ContentType="audio/x-wav"/>
  <Override PartName="/ppt/media/image26.jpeg" ContentType="image/jpeg"/>
  <Override PartName="/ppt/media/image32.jpeg" ContentType="image/jpeg"/>
  <Override PartName="/ppt/media/image5.jpeg" ContentType="image/jpeg"/>
  <Override PartName="/ppt/media/image22.jpeg" ContentType="image/jpeg"/>
  <Override PartName="/ppt/media/image9.png" ContentType="image/png"/>
  <Override PartName="/ppt/media/cashreg.wav" ContentType="audio/x-wav"/>
  <Override PartName="/ppt/media/image12.jpeg" ContentType="image/jpeg"/>
  <Override PartName="/ppt/media/image27.jpeg" ContentType="image/jpeg"/>
  <Override PartName="/ppt/media/image10.jpeg" ContentType="image/jpeg"/>
  <Override PartName="/ppt/media/image28.jpeg" ContentType="image/jpeg"/>
  <Override PartName="/ppt/media/type.wav" ContentType="audio/x-wav"/>
  <Override PartName="/ppt/media/image30.png" ContentType="image/png"/>
  <Override PartName="/ppt/media/image3.jpeg" ContentType="image/jpeg"/>
  <Override PartName="/ppt/media/image24.jpeg" ContentType="image/jpeg"/>
  <Override PartName="/ppt/media/projctor.wav" ContentType="audio/x-wav"/>
  <Override PartName="/ppt/media/image31.gif" ContentType="image/gif"/>
  <Override PartName="/ppt/media/image11.jpeg" ContentType="image/jpeg"/>
  <Override PartName="/ppt/media/image8.png" ContentType="image/png"/>
  <Override PartName="/ppt/media/image14.jpeg" ContentType="image/jpeg"/>
  <Override PartName="/ppt/media/wind.wav" ContentType="audio/x-wav"/>
  <Override PartName="/ppt/media/image23.jpeg" ContentType="image/jpeg"/>
  <Override PartName="/ppt/media/hammer.wav" ContentType="audio/x-wav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4D46-8EFC-4C47-96D6-96459D3DB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3456-AE0A-4DC2-8ADB-01E4A31EA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9ED2-AD22-4A25-8CF1-920378878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A3FA-820D-4952-9B99-FAA511175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1792-952A-4A20-87C7-15E25588B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8064-3B74-4620-AB2A-9FA854FC2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C744-4B7C-4ED4-BBD8-7E16E5B2F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F4AD-2360-4A48-9ED6-86DAAFD18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2E20-CF8D-4F2D-949F-56E4AA1B0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6876-12E0-468E-91AD-D7F71F47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0A17-AB90-4E8B-8098-193B63C2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74A7-9819-4F88-911A-ECCC5FCB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1BC0F-5D86-472C-AB84-DF92E5C2765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audio" Target="../media/hammer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audio" Target="../media/suction.wav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audio" Target="../media/suction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audio" Target="../media/chimes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3.xml"/><Relationship Id="rId3" Type="http://schemas.openxmlformats.org/officeDocument/2006/relationships/image" Target="../media/image29.png"/><Relationship Id="rId4" Type="http://schemas.openxmlformats.org/officeDocument/2006/relationships/slide" Target="slide14.xml"/><Relationship Id="rId5" Type="http://schemas.openxmlformats.org/officeDocument/2006/relationships/image" Target="../media/image30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0.png"/><Relationship Id="rId9" Type="http://schemas.openxmlformats.org/officeDocument/2006/relationships/image" Target="../media/image30.png"/><Relationship Id="rId10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audio" Target="../media/projctor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6.xml"/><Relationship Id="rId3" Type="http://schemas.openxmlformats.org/officeDocument/2006/relationships/image" Target="../media/image7.png"/><Relationship Id="rId4" Type="http://schemas.openxmlformats.org/officeDocument/2006/relationships/slide" Target="slide2.xml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5.xml"/><Relationship Id="rId3" Type="http://schemas.openxmlformats.org/officeDocument/2006/relationships/image" Target="../media/image9.png"/><Relationship Id="rId4" Type="http://schemas.openxmlformats.org/officeDocument/2006/relationships/slide" Target="slide2.xml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cw22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4343400" cy="48765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029200" y="1447920"/>
            <a:ext cx="4114800" cy="48765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981080" y="228600"/>
            <a:ext cx="514368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从百草园到三味书屋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4" name=""/>
          <p:cNvSpPr/>
          <p:nvPr/>
        </p:nvSpPr>
        <p:spPr>
          <a:xfrm>
            <a:off x="7391520" y="7621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鲁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15328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朗读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--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段，回答问题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什么说百草园是我的乐园？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1844640"/>
            <a:ext cx="750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因为这里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景物美好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故事神奇捕鸟有趣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00680" y="2990880"/>
            <a:ext cx="427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段和第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—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段是什么关系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71480" y="3611520"/>
            <a:ext cx="275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总分关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559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赏析第二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描写的顺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61480" y="2997360"/>
            <a:ext cx="47401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从整段来看，先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整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后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局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从第一层来看，由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静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动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从第二层来看，先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总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后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分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从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动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植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4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9" dur="2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85800" y="5876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碧绿的菜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8120" y="46080"/>
            <a:ext cx="785988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78920" y="5589720"/>
            <a:ext cx="392436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光滑的石井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68120" y="46080"/>
            <a:ext cx="4259520" cy="55436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716360" y="115920"/>
            <a:ext cx="3745080" cy="55450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984560" y="58960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Times New Roman"/>
              </a:rPr>
              <a:t>高大的皂荚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85800" y="5586480"/>
            <a:ext cx="77724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紫红的桑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148360" y="260280"/>
            <a:ext cx="3960720" cy="53276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4321080" cy="53276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643280" y="1341360"/>
            <a:ext cx="30481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5800" y="5013000"/>
            <a:ext cx="777240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鸣蝉在树叶里长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71640" y="46080"/>
            <a:ext cx="640872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cc00"/>
                </a:solidFill>
                <a:latin typeface="Times New Roman"/>
              </a:rPr>
              <a:t>肥胖的黄蜂伏在菜花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47640" y="404640"/>
            <a:ext cx="4980240" cy="37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78920" y="5589720"/>
            <a:ext cx="74170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轻捷的叫天子忽然从草间直窜向云霄里去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5411520" cy="55166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643280" y="1125360"/>
            <a:ext cx="424980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-181080" y="46080"/>
            <a:ext cx="6588360" cy="48956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-36720" y="3499920"/>
            <a:ext cx="900108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油蛉在这里低唱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蟋蟀们在这里弹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140360" y="907920"/>
            <a:ext cx="4968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5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0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5" dur="1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24000" y="5581440"/>
            <a:ext cx="777240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翻开断砖来，有时会遇见蜈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7524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08000" y="333000"/>
            <a:ext cx="896472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鲁迅，原名周树人，浙江绍兴人，伟大的文学家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思想家、革命家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著有杂文、小说、散文、诗歌等。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《从百草园到三味书屋》选自《朝花夕拾》。这是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部散文集，共搜集了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篇文章，大部分作品是作者回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自己童年、少年时代生活的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写本篇文章时鲁迅已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多岁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这部散文集题名为《朝花夕拾》，意思是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早上的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到晚上才拾取，晚年了，回忆起少年时代的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-36360" y="260280"/>
            <a:ext cx="6408720" cy="62643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805800" y="260280"/>
            <a:ext cx="167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Times New Roman"/>
              </a:rPr>
              <a:t>还有斑蝥 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Times New Roman"/>
              </a:rPr>
              <a:t>倘若用手指按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Times New Roman"/>
              </a:rPr>
              <a:t>它的脊梁，便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Times New Roman"/>
              </a:rPr>
              <a:t>啪的一声，从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Times New Roman"/>
              </a:rPr>
              <a:t>窍喷出一阵烟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85800" y="4217760"/>
            <a:ext cx="7772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何首乌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                       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木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68120" y="46080"/>
            <a:ext cx="5340600" cy="35496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003640" y="333360"/>
            <a:ext cx="4140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2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800" y="529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何首乌根是有像人形的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吃了便可以成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411280" y="189000"/>
            <a:ext cx="36734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544680" y="4646520"/>
            <a:ext cx="7772400" cy="17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如果不怕刺，还可以摘到覆盆子，像小珊瑚珠攒成的小球，又酸又甜，色味都比桑葚要好得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500720" y="0"/>
            <a:ext cx="4608360" cy="4653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0" y="46080"/>
            <a:ext cx="442764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9280" y="2060640"/>
            <a:ext cx="8496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单是”是强调的重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不必说”撇开一些东西，是为了突出“单是”的内容。既然“单是”这一点已经趣味无穷了，那么园中的乐趣比比皆是了。这样写，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突出了百草园的无穷乐趣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11280" y="257040"/>
            <a:ext cx="7632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不必说……也不必说……单是……”哪个内容是强调的重点？这个句式在表达上什么作用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4920" y="44280"/>
            <a:ext cx="70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百草园有哪些景物，它们各有什么特点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35280" y="1125360"/>
            <a:ext cx="4753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79280" y="476280"/>
            <a:ext cx="6580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第一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碧绿的菜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光滑的石井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高大的皂荚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紫红的桑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鸣蝉长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肥胖的黄蜂</a:t>
            </a:r>
            <a:r>
              <a:rPr b="1" lang="zh-CN" sz="28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---</a:t>
            </a:r>
            <a:r>
              <a:rPr b="1" lang="zh-CN" sz="28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轻捷的叫天子</a:t>
            </a:r>
            <a:r>
              <a:rPr b="1" lang="zh-CN" sz="28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---</a:t>
            </a:r>
            <a:r>
              <a:rPr b="1" lang="zh-CN" sz="28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300720" y="4869000"/>
            <a:ext cx="121932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068720" y="549360"/>
            <a:ext cx="820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Times New Roman"/>
              </a:rPr>
              <a:t>第二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Times New Roman"/>
              </a:rPr>
              <a:t>油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Times New Roman"/>
              </a:rPr>
              <a:t>蟋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Times New Roman"/>
              </a:rPr>
              <a:t>蜈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Times New Roman"/>
              </a:rPr>
              <a:t>斑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43280" y="981000"/>
            <a:ext cx="3121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低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弹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啪 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069080" y="2781360"/>
            <a:ext cx="1034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何首乌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木莲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木莲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何首乌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覆盆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64000" y="2781360"/>
            <a:ext cx="460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缠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像莲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臃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像小球  又酸又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15280" y="501336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者从哪些角度来描写这些景物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92200" y="5516640"/>
            <a:ext cx="397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视觉  触觉  听觉  味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5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11280" y="549000"/>
            <a:ext cx="769608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本段描写景物时用了哪些修辞手法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什么好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920" y="2637000"/>
            <a:ext cx="903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形象生动地写出了孩子心中奇妙的想象和特殊的感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表现了作者对自然的热爱之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96560" y="19018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排比比喻拟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本段写了哪几件儿童淘气顽皮的趣事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翻砖头见蜈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按斑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拔何首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摘覆盆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900000" y="620280"/>
            <a:ext cx="76932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写美女蛇的故事有什么作用</a:t>
            </a:r>
            <a:r>
              <a:rPr b="0" lang="zh-CN" sz="2800" spc="-1" strike="noStrike">
                <a:solidFill>
                  <a:srgbClr val="3333ff"/>
                </a:solidFill>
                <a:latin typeface="Times New Roman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4000" y="2276640"/>
            <a:ext cx="7416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激发读者的阅读兴趣，给百草园增添了神秘色彩，丰富了百草园作为儿童乐园的情趣。</a:t>
            </a:r>
            <a:r>
              <a:rPr b="1" lang="zh-CN" sz="4000" spc="-1" strike="noStrike">
                <a:solidFill>
                  <a:srgbClr val="cc00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朗读第七段，用四个字概括段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雪地捕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924360" y="304920"/>
            <a:ext cx="4321080" cy="6335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24000" y="262080"/>
            <a:ext cx="3003480" cy="6119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922560" y="260280"/>
            <a:ext cx="4321440" cy="630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75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75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50" dur="2000" fill="hold"/>
                                        <p:tgtEl>
                                          <p:spTgt spid="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604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者是怎样描写捕鸟的，为什么要写捕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先写捕鸟的时间、条件、方法，然后写捕鸟的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获、经验教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为了表现百草园给爱玩的儿童带来的无穷乐趣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116000" y="333360"/>
            <a:ext cx="69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阅读第七节，思考下列问题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>
            <a:hlinkClick r:id="rId1" action="ppaction://hlinksldjump"/>
          </p:cNvPr>
          <p:cNvSpPr/>
          <p:nvPr/>
        </p:nvSpPr>
        <p:spPr>
          <a:xfrm>
            <a:off x="990720" y="1143000"/>
            <a:ext cx="716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者先写百草园冬天的“无味”，然后写下雪带来的乐趣，这是什么写法？起什么作用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rId2" action="ppaction://hlinksldjump"/>
          </p:cNvPr>
          <p:cNvSpPr/>
          <p:nvPr/>
        </p:nvSpPr>
        <p:spPr>
          <a:xfrm>
            <a:off x="468360" y="327672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找出表示捕鸟动作的词，说说这些词的表达作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457200" y="1143000"/>
            <a:ext cx="457200" cy="457200"/>
          </a:xfrm>
          <a:prstGeom prst="rect">
            <a:avLst/>
          </a:prstGeom>
          <a:ln w="0">
            <a:noFill/>
          </a:ln>
        </p:spPr>
      </p:pic>
      <p:grpSp>
        <p:nvGrpSpPr>
          <p:cNvPr id="191" name=""/>
          <p:cNvGrpSpPr/>
          <p:nvPr/>
        </p:nvGrpSpPr>
        <p:grpSpPr>
          <a:xfrm>
            <a:off x="457200" y="2590920"/>
            <a:ext cx="7467480" cy="533160"/>
            <a:chOff x="457200" y="2590920"/>
            <a:chExt cx="7467480" cy="533160"/>
          </a:xfrm>
        </p:grpSpPr>
        <p:sp>
          <p:nvSpPr>
            <p:cNvPr id="192" name="">
              <a:hlinkClick r:id="rId4" action="ppaction://hlinksldjump"/>
            </p:cNvPr>
            <p:cNvSpPr/>
            <p:nvPr/>
          </p:nvSpPr>
          <p:spPr>
            <a:xfrm>
              <a:off x="1066680" y="2590920"/>
              <a:ext cx="685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以没有雪的无味来衬托下雪带来的乐趣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3" name="" descr=""/>
            <p:cNvPicPr/>
            <p:nvPr/>
          </p:nvPicPr>
          <p:blipFill>
            <a:blip r:embed="rId5"/>
            <a:stretch/>
          </p:blipFill>
          <p:spPr>
            <a:xfrm>
              <a:off x="457200" y="266688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4" name=""/>
          <p:cNvSpPr/>
          <p:nvPr/>
        </p:nvSpPr>
        <p:spPr>
          <a:xfrm>
            <a:off x="1047600" y="3809880"/>
            <a:ext cx="6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30320" y="3809880"/>
            <a:ext cx="5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728800" y="38098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16480" y="3809880"/>
            <a:ext cx="52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95880" y="3809880"/>
            <a:ext cx="59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40440" y="380988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649920" y="3809880"/>
            <a:ext cx="5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900760" y="3809880"/>
            <a:ext cx="4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67480" y="3809880"/>
            <a:ext cx="55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66680" y="434340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准确而生动地表现了雪地捕鸟的过程，写出了雪后捕鸟的乐趣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6"/>
          <a:stretch/>
        </p:blipFill>
        <p:spPr>
          <a:xfrm>
            <a:off x="108000" y="33526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7"/>
          <a:stretch/>
        </p:blipFill>
        <p:spPr>
          <a:xfrm>
            <a:off x="457200" y="3886200"/>
            <a:ext cx="457200" cy="457200"/>
          </a:xfrm>
          <a:prstGeom prst="rect">
            <a:avLst/>
          </a:prstGeom>
          <a:ln w="0">
            <a:noFill/>
          </a:ln>
        </p:spPr>
      </p:pic>
      <p:grpSp>
        <p:nvGrpSpPr>
          <p:cNvPr id="206" name=""/>
          <p:cNvGrpSpPr/>
          <p:nvPr/>
        </p:nvGrpSpPr>
        <p:grpSpPr>
          <a:xfrm>
            <a:off x="457200" y="2057400"/>
            <a:ext cx="7467480" cy="533520"/>
            <a:chOff x="457200" y="2057400"/>
            <a:chExt cx="7467480" cy="533520"/>
          </a:xfrm>
        </p:grpSpPr>
        <p:sp>
          <p:nvSpPr>
            <p:cNvPr id="207" name=""/>
            <p:cNvSpPr/>
            <p:nvPr/>
          </p:nvSpPr>
          <p:spPr>
            <a:xfrm>
              <a:off x="1066680" y="2057400"/>
              <a:ext cx="685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先抑后扬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8" name="" descr=""/>
            <p:cNvPicPr/>
            <p:nvPr/>
          </p:nvPicPr>
          <p:blipFill>
            <a:blip r:embed="rId8"/>
            <a:stretch/>
          </p:blipFill>
          <p:spPr>
            <a:xfrm>
              <a:off x="457200" y="213372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9" name="" descr=""/>
          <p:cNvPicPr/>
          <p:nvPr/>
        </p:nvPicPr>
        <p:blipFill>
          <a:blip r:embed="rId9"/>
          <a:stretch/>
        </p:blipFill>
        <p:spPr>
          <a:xfrm>
            <a:off x="457200" y="441972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7138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九段写了什么内容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现了怎样的感情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它在全文中起什么作用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5280" y="2781360"/>
            <a:ext cx="8353440" cy="30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家里人要送我去书塾，我不能常到百草园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表现了我对百草园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恋恋不舍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的感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承上启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78920" y="404280"/>
            <a:ext cx="84963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我”即将结束在百草园的生活，要去私塾读书，“我”是怎么想的？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我”为何留恋百草园的生活？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95280" y="148428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三个“也许”，他在反复揣测，认为可能是做错了事所受的惩罚。可见他对百草园是多么的留恋。预示着三味书屋与百草园将是截然不同的一块天地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95280" y="350028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在百草园里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我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由由自在，无拘无束。认识了许多书本中没有的东西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86840" y="6370560"/>
            <a:ext cx="857160" cy="4795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  <p:sndAc>
      <p:stSnd>
        <p:snd r:embed="rId2" name="projctor.wav"/>
      </p:stSnd>
    </p:sndAc>
  </p:transition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7360" y="-521748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4920" y="43920"/>
            <a:ext cx="8280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”到底知不知道被送到私塾去的原因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是从哪些词语看出来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d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我的蟋蟀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!Ad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我的覆盆子们和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莲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!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句话运用什么修辞手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达了作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什么心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0920" y="981000"/>
            <a:ext cx="8569080" cy="18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不知道，从“也许是……也许是……也许是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都无从知道”可以看出，三个“也许是”表示尽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猜测的原因很多，但一个也无法肯定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868480" y="3933720"/>
            <a:ext cx="344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用拟人修辞手法，表达了“我”对百草园的恋恋不舍之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10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10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10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8" dur="1000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3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4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5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0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1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2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324000" y="105264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写百草园，始终围绕着一个“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乐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”字——乐于观察百草园的景物，乐于听美女蛇的故事，乐于捕鸟活动，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表现了儿童热爱大自然，喜欢自由快乐生活的心理。</a:t>
            </a:r>
            <a:r>
              <a:rPr b="1" lang="zh-CN" sz="3200" spc="-1" strike="noStrike">
                <a:solidFill>
                  <a:srgbClr val="cc00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8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3" dur="2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3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3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79280" y="103824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第二部分是从哪些方面写三味书屋的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26920" y="1989000"/>
            <a:ext cx="5400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书屋的环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入学的礼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书屋的先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教学的内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中宋"/>
                <a:ea typeface="华文中宋"/>
              </a:rPr>
              <a:t>爱玩的孩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8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找出写三味书屋环境的句子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8000" y="47592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问“怪哉”，先生不高兴，脸上有怒色，这说明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先生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＿＿＿＿＿＿＿＿＿＿＿＿＿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49200" y="981000"/>
            <a:ext cx="95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Times New Roman"/>
              </a:rPr>
              <a:t>迂腐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，不喜欢学生问课外的东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878840" y="2678040"/>
            <a:ext cx="4606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他有一条戒尺，但是不常用，也有罚跪的规则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但也不常用，普通总不过瞪几眼”，这说明先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＿＿＿＿＿＿＿＿＿＿＿＿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473560" y="3429000"/>
            <a:ext cx="52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Times New Roman"/>
              </a:rPr>
              <a:t>和蔼善良，对学生严而不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50920" y="1268280"/>
            <a:ext cx="871200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、时间就是生命，无端的空耗别人的时间，其实无异于谋财害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、我们从古以来，就有埋头苦干的人，有拼命硬干的人，有为民请命的人，有舍身求法的人，……这就是中国的脊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、时间就像海绵里的水，只要你愿意挤，总还是有的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、我好象是一只牛，吃的是草，挤出的是牛奶。</a:t>
            </a:r>
            <a:br>
              <a:rPr sz="2800"/>
            </a:b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、哪里有天才，我是把别人喝咖啡的工夫都用在了工作上了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03640" y="260280"/>
            <a:ext cx="31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仿宋_GB2312"/>
              </a:rPr>
              <a:t>鲁迅名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917000" y="90792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三味书屋的先生是个什么样的人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79280" y="1773360"/>
            <a:ext cx="87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和蔼，善良，有点迂腐，教书认真，对学生严而不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955680" y="2822400"/>
            <a:ext cx="12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段和最后一段些什么内容，表现什么思想感情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45320" y="3808440"/>
            <a:ext cx="466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课间孩子们偷偷到三味书屋后面小园里去玩儿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课堂上，孩子们趁先生读书入神时做戏和画画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表现了孩子爱玩儿的天性和对自由快乐生活的追求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7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8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9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4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5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6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4000" y="987480"/>
            <a:ext cx="80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这篇课文表现了作者怎样的思想感情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4000" y="214776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通过对百草园和三味书屋的回忆，表现作者儿童时代对自然的热爱，对自由快乐生活的追求，以及天真、幼稚、欢乐的心理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3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23880" y="3049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注意下列词语的字音和字形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905120" y="1066680"/>
            <a:ext cx="90000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确凿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038480" y="1066680"/>
            <a:ext cx="90036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菜畦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095880" y="1066680"/>
            <a:ext cx="90036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蟋蟀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905120" y="1820880"/>
            <a:ext cx="90000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缠络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038480" y="1819440"/>
            <a:ext cx="90036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觅食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95880" y="1819440"/>
            <a:ext cx="90036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竹筛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038480" y="2571840"/>
            <a:ext cx="90036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渊博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095880" y="2571840"/>
            <a:ext cx="90036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鼎沸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905120" y="2573280"/>
            <a:ext cx="90000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宿儒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095880" y="3325680"/>
            <a:ext cx="90036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倜傥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038480" y="3325680"/>
            <a:ext cx="90036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锡箔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905120" y="3327480"/>
            <a:ext cx="90000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珊瑚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095880" y="4078440"/>
            <a:ext cx="44928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攒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172200" y="4832280"/>
            <a:ext cx="44928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敛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905120" y="4079880"/>
            <a:ext cx="90000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脑髓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038480" y="4078440"/>
            <a:ext cx="90036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蝉蜕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8" name=""/>
          <p:cNvSpPr/>
          <p:nvPr/>
        </p:nvSpPr>
        <p:spPr>
          <a:xfrm>
            <a:off x="2819520" y="99072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zá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76920" y="99072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q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86600" y="9907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shuà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7668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chá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76920" y="17668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m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086600" y="17668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shā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19520" y="254484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s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876920" y="254484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yuā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086600" y="254484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dǐ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086600" y="33210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tìtǎ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3321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shā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920" y="332100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b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19520" y="409896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su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76920" y="409896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tu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086600" y="40989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cuá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905120" y="4832280"/>
            <a:ext cx="90000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盔甲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038480" y="4832280"/>
            <a:ext cx="90036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东方朔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5" name=""/>
          <p:cNvSpPr/>
          <p:nvPr/>
        </p:nvSpPr>
        <p:spPr>
          <a:xfrm>
            <a:off x="2819520" y="487692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ku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76920" y="4876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shu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086600" y="4876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liǎ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48720" y="5867280"/>
            <a:ext cx="674640" cy="674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694560" y="5857920"/>
            <a:ext cx="674640" cy="674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523880" y="4572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注意下列词语的字形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828800" y="5029200"/>
            <a:ext cx="90000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和蔼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828800" y="1295280"/>
            <a:ext cx="90000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长吟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556080" y="1295280"/>
            <a:ext cx="90000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轻捷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167440" y="1295280"/>
            <a:ext cx="90000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云霄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629400" y="1295280"/>
            <a:ext cx="90000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弹琴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828800" y="2228760"/>
            <a:ext cx="90000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脊梁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556080" y="2228760"/>
            <a:ext cx="90000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臃肿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629400" y="2228760"/>
            <a:ext cx="190512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牵连不断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556080" y="3162240"/>
            <a:ext cx="90000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无妨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167440" y="5029200"/>
            <a:ext cx="45720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倘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167440" y="2228760"/>
            <a:ext cx="900000" cy="5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机关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167440" y="3162240"/>
            <a:ext cx="91440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无味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556080" y="4095720"/>
            <a:ext cx="90000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啄食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629400" y="3162240"/>
            <a:ext cx="167652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高枕而卧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28800" y="3162240"/>
            <a:ext cx="90000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陌生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828800" y="4095720"/>
            <a:ext cx="90000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鉴赏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629400" y="4095720"/>
            <a:ext cx="175248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人迹罕至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629400" y="5029200"/>
            <a:ext cx="53352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躁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167440" y="4095720"/>
            <a:ext cx="90000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书塾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556080" y="5029200"/>
            <a:ext cx="90000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质朴</a:t>
            </a:r>
            <a:endParaRPr b="1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1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705720" y="5791320"/>
            <a:ext cx="674640" cy="674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848720" y="5791320"/>
            <a:ext cx="674640" cy="674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995200" y="476280"/>
            <a:ext cx="172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Times New Roman"/>
              </a:rPr>
              <a:t>人迹罕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：少有人来。罕，稀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1052640"/>
            <a:ext cx="847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Times New Roman"/>
              </a:rPr>
              <a:t>人声鼎沸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：形容人声喧闹。鼎沸，水开了，发出响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94440" y="33289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Times New Roman"/>
              </a:rPr>
              <a:t>无处觅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22050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Times New Roman"/>
              </a:rPr>
              <a:t>高枕而卧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：比喻无所顾忌。今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比喻不加警惕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240" y="4653000"/>
            <a:ext cx="234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攒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uá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凑在一块儿）成小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46880" y="5373720"/>
            <a:ext cx="332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拗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ǎo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用力弯曲）过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62920" y="4005360"/>
            <a:ext cx="305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敛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liǎ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放）在盒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476280"/>
            <a:ext cx="3190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题目分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4920" y="2636640"/>
            <a:ext cx="84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课文大致分为两个部分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一部分写百草园，另一部分写三味书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文章主要是以空间变换为顺序记叙的。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87280" y="1341360"/>
            <a:ext cx="4590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2920" y="1197000"/>
            <a:ext cx="873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本文题为“从百草园到三味书屋”，从这个题目我们可以得到哪些信息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08000" y="333000"/>
            <a:ext cx="64800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文章哪几段文字写百草园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哪几段文章写三味书屋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298116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—8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百草园的生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4292640"/>
            <a:ext cx="81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0—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尾）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三味书屋的生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6-10-04T05:50:12Z</dcterms:modified>
  <cp:revision>191</cp:revision>
  <dc:subject/>
  <dc:title>PowerPoint 演示文稿</dc:title>
</cp:coreProperties>
</file>