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media/image16.jpeg" ContentType="image/jpeg"/>
  <Override PartName="/ppt/media/image21.jpeg" ContentType="image/jpeg"/>
  <Override PartName="/ppt/media/chimes.wav" ContentType="audio/x-wav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25.jpeg" ContentType="image/jpeg"/>
  <Override PartName="/ppt/media/image4.jpeg" ContentType="image/jpeg"/>
  <Override PartName="/ppt/media/suction.wav" ContentType="audio/x-wav"/>
  <Override PartName="/ppt/media/image26.jpeg" ContentType="image/jpeg"/>
  <Override PartName="/ppt/media/image32.jpeg" ContentType="image/jpeg"/>
  <Override PartName="/ppt/media/image5.jpeg" ContentType="image/jpeg"/>
  <Override PartName="/ppt/media/image22.jpeg" ContentType="image/jpeg"/>
  <Override PartName="/ppt/media/image9.png" ContentType="image/png"/>
  <Override PartName="/ppt/media/cashreg.wav" ContentType="audio/x-wav"/>
  <Override PartName="/ppt/media/image12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type.wav" ContentType="audio/x-wav"/>
  <Override PartName="/ppt/media/image30.png" ContentType="image/png"/>
  <Override PartName="/ppt/media/image3.jpeg" ContentType="image/jpeg"/>
  <Override PartName="/ppt/media/image24.jpeg" ContentType="image/jpeg"/>
  <Override PartName="/ppt/media/projctor.wav" ContentType="audio/x-wav"/>
  <Override PartName="/ppt/media/image31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wind.wav" ContentType="audio/x-wav"/>
  <Override PartName="/ppt/media/image23.jpeg" ContentType="image/jpeg"/>
  <Override PartName="/ppt/media/hammer.wav" ContentType="audio/x-wav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FBDC-9E3B-43F5-B1AB-9F5AC1BE5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DF9-11CE-402F-81FF-EE8DBAEB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DBA-13D2-4D1A-9BCE-57811239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EC9D-E66E-4833-BF88-444980F1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4186-2AC5-4592-87ED-3A09A364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F69F-4BDD-42F9-B1CF-95829822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8C9A-900D-40AA-B959-BF0A6468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2E2F-3F64-45E1-84EC-732F8F8A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0659-B759-4940-8883-0780F1FF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0B4-38AA-4C17-8D58-E129CDA8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C2F6-8D31-43F0-A712-80BA15CB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BFA2-F961-4FA1-9440-63007DA8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7043-D1EC-48BB-9809-96BE829E5C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hamme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suction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29.png"/><Relationship Id="rId4" Type="http://schemas.openxmlformats.org/officeDocument/2006/relationships/slide" Target="slide14.xml"/><Relationship Id="rId5" Type="http://schemas.openxmlformats.org/officeDocument/2006/relationships/image" Target="../media/image30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audio" Target="../media/projctor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6.xml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cw2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343400" cy="4876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4114800" cy="4876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981080" y="228600"/>
            <a:ext cx="514368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从百草园到三味书屋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762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鲁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1532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朗读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--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，回答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说百草园是我的乐园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844640"/>
            <a:ext cx="75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因为这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景物美好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故事神奇捕鸟有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00680" y="299088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和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—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是什么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1480" y="3611520"/>
            <a:ext cx="27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总分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59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赏析第二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写的顺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61480" y="2997360"/>
            <a:ext cx="47401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整段来看，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整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局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第一层来看，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静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动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第二层来看，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总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分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从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动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植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587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碧绿的菜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8120" y="46080"/>
            <a:ext cx="78598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8920" y="5589720"/>
            <a:ext cx="392436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光滑的石井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8120" y="46080"/>
            <a:ext cx="4259520" cy="5543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716360" y="115920"/>
            <a:ext cx="3745080" cy="5545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984560" y="5896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高大的皂荚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558648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紫红的桑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48360" y="260280"/>
            <a:ext cx="3960720" cy="5327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321080" cy="5327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643280" y="1341360"/>
            <a:ext cx="30481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5013000"/>
            <a:ext cx="77724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鸣蝉在树叶里长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71640" y="46080"/>
            <a:ext cx="6408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肥胖的黄蜂伏在菜花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4980240" cy="37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8920" y="5589720"/>
            <a:ext cx="74170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轻捷的叫天子忽然从草间直窜向云霄里去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5411520" cy="5516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643280" y="1125360"/>
            <a:ext cx="42498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181080" y="46080"/>
            <a:ext cx="6588360" cy="4895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720" y="3499920"/>
            <a:ext cx="90010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油蛉在这里低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蟋蟀们在这里弹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140360" y="907920"/>
            <a:ext cx="496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5581440"/>
            <a:ext cx="7772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翻开断砖来，有时会遇见蜈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7524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08000" y="33300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鲁迅，原名周树人，浙江绍兴人，伟大的文学家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思想家、革命家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著有杂文、小说、散文、诗歌等。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《从百草园到三味书屋》选自《朝花夕拾》。这是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部散文集，共搜集了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篇文章，大部分作品是作者回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自己童年、少年时代生活的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本篇文章时鲁迅已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岁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这部散文集题名为《朝花夕拾》，意思是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早上的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到晚上才拾取，晚年了，回忆起少年时代的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36360" y="260280"/>
            <a:ext cx="6408720" cy="6264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805800" y="260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还有斑蝥 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倘若用手指按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它的脊梁，便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啪的一声，从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窍喷出一阵烟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421776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何首乌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木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8120" y="46080"/>
            <a:ext cx="5340600" cy="3549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03640" y="333360"/>
            <a:ext cx="4140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529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何首乌根是有像人形的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吃了便可以成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3673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44680" y="464652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如果不怕刺，还可以摘到覆盆子，像小珊瑚珠攒成的小球，又酸又甜，色味都比桑葚要好得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08360" cy="4653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46080"/>
            <a:ext cx="44276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9280" y="2060640"/>
            <a:ext cx="8496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单是”是强调的重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不必说”撇开一些东西，是为了突出“单是”的内容。既然“单是”这一点已经趣味无穷了，那么园中的乐趣比比皆是了。这样写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突出了百草园的无穷乐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257040"/>
            <a:ext cx="7632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必说……也不必说……单是……”哪个内容是强调的重点？这个句式在表达上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4920" y="44280"/>
            <a:ext cx="70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百草园有哪些景物，它们各有什么特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35280" y="1125360"/>
            <a:ext cx="475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476280"/>
            <a:ext cx="6580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第一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碧绿的菜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光滑的石井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高大的皂荚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紫红的桑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鸣蝉长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肥胖的黄蜂</a:t>
            </a:r>
            <a:r>
              <a:rPr b="1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轻捷的叫天子</a:t>
            </a:r>
            <a:r>
              <a:rPr b="1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00720" y="4869000"/>
            <a:ext cx="12193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68720" y="549360"/>
            <a:ext cx="82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第二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油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蟋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蜈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斑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3280" y="981000"/>
            <a:ext cx="3121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低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弹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啪 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69080" y="2781360"/>
            <a:ext cx="1034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何首乌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木莲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木莲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何首乌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覆盆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64000" y="2781360"/>
            <a:ext cx="46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缠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像莲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臃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像小球  又酸又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15280" y="50133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者从哪些角度来描写这些景物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2200" y="551664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视觉  触觉  听觉  味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76960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段描写景物时用了哪些修辞手法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什么好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920" y="2637000"/>
            <a:ext cx="90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形象生动地写出了孩子心中奇妙的想象和特殊的感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表现了作者对自然的热爱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96560" y="1901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排比比喻拟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段写了哪几件儿童淘气顽皮的趣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翻砖头见蜈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按斑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拔何首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摘覆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00000" y="620280"/>
            <a:ext cx="76932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写美女蛇的故事有什么作用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276640"/>
            <a:ext cx="741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激发读者的阅读兴趣，给百草园增添了神秘色彩，丰富了百草园作为儿童乐园的情趣。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朗读第七段，用四个字概括段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雪地捕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24360" y="304920"/>
            <a:ext cx="4321080" cy="6335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3003480" cy="611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22560" y="260280"/>
            <a:ext cx="4321440" cy="63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0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是怎样描写捕鸟的，为什么要写捕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写捕鸟的时间、条件、方法，然后写捕鸟的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获、经验教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为了表现百草园给爱玩的儿童带来的无穷乐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33336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阅读第七节，思考下列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990720" y="114300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者先写百草园冬天的“无味”，然后写下雪带来的乐趣，这是什么写法？起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468360" y="327672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找出表示捕鸟动作的词，说说这些词的表达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57200" y="114300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457200" y="2590920"/>
            <a:ext cx="7467480" cy="533160"/>
            <a:chOff x="457200" y="2590920"/>
            <a:chExt cx="7467480" cy="533160"/>
          </a:xfrm>
        </p:grpSpPr>
        <p:sp>
          <p:nvSpPr>
            <p:cNvPr id="192" name="">
              <a:hlinkClick r:id="rId4" action="ppaction://hlinksldjump"/>
            </p:cNvPr>
            <p:cNvSpPr/>
            <p:nvPr/>
          </p:nvSpPr>
          <p:spPr>
            <a:xfrm>
              <a:off x="1066680" y="259092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以没有雪的无味来衬托下雪带来的乐趣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5"/>
            <a:stretch/>
          </p:blipFill>
          <p:spPr>
            <a:xfrm>
              <a:off x="457200" y="26668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"/>
          <p:cNvSpPr/>
          <p:nvPr/>
        </p:nvSpPr>
        <p:spPr>
          <a:xfrm>
            <a:off x="1047600" y="3809880"/>
            <a:ext cx="6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30320" y="380988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28800" y="3809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16480" y="380988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95880" y="3809880"/>
            <a:ext cx="5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40440" y="38098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49920" y="380988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00760" y="38098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67480" y="380988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43434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准确而生动地表现了雪地捕鸟的过程，写出了雪后捕鸟的乐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1080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457200" y="388620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457200" y="2057400"/>
            <a:ext cx="7467480" cy="533520"/>
            <a:chOff x="457200" y="2057400"/>
            <a:chExt cx="7467480" cy="533520"/>
          </a:xfrm>
        </p:grpSpPr>
        <p:sp>
          <p:nvSpPr>
            <p:cNvPr id="207" name=""/>
            <p:cNvSpPr/>
            <p:nvPr/>
          </p:nvSpPr>
          <p:spPr>
            <a:xfrm>
              <a:off x="1066680" y="20574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先抑后扬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8"/>
            <a:stretch/>
          </p:blipFill>
          <p:spPr>
            <a:xfrm>
              <a:off x="457200" y="213372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9" name="" descr=""/>
          <p:cNvPicPr/>
          <p:nvPr/>
        </p:nvPicPr>
        <p:blipFill>
          <a:blip r:embed="rId9"/>
          <a:stretch/>
        </p:blipFill>
        <p:spPr>
          <a:xfrm>
            <a:off x="457200" y="44197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九段写了什么内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了怎样的感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在全文中起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2781360"/>
            <a:ext cx="835344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家里人要送我去书塾，我不能常到百草园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表现了我对百草园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恋恋不舍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承上启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4963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我”即将结束在百草园的生活，要去私塾读书，“我”是怎么想的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我”为何留恋百草园的生活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1484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三个“也许”，他在反复揣测，认为可能是做错了事所受的惩罚。可见他对百草园是多么的留恋。预示着三味书屋与百草园将是截然不同的一块天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350028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在百草园里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由由自在，无拘无束。认识了许多书本中没有的东西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86840" y="6370560"/>
            <a:ext cx="857160" cy="479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2" name="projctor.wav"/>
      </p:stSnd>
    </p:sndAc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7360" y="-52174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43920"/>
            <a:ext cx="8280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”到底知不知道被送到私塾去的原因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是从哪些词语看出来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我的蟋蟀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!A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我的覆盆子们和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莲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句话运用什么修辞手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了作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心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981000"/>
            <a:ext cx="856908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不知道，从“也许是……也许是……也许是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都无从知道”可以看出，三个“也许是”表示尽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猜测的原因很多，但一个也无法肯定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68480" y="393372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用拟人修辞手法，表达了“我”对百草园的恋恋不舍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1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1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8" dur="1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写百草园，始终围绕着一个“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乐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”字——乐于观察百草园的景物，乐于听美女蛇的故事，乐于捕鸟活动，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表现了儿童热爱大自然，喜欢自由快乐生活的心理。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8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3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79280" y="10382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二部分是从哪些方面写三味书屋的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6920" y="1989000"/>
            <a:ext cx="5400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书屋的环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入学的礼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书屋的先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教学的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爱玩的孩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找出写三味书屋环境的句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问“怪哉”，先生不高兴，脸上有怒色，这说明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＿＿＿＿＿＿＿＿＿＿＿＿＿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0" y="981000"/>
            <a:ext cx="9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迂腐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，不喜欢学生问课外的东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78840" y="2678040"/>
            <a:ext cx="460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有一条戒尺，但是不常用，也有罚跪的规则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也不常用，普通总不过瞪几眼”，这说明先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＿＿＿＿＿＿＿＿＿＿＿＿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73560" y="342900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和蔼善良，对学生严而不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268280"/>
            <a:ext cx="8712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时间就是生命，无端的空耗别人的时间，其实无异于谋财害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我们从古以来，就有埋头苦干的人，有拼命硬干的人，有为民请命的人，有舍身求法的人，……这就是中国的脊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时间就像海绵里的水，只要你愿意挤，总还是有的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我好象是一只牛，吃的是草，挤出的是牛奶。</a:t>
            </a:r>
            <a:br>
              <a:rPr sz="2800"/>
            </a:b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哪里有天才，我是把别人喝咖啡的工夫都用在了工作上了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3640" y="2602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鲁迅名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917000" y="9079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味书屋的先生是个什么样的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9280" y="177336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和蔼，善良，有点迂腐，教书认真，对学生严而不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55680" y="282240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段和最后一段些什么内容，表现什么思想感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45320" y="3808440"/>
            <a:ext cx="466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课间孩子们偷偷到三味书屋后面小园里去玩儿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课堂上，孩子们趁先生读书入神时做戏和画画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表现了孩子爱玩儿的天性和对自由快乐生活的追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987480"/>
            <a:ext cx="80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篇课文表现了作者怎样的思想感情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21477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通过对百草园和三味书屋的回忆，表现作者儿童时代对自然的热爱，对自由快乐生活的追求，以及天真、幼稚、欢乐的心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3880" y="3049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下列词语的字音和字形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05120" y="106668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确凿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038480" y="1066680"/>
            <a:ext cx="900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菜畦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5880" y="1066680"/>
            <a:ext cx="900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蟋蟀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05120" y="182088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缠络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038480" y="1819440"/>
            <a:ext cx="900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觅食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5880" y="1819440"/>
            <a:ext cx="900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竹筛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038480" y="2571840"/>
            <a:ext cx="900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渊博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5880" y="2571840"/>
            <a:ext cx="900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鼎沸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05120" y="257328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宿儒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5880" y="3325680"/>
            <a:ext cx="900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倜傥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038480" y="3325680"/>
            <a:ext cx="900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锡箔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05120" y="332748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珊瑚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5880" y="4078440"/>
            <a:ext cx="44928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攒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172200" y="4832280"/>
            <a:ext cx="4492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敛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05120" y="407988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脑髓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038480" y="4078440"/>
            <a:ext cx="900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蝉蜕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990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zá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990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q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990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shuà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7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ch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7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17668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hā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254484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254484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yu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254484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dǐ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3321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ìtǎ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3321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h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33210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40989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su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409896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u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40989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u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05120" y="483228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盔甲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038480" y="4832280"/>
            <a:ext cx="900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东方朔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48769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ku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4876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shu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4876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liǎ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586728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94560" y="585792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3880" y="457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下列词语的字形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828800" y="50292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和蔼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828800" y="129528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长吟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556080" y="129528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轻捷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167440" y="129528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云霄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629400" y="129528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弹琴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828800" y="222876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脊梁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56080" y="222876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臃肿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629400" y="2228760"/>
            <a:ext cx="190512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牵连不断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56080" y="316224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无妨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167440" y="5029200"/>
            <a:ext cx="4572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倘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167440" y="222876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机关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67440" y="3162240"/>
            <a:ext cx="9144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无味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56080" y="409572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啄食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629400" y="3162240"/>
            <a:ext cx="16765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高枕而卧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28800" y="316224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陌生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828800" y="409572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鉴赏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629400" y="4095720"/>
            <a:ext cx="175248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人迹罕至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629400" y="5029200"/>
            <a:ext cx="5335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躁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167440" y="409572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书塾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56080" y="50292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质朴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05720" y="57913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48720" y="579132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995200" y="476280"/>
            <a:ext cx="17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人迹罕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少有人来。罕，稀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05264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人声鼎沸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形容人声喧闹。鼎沸，水开了，发出响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4440" y="3328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无处觅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22050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高枕而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比喻无所顾忌。今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比喻不加警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240" y="4653000"/>
            <a:ext cx="23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uá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凑在一块儿）成小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46880" y="5373720"/>
            <a:ext cx="33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ǎ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力弯曲）过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2920" y="4005360"/>
            <a:ext cx="305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iǎ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放）在盒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476280"/>
            <a:ext cx="3190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题目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2636640"/>
            <a:ext cx="84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课文大致分为两个部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一部分写百草园，另一部分写三味书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文章主要是以空间变换为顺序记叙的。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1341360"/>
            <a:ext cx="4590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2920" y="1197000"/>
            <a:ext cx="87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本文题为“从百草园到三味书屋”，从这个题目我们可以得到哪些信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8000" y="333000"/>
            <a:ext cx="64800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章哪几段文字写百草园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哪几段文章写三味书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29811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—8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百草园的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429264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0—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尾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三味书屋的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0-04T05:50:12Z</dcterms:modified>
  <cp:revision>191</cp:revision>
  <dc:subject/>
  <dc:title>PowerPoint 演示文稿</dc:title>
</cp:coreProperties>
</file>