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2.jpeg" ContentType="image/jpeg"/>
  <Override PartName="/ppt/media/image3.gif" ContentType="image/gif"/>
  <Override PartName="/ppt/media/image4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958-C89D-4E4A-AD85-C9C43F7F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54C-593D-4BF3-A814-8DC99174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1E1-CF84-460D-B7B6-6C16C3E0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DF48-8D31-4334-A25A-64FF1C3A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2579-0890-4AAC-A221-58D2D30F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99DB-3DD4-4A7F-A449-91226D30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C540-ECD9-41E1-A830-6BAFCDAC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6B37-0B8A-4704-96A7-C0C8296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C464-FE25-41D1-B393-3AE96583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7F6A-EDE4-4839-B27D-51BFE7E9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12CE-4B11-44E1-BF57-EB96462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5F7-DFE6-4806-A8ED-04287379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7349-F191-4F68-8DC8-C847CE6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C234-1569-4C01-9D1F-498D8552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CABF-4EBE-4D6F-A058-B402C9A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D3D7-9DFF-4060-88D3-B87E552B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A713-8B25-4519-9EB1-46E76894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B42-B778-4025-A887-E16D2105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BF4-C0FD-4621-8B1D-144E3CF5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FA6-0B5F-46E4-A3DC-C7273D06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8BE-18A6-4349-8CDB-C03869F9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E40-E1C3-481A-94E8-20F49288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A12-E468-4341-BDFB-5BA6C29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5A3-4F9F-4DE5-96FE-E7874CE6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67B5-93A7-46EA-BC97-A63AF29F56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2566-4903-41FC-8E3C-98BB88FEED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image.baidu.com/i?ct=503316480&amp;z=0&amp;tn=baiduimagedetail&amp;word=%CA&#40750;&amp;in=706&amp;cl=2&amp;cm=1&amp;sc=0&amp;lm=-1&amp;pn=14&amp;rn=1&amp;di=1310245688&amp;ln=2000" TargetMode="Externa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13 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精读与略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>
            <a:lum bright="12000"/>
          </a:blip>
          <a:srcRect l="61184" t="7377" r="0" b="6388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4643280" y="26028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13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精读与略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812000" y="404640"/>
            <a:ext cx="287280" cy="287640"/>
          </a:xfrm>
          <a:prstGeom prst="triangle">
            <a:avLst>
              <a:gd name="adj" fmla="val 50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896000" y="1197000"/>
            <a:ext cx="39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苏教版小学五年级语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rcRect l="0" t="11848" r="0" b="0"/>
          <a:stretch/>
        </p:blipFill>
        <p:spPr>
          <a:xfrm>
            <a:off x="4516560" y="1268280"/>
            <a:ext cx="4627440" cy="51897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-305280" y="1267920"/>
            <a:ext cx="94489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汤姆叔叔的小屋》（美 斯托夫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窗边的小豆豆》    《男生日记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智慧背囊》    《海底两万里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走近冰心》    《清华名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中华成语故事》    《昆虫记》（法 法布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天才诗人普希金》   《中国短篇小说精选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外国名家短篇小说经典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老象恩仇记》  沈石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中外名人故事》      《哈利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波特》（英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J·k·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罗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三毛流浪记》（张乐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水浒传》 《红楼梦》《三国演义》《西游记》</a:t>
            </a:r>
            <a:r>
              <a:rPr b="0" lang="zh-CN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红岩》     《铁道游击队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福尔摩斯探案集》（英 柯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纽约时报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位科学家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《目击历史》（叶永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916360" y="189000"/>
            <a:ext cx="1828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阅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187308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  <p:sndAc>
      <p:stSnd>
        <p:snd r:embed="rId4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-228600" y="149400"/>
            <a:ext cx="9753480" cy="666432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要求一：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自读课文，要求把字词、句子读准确、流利。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思考：什么是精读？什么是略读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4067280" y="-1467000"/>
            <a:ext cx="460836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rcRect l="0" t="6527" r="0" b="0"/>
          <a:stretch/>
        </p:blipFill>
        <p:spPr>
          <a:xfrm>
            <a:off x="-533520" y="0"/>
            <a:ext cx="10211040" cy="68580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2766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2987640" y="260280"/>
            <a:ext cx="2819520" cy="100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050920" y="2133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</a:rPr>
              <a:t>书 籍      刊 物       梗 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71640" y="162864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jí         kān            gě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4" name="chimes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389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书籍 透彻 大略 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书刊 梗概 概述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浩如烟海</a:t>
            </a:r>
            <a:br>
              <a:rPr sz="5400"/>
            </a:b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一目十行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p:transition spd="med">
    <p:zoom dir="out"/>
    <p:sndAc>
      <p:stSnd>
        <p:snd r:embed="rId2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-781200"/>
            <a:ext cx="9753480" cy="76392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152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要求二：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快速默读课文，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、思考：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①精读、略读各有什么作用？</a:t>
            </a:r>
            <a:br>
              <a:rPr sz="4400"/>
            </a:b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②怎样进行略读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651640" y="-458640"/>
            <a:ext cx="374472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0" b="13046"/>
          <a:stretch/>
        </p:blipFill>
        <p:spPr>
          <a:xfrm>
            <a:off x="0" y="0"/>
            <a:ext cx="90234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280" y="1052280"/>
            <a:ext cx="7885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   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    </a:t>
            </a: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讨论：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e40000"/>
                </a:solidFill>
                <a:latin typeface="华文行楷"/>
                <a:ea typeface="华文行楷"/>
              </a:rPr>
              <a:t>      你认为是精读重要还是略读重要？为什么？</a:t>
            </a:r>
            <a:endParaRPr b="0" lang="en-US" sz="48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187308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  <p:sndAc>
      <p:stSnd>
        <p:snd r:embed="rId3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rcRect l="0" t="0" r="0" b="133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rcRect l="0" t="10309" r="0" b="0"/>
          <a:stretch/>
        </p:blipFill>
        <p:spPr>
          <a:xfrm>
            <a:off x="0" y="0"/>
            <a:ext cx="5867280" cy="65246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23520" y="2438280"/>
            <a:ext cx="3886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自由发言时间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300320" y="3714840"/>
            <a:ext cx="685620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哪些书你会精读？哪些书你会略读？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6622920" y="18900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10102680" cy="69246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990720" y="1905120"/>
            <a:ext cx="7924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读书有三到：心到、眼到、口到。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旧书不厌百回读，熟读深思子自知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书山有路勤为径，学海无涯苦作舟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读书破万卷，下笔如有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书是逆境中的慰藉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书房是文人精神的巢穴，生命的禅堂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世界上最壮丽的宫殿是藏书最多的图书馆。 </a:t>
            </a:r>
            <a:br>
              <a:rPr sz="3200"/>
            </a:b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年轻时读书就像迎着朝阳走路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92440" y="801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读书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7164360" y="0"/>
            <a:ext cx="2521080" cy="24922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05:01:04Z</dcterms:created>
  <dc:creator>已锁定</dc:creator>
  <dc:description/>
  <dc:language>en-US</dc:language>
  <cp:lastModifiedBy>已锁定</cp:lastModifiedBy>
  <dcterms:modified xsi:type="dcterms:W3CDTF">2014-11-20T09:45:31Z</dcterms:modified>
  <cp:revision>4</cp:revision>
  <dc:subject/>
  <dc:title>13 精读与略读</dc:title>
</cp:coreProperties>
</file>