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315-3702-4D73-8B65-A79CE9CB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620-D13D-4BEC-AA63-DEA21EBB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4D42E-03BE-4972-8850-CC1B4B3B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E0F7C-B6D2-4DEE-AF44-2DBA8415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CBCC9-7CEF-4D90-8916-83435312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1DE99-F853-418B-9A56-A38EA98C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13890-B9DC-4946-8CEA-83C9B890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A7AE8-5880-46F4-BF25-228C4458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7D0D1-67AB-4F28-A67B-AB6941C6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612A2-9105-4775-A723-1FAB7FCE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085DD-1B9F-40B2-AD84-78011295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2FCE0-FB15-4638-A483-7E0C8CAA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866-2DFF-4E2F-9E9D-FEEB6867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3FED9-BFF1-46F6-BC91-AD1A4CB8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9D186-E938-4995-A3BF-D2677D7B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708E4-D9B2-4C33-960C-2C0A628F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C4BF0-2811-46B5-9531-1AA12A2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0685D-A72E-43BA-B1F7-787566A7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9BF44-5407-4A1F-BB32-4A4327BB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BF1C0-FEAF-4CE3-8AC4-275EC205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D9421-A7F3-483E-99FB-4EEDD97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3E4D8-A754-4359-A30E-50266906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75F87-9414-4977-B612-A9D0721F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FED-3AF8-44AA-978F-C329633B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E9446-5C88-4E67-8A2F-2612EC9F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5783F-63BB-498E-9209-F647E7B5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A0E53-6E16-4B34-ABEA-CB73D573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B040C-5FD2-4913-A61B-EBE8C65E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CE44B-D26C-4A6B-846D-4084F08C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860C5-1169-4EA2-864A-1A7D457C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715DB-9EA3-41FA-B147-4B09363E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FEFE7-2AF5-4FC7-BCE7-7D904476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8A344-D9F8-4CA9-9FBD-1256623F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6077B-34EB-454B-BD6E-D32DEA6F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3963-AF80-4933-866F-48D36032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8D079-0920-4759-BE7D-AC1D1CBD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A9CB7-34C2-4026-908E-9258E52F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D4A7E-B448-44AA-93F9-8B50A303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AD34F-CB61-4F7F-A05D-781D1F02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8B7F3-4D31-4B14-878B-26DA9F34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44E29-4347-4DD8-89FB-0FF6DD16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7F4FD-2A07-4881-9296-6B2D2142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9B1FA-EBB9-4DA5-9099-87AFED5C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D3BAD-A541-4242-B560-44B95478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ED37C-3F20-460A-A7F3-0E706406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13E4-05D0-46ED-A55D-DF89FD8C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BD39E-54BF-4BDC-B798-CB2A848F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4FB6C-3A8A-4392-B7F9-8EE145C5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11C4E-C49C-4C27-8B65-BFCBD534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983BE-FB74-4F2A-A650-4AA8E97A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C04E8-1DA2-4731-B15C-5C69B133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5BD6-B7E7-4066-99E1-ED7AA0B3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FF43-D6AD-4FFB-AE1A-699E75D9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2CD3-D62B-4139-B10C-75823D4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9F5E-95A7-44BF-9C9C-BD9FF130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A210-7B78-46DA-B4C2-A954324F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28E-0B5C-479A-B7A6-F27A3010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B52C-B75E-42EB-A66C-D17982F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9563-B44D-4CEC-A18E-1CD8F7F7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4DA1-D5B6-45FF-BE51-238010E4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F5C4-BB8C-41B4-9FAB-B73A3B24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8DF6-B2DF-4AE9-812F-AEC82EB3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F371-33A4-4CFB-BD6B-3FB864D2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F6EB-EAE0-4898-ACB3-92FAED51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AE37-39F1-46F3-8B00-E1E35EED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17C6C-A593-4D38-B38C-40682813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8A4A-CB8F-4AE6-A5C1-E6BAC62B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208-7122-445B-8146-25A54489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364D-9E34-49EC-B4FF-BDDFD5AE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49CE5-F486-4A64-AE80-794C0917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2CC2-BB5C-4D97-BAD3-BE0DBF4E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51B8-CEE0-48DF-BADA-5C0D1A9D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A2F5-7B06-40FD-B3E4-922E9119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BA5D-E4A8-484A-AD86-372629E2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C88A-13F4-4833-972F-45D776DA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47FDF-4418-454C-84C7-A2E7D313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D8B1-1616-41E1-AF90-AA8B47DF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C0D9-80C2-4759-9039-C5A58942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3DE-DE2E-424C-86CC-33DFCEC8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ECA2A-26C9-4DC3-B256-0F7D69B0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E73C5-C530-45E9-9D7E-D00DE9D2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2035-A132-40F1-A750-1B47E0CE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EE0E-1F1F-4C3C-B4DC-507DE3EF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2B78D-8A65-494E-836E-01479F05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EE151-4A3F-42E4-B033-57285E55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312D-DF45-48DC-BDF8-E5AB178A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D156B-9414-4187-91E9-BD8E5761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6FBC7-F15A-4DC3-8DA2-DC401422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FC16D-40EF-48AC-92FE-1614136B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6B0-369C-44E6-A9D6-9B542A02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737F3-39EC-4B4D-8D73-DB7ADAE8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5C2C8-FF1B-4899-ADC9-7E237F1F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BF6A4-9B85-415D-8088-41B691E7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B91E-D26C-457C-B9BD-07FC54CF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26CC-2611-475B-90B8-98D8AD12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6C1D9-A326-4334-BB3B-BAD47046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411EC-05B0-4F99-B029-EA577820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A49C3-3F6D-4EEB-A4A0-58ABF57D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56536-6AB0-452B-AD44-64B68F02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0A9F0-A41E-4634-95DA-C7028DF6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4F3-9217-449A-938E-43E08F54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019C3-FB36-482A-9187-84A9FC0F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2B4F1-3B0A-41EE-9A2C-48EF8C40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2A54-FB49-433F-9CE8-9321428C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90038-8FB8-40FC-9CFE-92EF44F6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40139-29F4-4A26-AD2A-727C6A52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BCBAD-7A47-4892-B840-4B89767D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472D-35CF-432A-9C4A-CFA15CC0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2522C-EF02-4F31-B01A-3C4F0BEC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E8AEF-C09F-4371-BF86-25039191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B381D-6A6A-4CE4-8A32-7B1DA5C5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E19-04FA-4899-98E8-0E8E9E97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18BA6-49D0-4336-878D-3B9C57AA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47885-754F-4B7D-B83F-2E03C3E7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E5200-286E-4CF5-B5F9-3BDE4D8E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886D7-9D75-4E82-9E72-F6462ABD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60510-5A80-452F-A827-190B8271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2F90A-8F95-4962-9737-D023BD81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E7387-D0AA-4A30-BC6A-F9F64120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E19DB-3C74-4C2E-86CB-A3CA924E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14A16-ABA5-44EB-BD95-EDBDB487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8000F-FCEB-49F9-8F59-E5476900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257-D00A-4AA3-8E9E-EAA4CB23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DFE7E-B821-4278-810D-599059E1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072E0-2106-4293-B129-AB91A602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34497-4395-415C-A4BC-633A5E9D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2AAD4-5A95-4A14-92D6-C428718A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6E408-DCDF-4445-BA8C-864548D8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5B05A-4850-4D22-AED3-B6D816C6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5836D-8969-4FC6-9F2B-EFA9ED13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538C0-7AA8-46DB-BE45-20AA98AF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EDC1A-DD0D-4A74-8B6D-E0E9BD93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B3C45-169B-4103-B205-74C90DFF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29C-9CED-4831-B650-7EA932D6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E4EBA-8C8D-4189-A8F2-45801FDC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D4BE6-1D58-4FB3-9D89-27268FB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E3D32-54B7-40F1-BA60-93AD549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2DACF-124B-40F2-9ADB-6B2A087F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0DD87-47DA-4410-AF13-032567D3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6B8C1-7419-4BF5-8FE2-DCBD3329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E792F-8FAA-4F33-B155-C226CBD5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17079-0E62-4D3B-B4FC-3A72BACE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229BE-4B22-4C33-AA80-C0190AE1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118A9-84FD-4B47-A035-E1F131E6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0BA6-5C32-4B9A-BAB0-966EFFA9E7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6AF9-26A0-4B1A-B30C-3F9D1D1B83A6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CA19-89BB-4E49-87B2-C60F7E91A7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5207-C7DA-43C5-85C3-02BD5AB459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19E7-62DA-4D61-99F1-6D54354552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182C-E111-4B86-A19E-E6DE139196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71C2-0674-4842-8192-26BFFFB35B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9E84-E36B-4E5D-81B1-97845FC074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7320-AB36-41A0-AA6B-982B3A4E4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39CB-FCFA-4FDA-8DF1-6B11350AF2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2C0C-A095-4D9E-9A6E-7A9791C742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1f0ff"/>
                </a:solidFill>
                <a:latin typeface="Arial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6DCD-AEC2-4D2A-8406-43F511666C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Rectangle 2" descr=""/>
          <p:cNvPicPr/>
          <p:nvPr/>
        </p:nvPicPr>
        <p:blipFill>
          <a:blip r:embed="rId1"/>
          <a:stretch/>
        </p:blipFill>
        <p:spPr>
          <a:xfrm>
            <a:off x="-6480" y="2432160"/>
            <a:ext cx="8937720" cy="253044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1219320" y="914040"/>
            <a:ext cx="6248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Goudy Old Style"/>
              </a:rPr>
              <a:t>                               </a:t>
            </a:r>
            <a:endParaRPr b="0" lang="en-US" sz="60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黑体"/>
                <a:ea typeface="黑体"/>
              </a:rPr>
              <a:t>秋风秋雨愁煞人 </a:t>
            </a:r>
            <a:endParaRPr b="0" lang="en-US" sz="60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532" name="图片 5" descr="20110929145621948679.jpg"/>
          <p:cNvPicPr/>
          <p:nvPr/>
        </p:nvPicPr>
        <p:blipFill>
          <a:blip r:embed="rId2"/>
          <a:stretch/>
        </p:blipFill>
        <p:spPr>
          <a:xfrm>
            <a:off x="152280" y="2666880"/>
            <a:ext cx="264816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Rectangle 2" descr=""/>
          <p:cNvPicPr/>
          <p:nvPr/>
        </p:nvPicPr>
        <p:blipFill>
          <a:blip r:embed="rId1"/>
          <a:stretch/>
        </p:blipFill>
        <p:spPr>
          <a:xfrm>
            <a:off x="-281160" y="530280"/>
            <a:ext cx="7761600" cy="1152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oudy Old Style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Goudy Old Style"/>
              </a:rPr>
              <a:t>在北京暂住，转眼又到了中秋佳节。篱笆下的菊花遍地盛开，（我的）容颜却是那么的憔悴。刘邦用四面楚歌战胜了项羽，我漂泊了八年还想着那个家作什么。既然我那么痛苦，何必还强颜欢笑呢，离开也没有什么难的！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Goudy Old Style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Goudy Old Style"/>
              </a:rPr>
              <a:t>我虽然不是男儿身，心却比男儿还刚烈。有志气的文人肝胆相照的胸襟，常常是不被人理解的。那些心胸狭窄的俗人怎么能够明白我的心意？自古英雄衰弱的时候总是要受尽痛苦折磨的。在这个迷茫的社会里，我要去哪里寻觅知音？（我的）泪水浸湿了衣裳。</a:t>
            </a:r>
            <a:r>
              <a:rPr b="0" lang="zh-CN" sz="2800" spc="-1" strike="noStrike">
                <a:solidFill>
                  <a:srgbClr val="ffff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7761240" cy="11588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oudy Old Style"/>
              </a:rPr>
              <a:t>词的上片</a:t>
            </a:r>
            <a:r>
              <a:rPr b="1" lang="zh-CN" sz="2400" spc="-1" strike="noStrike">
                <a:solidFill>
                  <a:srgbClr val="ffff00"/>
                </a:solidFill>
                <a:latin typeface="Goudy Old Style"/>
              </a:rPr>
              <a:t>首先写中秋佳节暂住北京的情景，菊花盛开，秋色明净。“为篱下，黄花开遍”，是化用陶渊明“采菊东篱下”和李清照“人比黄花瘦”的诗句，写秋色，但主要是用来说明冲破家庭牢笼后乐忧相煎的心情。在封建社会里，一个女子要冲破家庭牢笼，不是一件容易的事。作者用</a:t>
            </a:r>
            <a:r>
              <a:rPr b="1" lang="en-US" sz="2400" spc="-1" strike="noStrike">
                <a:solidFill>
                  <a:srgbClr val="ffff00"/>
                </a:solidFill>
                <a:latin typeface="Goudy Old Style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Goudy Old Style"/>
              </a:rPr>
              <a:t>史记</a:t>
            </a:r>
            <a:r>
              <a:rPr b="1" lang="en-US" sz="2400" spc="-1" strike="noStrike">
                <a:solidFill>
                  <a:srgbClr val="ffff00"/>
                </a:solidFill>
                <a:latin typeface="Goudy Old Style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Goudy Old Style"/>
              </a:rPr>
              <a:t>项羽本纪</a:t>
            </a:r>
            <a:r>
              <a:rPr b="1" lang="en-US" sz="2400" spc="-1" strike="noStrike">
                <a:solidFill>
                  <a:srgbClr val="ffff00"/>
                </a:solidFill>
                <a:latin typeface="Goudy Old Style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Goudy Old Style"/>
              </a:rPr>
              <a:t>中汉军破楚的故事，来比喻说明自己终于冲破家庭牢笼，并不过分。“苦将侬、强派作蛾眉”进一步说明表面上过着贵妇人的生活，实则奴仆不如的“八年风味”。“殊未屑”表明作者对贵妇人的生活，并不留恋，相反加以蔑视。“每逢佳节倍思亲。”中秋佳节应是家人团聚的日子，而作者却寓居客栈，不免有“人比黄花瘦”的冷落之感。但想到八年奴仆不如的生活，而今破楚自立，又不免有“采菊东篱下，悠然见南山”的喜悦之情。把陶渊明和李清照表现不同思想的诗句杂用在一起，来表达自己初离家庭时的矛盾心情，别具匠心。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5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7688160" cy="11588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Goudy Old Style"/>
              </a:rPr>
              <a:t>词的下片</a:t>
            </a:r>
            <a:r>
              <a:rPr b="0" lang="zh-CN" sz="2600" spc="-1" strike="noStrike">
                <a:solidFill>
                  <a:srgbClr val="ffffff"/>
                </a:solidFill>
                <a:latin typeface="Goudy Old Style"/>
              </a:rPr>
              <a:t>写作者虽有凌云壮志，但知音难觅，不觉泪湿衣巾。作者虽是女子，但“心却比，男儿烈”。离家出走以后，下一步怎么办？这是摆在作者面前一个严峻的问题。平日诗人，虽以肝胆相照，真诚恳切，但不为世俗所了解，因此生活中常受折磨。现在离家以后，在大千世界中，何处去找知音？如果找不到知音，又将会受到怎样的折磨？想到这一点，不觉伤心落泪，也是很自然的。“何处觅知音”？这对当时的秋瑾来说，确实是一个重要的问题，它关系到她的前途和事业。特别在封建社会里，一个女子的叛逆行为，究竟能得到多少人的同情和支持？所以作者清醒地估计到“必知音之难遇，更同调而无人”的困境（</a:t>
            </a:r>
            <a:r>
              <a:rPr b="0" lang="en-US" sz="2600" spc="-1" strike="noStrike">
                <a:solidFill>
                  <a:srgbClr val="ffffff"/>
                </a:solidFill>
                <a:latin typeface="Goudy Old Style"/>
              </a:rPr>
              <a:t>《</a:t>
            </a:r>
            <a:r>
              <a:rPr b="0" lang="zh-CN" sz="2600" spc="-1" strike="noStrike">
                <a:solidFill>
                  <a:srgbClr val="ffffff"/>
                </a:solidFill>
                <a:latin typeface="Goudy Old Style"/>
              </a:rPr>
              <a:t>致琴文书</a:t>
            </a:r>
            <a:r>
              <a:rPr b="0" lang="en-US" sz="2600" spc="-1" strike="noStrike">
                <a:solidFill>
                  <a:srgbClr val="ffffff"/>
                </a:solidFill>
                <a:latin typeface="Goudy Old Style"/>
              </a:rPr>
              <a:t>》</a:t>
            </a:r>
            <a:r>
              <a:rPr b="0" lang="zh-CN" sz="2600" spc="-1" strike="noStrike">
                <a:solidFill>
                  <a:srgbClr val="ffffff"/>
                </a:solidFill>
                <a:latin typeface="Goudy Old Style"/>
              </a:rPr>
              <a:t>）。这种担心和忧虑，真实地反映了一个革命者刚踏上革命征途的思想状况。</a:t>
            </a:r>
            <a:r>
              <a:rPr b="0" lang="zh-CN" sz="1900" spc="-1" strike="noStrike">
                <a:solidFill>
                  <a:srgbClr val="ffffff"/>
                </a:solidFill>
                <a:latin typeface="Goudy Old Style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-360" y="380880"/>
            <a:ext cx="5257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满江红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•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住京华</a:t>
            </a:r>
            <a:endParaRPr b="0" lang="en-US" sz="3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小住京华，早又是中秋佳节，为篱下黄花开遍，秋容如拭。 四面歌残终破楚，八年风味徒思浙！ 若将依，强派作蛾眉，殊未屑！ 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身不得，男儿列，心却比男儿烈！ 平生肝胆因人常热，俗子胸襟谁识我？ 英雄末路当磨折，莽红尘何处觅知音？青衫湿！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562360" y="1599840"/>
            <a:ext cx="3352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3ffff"/>
                </a:solidFill>
                <a:latin typeface="Goudy Old Style"/>
                <a:ea typeface="黑体"/>
              </a:rPr>
              <a:t>这首词写出她对身为女子、受礼教束缚、被人轻视、不得施展抱负的忿忿不平，表现她侠义满胸怀、肝胆过男子的气概，表现其不满封建婚姻，反对封建压迫，要求男女平权的思想。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-360" y="533520"/>
            <a:ext cx="4800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oudy Old Style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Goudy Old Style"/>
                <a:ea typeface="黑体"/>
              </a:rPr>
              <a:t>赠蒋鹿珊先生言志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oudy Old Style"/>
                <a:ea typeface="黑体"/>
              </a:rPr>
              <a:t>且为他日成功之鸿爪也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画工须画云中龙，为人须为人中雄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豪杰羞伍草木腐，怀抱豈与常人同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?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久闻吾浙有蒋子，未见音容徒仰企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何幸湖山获订交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? 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高谈宏论惊人耳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不惧仇人气焰高，频倾赤血救同胞。 诲人思涌粲花舌，化作钱塘十丈涛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风潮奔腾复澎湃，保守急进本无派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协力同心驱满奴，宗旨同时意气洽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危局如斯敢惜身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? 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愿将生命作牺牲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可怜大好神明胄，忍把江山付别人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!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事机一失应难再，时乎时乎不我待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!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休教他人锁键牢，从此沉沦汉世界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天下英才数使君，据鞍把剑气纵横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好将十万头颅血，一洗腥膻祖国尘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我欲为君进一箸，时机已熟君休虑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成功最后十五分，拿破仑语殊足取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霹雳一震阴霾开，光复祖业休徘徊。 </a:t>
            </a:r>
            <a:br>
              <a:rPr sz="2000"/>
            </a:b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他年独立旂飞处，我愿为君击柝来。 </a:t>
            </a:r>
            <a:endParaRPr b="0" lang="en-US" sz="20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49640" y="3276720"/>
            <a:ext cx="396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对酒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不惜千金买宝刀，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貂裘换酒也堪豪。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一腔热血勤珍重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洒去犹能化碧涛。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" name="TextBox 5"/>
          <p:cNvSpPr/>
          <p:nvPr/>
        </p:nvSpPr>
        <p:spPr>
          <a:xfrm>
            <a:off x="5791320" y="304920"/>
            <a:ext cx="297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1f0ff"/>
                </a:solidFill>
                <a:latin typeface="Arial"/>
              </a:rPr>
              <a:t>拓</a:t>
            </a: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1f0ff"/>
                </a:solidFill>
                <a:latin typeface="Arial"/>
              </a:rPr>
              <a:t>展</a:t>
            </a: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1f0ff"/>
                </a:solidFill>
                <a:latin typeface="Arial"/>
              </a:rPr>
              <a:t>赏</a:t>
            </a: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1f0ff"/>
                </a:solidFill>
                <a:latin typeface="Arial"/>
              </a:rPr>
              <a:t>析</a:t>
            </a: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Rectangle 4" descr=""/>
          <p:cNvPicPr/>
          <p:nvPr/>
        </p:nvPicPr>
        <p:blipFill>
          <a:blip r:embed="rId2"/>
          <a:stretch/>
        </p:blipFill>
        <p:spPr>
          <a:xfrm>
            <a:off x="96840" y="146160"/>
            <a:ext cx="8145360" cy="12808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 txBox="1"/>
          <p:nvPr/>
        </p:nvSpPr>
        <p:spPr>
          <a:xfrm>
            <a:off x="0" y="198072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光绪三十三年正月（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1907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月），秋瑾接任大通学堂督办。不久与徐锡麟分头准备在浙江、安徽两省同时举事。联络浙江、上海军队和会党，组织光复军，推徐锡麟为首领，自任协领，拟于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日在浙江、安徽同时起义。因事泄，于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日在大通学堂被捕。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日，从容就义于浙江绍兴轩亭口。被捕后没有一句供词，只留下一纸，上书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秋风秋雨愁煞人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七个字。  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572" name="Picture 7" descr="轩亭口秋瑾广场"/>
          <p:cNvPicPr/>
          <p:nvPr/>
        </p:nvPicPr>
        <p:blipFill>
          <a:blip r:embed="rId3"/>
          <a:stretch/>
        </p:blipFill>
        <p:spPr>
          <a:xfrm>
            <a:off x="5105520" y="28954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8"/>
          <p:cNvSpPr/>
          <p:nvPr/>
        </p:nvSpPr>
        <p:spPr>
          <a:xfrm>
            <a:off x="5486400" y="60199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轩亭口秋瑾广场</a:t>
            </a:r>
            <a:endParaRPr b="0" lang="en-US" sz="2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340160" y="2361960"/>
            <a:ext cx="48038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oudy Old Style"/>
                <a:ea typeface="黑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Goudy Old Style"/>
                <a:ea typeface="黑体"/>
              </a:rPr>
              <a:t>鉴湖女侠”秋瑾生前曾有遗愿给她的好友徐自华：“埋骨西泠，与岳武穆相邻。”然而残暴清廷竟容不下三尺孤坟，短短七年里，灵柩辗转于绍兴、杭州、湘潭，迁移了七次，直至辛亥革命胜利，民国建立，终于遂了“埋骨西泠”的遗愿。不料新中国建立后，又遭遇四度搬迁。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575" name="Picture 4" descr="绝命诗"/>
          <p:cNvPicPr/>
          <p:nvPr/>
        </p:nvPicPr>
        <p:blipFill>
          <a:blip r:embed="rId1"/>
          <a:stretch/>
        </p:blipFill>
        <p:spPr>
          <a:xfrm>
            <a:off x="533520" y="528480"/>
            <a:ext cx="3886200" cy="52596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5"/>
          <p:cNvSpPr/>
          <p:nvPr/>
        </p:nvSpPr>
        <p:spPr>
          <a:xfrm>
            <a:off x="1143000" y="60199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秋瑾绝命诗</a:t>
            </a:r>
            <a:endParaRPr b="0" lang="en-US" sz="32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5029200" y="2514240"/>
            <a:ext cx="41148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十余次的迁坟过程中，秋瑾的好友吴芝瑛、徐自华费劲了心思。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终于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，将秋瑾遗骸葬于杭州西泠桥畔，修了墓地，同时建了一座纪念亭，命名为风雨亭。 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578" name="Picture 4" descr="qiujin003"/>
          <p:cNvPicPr/>
          <p:nvPr/>
        </p:nvPicPr>
        <p:blipFill>
          <a:blip r:embed="rId1"/>
          <a:stretch/>
        </p:blipFill>
        <p:spPr>
          <a:xfrm>
            <a:off x="152280" y="838080"/>
            <a:ext cx="3657600" cy="393876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"/>
          <p:cNvSpPr/>
          <p:nvPr/>
        </p:nvSpPr>
        <p:spPr>
          <a:xfrm>
            <a:off x="304920" y="47242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0" y="53341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古今中外名人迁墓屡有，然如秋瑾那样迁移十次以上的，实属罕见，名副其实迭尽风雨沧桑。</a:t>
            </a:r>
            <a:endParaRPr b="0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762120" y="48769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风雨亭</a:t>
            </a:r>
            <a:endParaRPr b="0" lang="en-US" sz="20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572000" y="373356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oudy Old Style"/>
                <a:ea typeface="黑体"/>
              </a:rPr>
              <a:t>秋瑾墓位于在杭州市区白堤尽头西泠桥畔。墓正面有大理石墓碑，上刻孙中山亲笔题词“巾帼英雄”四字。背面立有吴芝瑛、徐白华所书的墓志铭原石。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583" name="Picture 4" descr="148f28d3e018a63c3af3cffa"/>
          <p:cNvPicPr/>
          <p:nvPr/>
        </p:nvPicPr>
        <p:blipFill>
          <a:blip r:embed="rId1"/>
          <a:stretch/>
        </p:blipFill>
        <p:spPr>
          <a:xfrm>
            <a:off x="609480" y="838080"/>
            <a:ext cx="3311640" cy="36576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5"/>
          <p:cNvSpPr/>
          <p:nvPr/>
        </p:nvSpPr>
        <p:spPr>
          <a:xfrm>
            <a:off x="304920" y="51814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秋瑾墓依山面湖，松柏环列，掩映在四季常青中。</a:t>
            </a:r>
            <a:endParaRPr b="0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11430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秋瑾墓</a:t>
            </a:r>
            <a:endParaRPr b="0" lang="en-US" sz="18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200040" y="11426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秋瑾，原名秋闺瑾，字璿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xuán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卿（璇卿），号竞雄，别号鉴湖女侠。祖籍浙江山阴。（今绍兴市），出生于福建厦门。蔑视封建礼法，提倡男女平等，常以花木兰，秦良玉自喻。性豪侠，习文练武，喜男装。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曾自费东渡日本留学。积极投身革命，先后参加过三合会、光复会、同盟会等革命组织，联络会党计划响应萍浏醴起义未果。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1907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年，她与徐锡麟等组织光复军，拟于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月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日在浙江、安徽同时起义，事泄被捕。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月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日从容就义于绍兴轩亭口，时年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32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岁。丈夫是双峰县荷叶乡神冲富绅之子王廷钧，字子芳。 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4" name="WordArt 11"/>
          <p:cNvSpPr txBox="1"/>
          <p:nvPr/>
        </p:nvSpPr>
        <p:spPr>
          <a:xfrm>
            <a:off x="228600" y="45720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缅怀秋瑾</a:t>
            </a:r>
            <a:endParaRPr b="1" lang="en-US" sz="44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Text Box 12"/>
          <p:cNvSpPr/>
          <p:nvPr/>
        </p:nvSpPr>
        <p:spPr>
          <a:xfrm>
            <a:off x="45720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(1877-1907)</a:t>
            </a:r>
            <a:endParaRPr b="0" lang="en-US" sz="1800" spc="-1" strike="noStrike">
              <a:solidFill>
                <a:srgbClr val="e1f0ff"/>
              </a:solidFill>
              <a:latin typeface="Arial"/>
            </a:endParaRPr>
          </a:p>
        </p:txBody>
      </p:sp>
      <p:pic>
        <p:nvPicPr>
          <p:cNvPr id="536" name="Picture 14" descr="http://img.itc.cn/photo/oritcQuvPn2"/>
          <p:cNvPicPr/>
          <p:nvPr/>
        </p:nvPicPr>
        <p:blipFill>
          <a:blip r:embed="rId1"/>
          <a:stretch/>
        </p:blipFill>
        <p:spPr>
          <a:xfrm>
            <a:off x="181080" y="1752480"/>
            <a:ext cx="2943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0" y="91440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pic>
        <p:nvPicPr>
          <p:cNvPr id="538" name="Rectangle 3" descr=""/>
          <p:cNvPicPr/>
          <p:nvPr/>
        </p:nvPicPr>
        <p:blipFill>
          <a:blip r:embed="rId1"/>
          <a:stretch/>
        </p:blipFill>
        <p:spPr>
          <a:xfrm>
            <a:off x="146160" y="231840"/>
            <a:ext cx="8096040" cy="11952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-36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oudy Old Style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Goudy Old Style"/>
              </a:rPr>
              <a:t>1903</a:t>
            </a:r>
            <a:r>
              <a:rPr b="1" lang="zh-CN" sz="2800" spc="-1" strike="noStrike">
                <a:solidFill>
                  <a:srgbClr val="ffff00"/>
                </a:solidFill>
                <a:latin typeface="Goudy Old Style"/>
              </a:rPr>
              <a:t>年王纳资捐得户部主事，秋瑾随王去北京居往。时值八国联军入侵后不久，她目睹民族危机的深重和清政府的腐败，决心献身救国事业，而其夫无心国事。中秋节，秋瑾与丈夫王子芳发生冲突，从家出走，寓居北京阜城门外泰顺客栈，后由吴芝瑛出面调解，而秋瑾下决心冲破家庭牢笼，投身革命。不久即东渡日本留学。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5105520" y="4724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这首词是言志之作，表达了作者匡国济世的凌云志向。</a:t>
            </a:r>
            <a:endParaRPr b="0" lang="en-US" sz="2800" spc="-1" strike="noStrike">
              <a:solidFill>
                <a:srgbClr val="e1f0ff"/>
              </a:solidFill>
              <a:latin typeface="Arial"/>
            </a:endParaRPr>
          </a:p>
        </p:txBody>
      </p:sp>
      <p:pic>
        <p:nvPicPr>
          <p:cNvPr id="541" name="图片 7" descr="9105384897695306613.jpg"/>
          <p:cNvPicPr/>
          <p:nvPr/>
        </p:nvPicPr>
        <p:blipFill>
          <a:blip r:embed="rId2"/>
          <a:stretch/>
        </p:blipFill>
        <p:spPr>
          <a:xfrm>
            <a:off x="5410080" y="1066680"/>
            <a:ext cx="29242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Rectangle 4" descr=""/>
          <p:cNvPicPr/>
          <p:nvPr/>
        </p:nvPicPr>
        <p:blipFill>
          <a:blip r:embed="rId1"/>
          <a:stretch/>
        </p:blipFill>
        <p:spPr>
          <a:xfrm>
            <a:off x="6626160" y="450720"/>
            <a:ext cx="1438200" cy="59500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564372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秋瑾是著名的近代民主革命志士。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875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年生于绍兴的一个典型的小官僚地主家庭。其父秋寿南曾任湘乡县督销总办。秋瑾兄妹四人，秋瑾稍大即入家塾，受封建教育，念的是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三字经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百家姓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神童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等，但她爱读的却是诗词、明清小说和笔记传奇。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ectangle 2" descr=""/>
          <p:cNvPicPr/>
          <p:nvPr/>
        </p:nvPicPr>
        <p:blipFill>
          <a:blip r:embed="rId1"/>
          <a:stretch/>
        </p:blipFill>
        <p:spPr>
          <a:xfrm>
            <a:off x="42840" y="225360"/>
            <a:ext cx="8809200" cy="11527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-360" y="18288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oudy Old Style"/>
              </a:rPr>
              <a:t>1895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年，</a:t>
            </a:r>
            <a:r>
              <a:rPr b="0" lang="en-US" sz="2800" spc="-1" strike="noStrike">
                <a:solidFill>
                  <a:srgbClr val="ffff00"/>
                </a:solidFill>
                <a:latin typeface="Goudy Old Style"/>
              </a:rPr>
              <a:t>19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岁的她跟随做官的父亲秋寿南来到湖南省湘潭县。秋寿南在当地结识了湘潭首富、曾国藩的表弟王殿丞。王见秋瑾生得秀美端庄，聪慧可爱，就托媒人送礼给儿子王廷钧提亲。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191120" y="3352320"/>
            <a:ext cx="4952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4495680" y="19051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秋瑾对于这桩婚事十分不满，但在封建社会里，儿女的婚事只能依从父母之命，媒妁之言。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896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日，王家彩銮花轿吹吹打打把秋瑾迎了过去。</a:t>
            </a:r>
            <a:endParaRPr b="0" lang="en-US" sz="32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01680" y="685440"/>
            <a:ext cx="419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王家虽锦衣玉食，但志趣高尚、性格刚烈的秋瑾并不喜欢过养尊处优的生活，更受不了封建家庭的种种束缚。比自己小两岁的丈夫王廷钧，在志趣、爱好上也与自己毫无共同之处。她叹息道：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琴瑟异趣，伉俪不甚相得。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王廷钧一不好读，二不务正业，每天游手好闲，吃喝玩乐。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495320" y="2209320"/>
            <a:ext cx="41943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秋瑾的革命志向与理想，不仅得不到丈夫的理解与支持，反而遭到他的训斥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这是男人的事情，你休胡思乱想。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秋瑾也不示弱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要去寻求真理，女人也有救国救民的责任。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两人吵得互不相让。</a:t>
            </a:r>
            <a:endParaRPr b="0" lang="en-US" sz="28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-360" y="761760"/>
            <a:ext cx="487692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王廷钧知道秋瑾是个说得到做得到的倔强女性，要说服她是不可能的，只好采取卑劣手段，乘秋瑾不备，偷偷将她的珠宝和手饰及积蓄全部窃走，妄图以此来阻挠她赴日。秋瑾变卖了仅剩的财产和衣物，加上吴芝瑛等人的资助，于</a:t>
            </a:r>
            <a:r>
              <a:rPr b="0" lang="en-US" sz="2600" spc="-1" strike="noStrike">
                <a:solidFill>
                  <a:srgbClr val="ffff00"/>
                </a:solidFill>
                <a:latin typeface="黑体"/>
                <a:ea typeface="黑体"/>
              </a:rPr>
              <a:t>1904</a:t>
            </a:r>
            <a:r>
              <a:rPr b="0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年</a:t>
            </a:r>
            <a:r>
              <a:rPr b="0" lang="en-US" sz="2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0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月只身东渡日本，从此迈出了她人生道路上的关键一步。</a:t>
            </a:r>
            <a:endParaRPr b="0" lang="en-US" sz="2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64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64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Goudy Old Style"/>
                <a:ea typeface="黑体"/>
              </a:rPr>
              <a:t>秋瑾在日本三年，两人从无书信来往，夫妻关系名存实亡。</a:t>
            </a:r>
            <a:endParaRPr b="0" lang="en-US" sz="26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4724280" y="25909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1906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年冬秋瑾听说王廷钧纳妾的消息，反而高兴，觉得有了与王廷钧脱离关系的理由。于是，她给大哥秋誉章写了一封信，请大哥代她办理离婚。秋誉章几经奔波，由于王廷钧的阻碍，离婚之事未成。</a:t>
            </a:r>
            <a:endParaRPr b="0" lang="en-US" sz="28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5181480" y="609120"/>
            <a:ext cx="373392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秋瑾又是中国近代文学史上杰出的女才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诗词既有女子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柔婉细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又有男儿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豪迈劲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刚柔相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阴阳相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体现了一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和之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独具魅力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女性情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553" name="图片 6" descr="se7634921.jpg"/>
          <p:cNvPicPr/>
          <p:nvPr/>
        </p:nvPicPr>
        <p:blipFill>
          <a:blip r:embed="rId1"/>
          <a:stretch/>
        </p:blipFill>
        <p:spPr>
          <a:xfrm>
            <a:off x="152280" y="914400"/>
            <a:ext cx="50673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0" y="91440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  <p:pic>
        <p:nvPicPr>
          <p:cNvPr id="555" name="Rectangle 7" descr=""/>
          <p:cNvPicPr/>
          <p:nvPr/>
        </p:nvPicPr>
        <p:blipFill>
          <a:blip r:embed="rId1"/>
          <a:stretch/>
        </p:blipFill>
        <p:spPr>
          <a:xfrm>
            <a:off x="146160" y="231840"/>
            <a:ext cx="8096040" cy="1195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-36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秋瑾短促的一生创作了很多诗词。现在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秋瑾集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收存诗、词、歌二百二十多首，另有集外佚诗约十五首，攻二百四十余首。如以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90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年东渡日本为界，其诗作可分为前后期。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前期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891-1904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后期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904-1907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4800600" y="31240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前期主要是咏物写景、感事抒怀、思念亲友之作。      后期主要是抒发立志改天换地的革命豪情，充满了对祖国前途的深切忧虑。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1f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3-16T02:24:54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