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1F9B-A1C3-4173-9463-EBA670A9C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476C-41FA-496C-A0B6-A78672F7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2FDE-8B75-4A68-9888-1F372F86B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A28B-DF6F-44F8-A27C-948BF4A0D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2374-F5DE-476B-8D61-2E70F7ED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0F95-1E7F-4CF0-A133-6A9C29CD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49D8-0178-48F9-AABB-18545010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D539-E180-4AF3-9649-5866FEE8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EDE7-E58F-413E-B850-EACF7718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7562-ED72-4267-BFC0-CB329719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CAAD-92EB-47F7-BEA8-6104BC6C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78E0-848D-422B-9182-FC2CE09F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8C1D-C3A4-4C60-83B0-ABC65C73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AD07-5687-4821-8C73-6FB1E596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FE91-DAF8-48D1-A33E-F3F7F76F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34A7-97A3-41C7-8D5F-9487CFD4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7604-BEB3-4D4E-94FB-3DB6FA36A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CD444-DCA3-4B74-ACCC-1AC9C6B7F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A87E6-7F95-42C3-B987-0F547E1D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9A0A0-5460-4D81-95C0-786277B7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C74CB-FC88-41B2-AB19-CAC1E5C7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976E4-8B30-4305-8F7C-E5BF39D2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8F25-4C12-4E32-92A9-22351A98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39DC4-6A57-4EA5-9DB6-CF1592FF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DA4FF-52A7-463F-A232-441AF29D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7D8F8-1279-4BB7-B4B7-CEC7884A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12C3F-B246-470D-86E5-F8653922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0DD11-8D6B-450D-A90E-20BDA3D5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E269E-7534-4939-B21B-28840CF9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5E13F-1440-467A-9EE1-EF6793835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5CD10-85F5-4C70-9EE1-EBE3B29C0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85298-6560-4BCB-A0E9-B4C3BBDF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185B0-4B34-488E-BA3E-E2359B21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3D9F-C523-4905-8386-E37378D8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D783B-9570-452F-8BC0-5CF44460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87E6A-6BCA-4842-85CA-7AB2FF90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9FC38-CE15-48BD-8212-C99B2E83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09BBD-B4B1-4736-8421-D09C6373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966D2-4DFE-4B84-84D4-CC2A1D57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43044-39A7-4A00-8BFA-46E0A8EB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0817E-9A61-408C-899D-B03BFBED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35773-F70B-49DB-B613-0B3D00D6F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0A0CC-373C-4E37-9178-7E68FB5F2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277E7-F447-4725-AD0B-A7349D431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796F-245B-406F-8A6F-3356319F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317B2-CF5C-4414-8CCB-CFF50B35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389D0-F5BF-4862-AF73-6118940C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5E672-78CA-4230-A5A9-5050842F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8D602-88EB-46B5-9CED-9C584528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3C2E2-A2EE-4A0B-9676-F1B033EC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F7CFC-8CED-470B-9195-636A4C42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32856-D6A5-4815-B87D-5124A53D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45DB5-E5F9-441D-B311-D713C1E3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41208-0998-453B-829A-CF36D379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883A1-03FB-42FC-8374-AA155CBE5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FE41-ED55-4BB6-9BB8-B88DC0A9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58F1F-A430-4868-B229-9974D29A7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346C-22F0-4DD5-98A0-D8080EFB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FF72-CFFE-4DAF-A9B2-589EC92B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B8AB-4384-4701-845A-6D610FD5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C658-F8F6-43BD-8F5D-5857BA765F1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DEB2-7238-4AF6-B10C-110C24B61B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B7D2-971E-441C-98BA-4C92872E0CC9}" type="datetime"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DC9A-E036-452B-82A1-E0E712732BC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379240"/>
            <a:ext cx="77724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273A-48A8-4E45-A980-EE9C24D36B52}" type="datetime"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F803-15D6-4BEC-9C58-E050163D0C2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1DE1-19DD-4C68-A928-3E653213D10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AA8B-7CF3-45D8-96C3-F967E68A7E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E84A-773C-4F85-AEB0-1EEC7E0799D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11BE-1967-432A-A041-416756CD7F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2040" y="528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记叙文阅读表解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2871360" y="3886200"/>
            <a:ext cx="70866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资源镇初中   谢九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55440" y="146160"/>
          <a:ext cx="8996400" cy="6657840"/>
        </p:xfrm>
        <a:graphic>
          <a:graphicData uri="http://schemas.openxmlformats.org/drawingml/2006/table">
            <a:tbl>
              <a:tblPr/>
              <a:tblGrid>
                <a:gridCol w="1503360"/>
                <a:gridCol w="5359320"/>
                <a:gridCol w="213372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（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）设置悬念　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作用：引起读者的注意与思考，激起读者的阅读兴趣，使文章情节曲折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）铺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先描述的内容就是为主要内容做准备、打基础、作陪衬和烘托；以次衬主。关键是“垫”“衬”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一显一隐；一前一后；一浓墨重彩一点到为止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9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）伏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描写、叙述的一种手法，作者对将要在作品中出现的人物或事件，预作提示或暗示，以求前后呼应。可达到（收到）结构谨严，情节发展合理的效果。与“照应”配合，即前有伏笔，后有照应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1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）联想、想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214200" y="574560"/>
          <a:ext cx="8829720" cy="4826160"/>
        </p:xfrm>
        <a:graphic>
          <a:graphicData uri="http://schemas.openxmlformats.org/drawingml/2006/table">
            <a:tbl>
              <a:tblPr/>
              <a:tblGrid>
                <a:gridCol w="1349280"/>
                <a:gridCol w="2779920"/>
                <a:gridCol w="4700520"/>
              </a:tblGrid>
              <a:tr h="1724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修辞方法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　　　作用分析：（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它本身的作用；（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结合句子语境。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生动形象类修辞：比喻、拟人：生动形象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答题格式：生动形象地写出了＋对象＋特性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二）结构类修辞：排比、对偶（字数相等、词性相对、结构相似、语意相关、仄起平落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比：很有气势、加强语气、突出强调、一气呵成、说理透彻、抒情淋漓等；答题格式：强调了＋对象＋特性。对偶作用：结构整齐、音韵和谐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141120" y="514440"/>
          <a:ext cx="8801280" cy="5402160"/>
        </p:xfrm>
        <a:graphic>
          <a:graphicData uri="http://schemas.openxmlformats.org/drawingml/2006/table">
            <a:tbl>
              <a:tblPr/>
              <a:tblGrid>
                <a:gridCol w="1455840"/>
                <a:gridCol w="2206440"/>
                <a:gridCol w="5139000"/>
              </a:tblGrid>
              <a:tr h="2665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修辞方法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　　　作用分析：（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它本身的作用；（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结合句子语境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三）语气类修辞：设问、反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设问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：引起读者注意和思考；答题格式：引起读者对＋对象＋特性的注意和思考。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反问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：强调，加强语气等；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四）突出强调类修辞：对比、反复、夸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对比：强调了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突出了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  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反复：强调了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加强语气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117360" y="339840"/>
          <a:ext cx="8972640" cy="6041880"/>
        </p:xfrm>
        <a:graphic>
          <a:graphicData uri="http://schemas.openxmlformats.org/drawingml/2006/table">
            <a:tbl>
              <a:tblPr/>
              <a:tblGrid>
                <a:gridCol w="682560"/>
                <a:gridCol w="870120"/>
                <a:gridCol w="7419960"/>
              </a:tblGrid>
              <a:tr h="2384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文章结构、思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开头、结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开头的作用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环境描写：点明故事发生的地点、环境，引出下文，为下文情节发展作铺垫。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其他：开篇点题，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开门见山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，奠定全文的感情基调；总领全文或引起下文，为下文情节发展作铺垫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结尾作用：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点明文章的中心主旨，使情节完整，结构严谨，中心突出。（卒章显志、画龙点睛。深化主题、升华中心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过渡、照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由这件事转到另一件事、时间发生变化、由倒叙转入顺叙、运用插叙时的起止处均需要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过渡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。照应：文题照应、首尾照应、前后照应、伏笔照应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44280" y="762120"/>
          <a:ext cx="9009000" cy="5154480"/>
        </p:xfrm>
        <a:graphic>
          <a:graphicData uri="http://schemas.openxmlformats.org/drawingml/2006/table">
            <a:tbl>
              <a:tblPr/>
              <a:tblGrid>
                <a:gridCol w="911160"/>
                <a:gridCol w="8097840"/>
              </a:tblGrid>
              <a:tr h="31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层次、段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一）理清层次结构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：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从两方面入手：一是记叙的顺序，二是记叙的线索。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善于捕捉过渡句、照应句、总起句、小结句等重要语句。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自然段组成：领起句（中心句）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—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扩展句（可能不止一层）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—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束句。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二）归纳段意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：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记叙文：回答清楚（什么时间、什么地点）什么人做什么事。　　格式：（时间＋地点）＋人＋事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文章标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记叙文题目作用：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)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新颖，吸引读者；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点明中心；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)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具有象征意义；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作为线索；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语意双关；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概括文章内容；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推动故事情节发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6480" y="646200"/>
          <a:ext cx="9010440" cy="5056200"/>
        </p:xfrm>
        <a:graphic>
          <a:graphicData uri="http://schemas.openxmlformats.org/drawingml/2006/table">
            <a:tbl>
              <a:tblPr/>
              <a:tblGrid>
                <a:gridCol w="952200"/>
                <a:gridCol w="5665680"/>
                <a:gridCol w="2392560"/>
              </a:tblGrid>
              <a:tr h="14400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记叙文结构、思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一、纵式结构；时序、事件发展顺序安排材料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2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二、横式结构：空间、地点转移或事件分类安排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《故乡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三、纵横交错式：时空交互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2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全文或文章主体：总分式、并列式、层进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57240" y="98280"/>
          <a:ext cx="9007560" cy="6823080"/>
        </p:xfrm>
        <a:graphic>
          <a:graphicData uri="http://schemas.openxmlformats.org/drawingml/2006/table">
            <a:tbl>
              <a:tblPr/>
              <a:tblGrid>
                <a:gridCol w="860400"/>
                <a:gridCol w="8147160"/>
              </a:tblGrid>
              <a:tr h="17431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句子理解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　　（一）某句话在文中的作用；（二）句子含义的解答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某句话在文章中的作用是什么：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结构方面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：总领全文、总结上文、为作铺垫、引起下文、承上启下、行文线索、照应前文。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内容方面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：点明中心、深化主题。（需结合具体内容来讲）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内容上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结构上的作用要看句子的位置。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文首：开篇点题；渲染气氛、引出人物（记叙文、小说），埋下伏笔、后有照应（记叙文、小说），设置悬念、吸引读者（小说），为下文作辅垫；总领话题、引出下文；开门见山、点明中心。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文中：承上启下（过渡）；总领下文；总结上文；承接上文；为后文埋下伏笔。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文末：点明中心（记叙文、小说）；深化（升华）主题（记叙文、小说）；前后照应（议论文、记叙文、小说），使情节完整、结构严谨、主题突出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句子含义的解答：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这样的题目，句中往往有一词或短语用了比喻、对比、借代、象征等表现方法。答题时，把它们所指的对象揭示出来，再疏通句子，就可以了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50760" y="677880"/>
          <a:ext cx="9072720" cy="5400720"/>
        </p:xfrm>
        <a:graphic>
          <a:graphicData uri="http://schemas.openxmlformats.org/drawingml/2006/table">
            <a:tbl>
              <a:tblPr/>
              <a:tblGrid>
                <a:gridCol w="625320"/>
                <a:gridCol w="8447400"/>
              </a:tblGrid>
              <a:tr h="540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词语理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宋体"/>
                          <a:ea typeface="宋体"/>
                        </a:rPr>
                        <a:t>（一）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某句话中某个词换成另一个行吗？为什么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、动词：不行。因为该词准确生动具体地写出了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……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、形容词：不行。因为该词生动形象地描写了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……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、副词（如都，大都，非常只有等）：不行。因为该词准确地说明了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……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的情况（表程度，表限制，表时间，表范围等），换了后就变成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，与事实不符。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宋体"/>
                          <a:ea typeface="宋体"/>
                        </a:rPr>
                        <a:t>（二）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一句话中某两三个词的顺序能否调换？为什么？不能。因为（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）与人们认识事物的（由浅入深、由表入里、由现象到本质）规律不一致（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）该词与上文是一一对应的关系（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）这些词是递进关系，环环相扣，不能互换。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宋体"/>
                          <a:ea typeface="宋体"/>
                        </a:rPr>
                        <a:t>（三）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解释句中的词的意义。熟记书中重要注释即可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141120" y="1282680"/>
          <a:ext cx="8825040" cy="3832200"/>
        </p:xfrm>
        <a:graphic>
          <a:graphicData uri="http://schemas.openxmlformats.org/drawingml/2006/table">
            <a:tbl>
              <a:tblPr/>
              <a:tblGrid>
                <a:gridCol w="1271520"/>
                <a:gridCol w="7553520"/>
              </a:tblGrid>
              <a:tr h="2073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表达方式：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记叙、议论、说明、抒情、描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记叙文中议论作用：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引发读者思考，点明人物或事件的意义，突出中心，升华主题，起到画龙点睛的作用。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记叙文中抒情作用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：抒发作者真挚深沉的情感，引发读者的感情共鸣，使文章具有强大的感染力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92160" y="771480"/>
          <a:ext cx="8961480" cy="5121360"/>
        </p:xfrm>
        <a:graphic>
          <a:graphicData uri="http://schemas.openxmlformats.org/drawingml/2006/table">
            <a:tbl>
              <a:tblPr/>
              <a:tblGrid>
                <a:gridCol w="1036800"/>
                <a:gridCol w="7924680"/>
              </a:tblGrid>
              <a:tr h="512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表达方式：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记叙、议论、说明、抒情、描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描写的种类及作用：人物描写：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）肖像描写（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）外貌描写（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）神态描写（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）动作描写（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）语言（对话）描写（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）心理描写（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）细节描写。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正面描写、侧面描写；直接描写、间接描写。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工笔细描、粗笔勾勒（白描）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环境描写：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自然环境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　　交代故事发生的时间、地点及人物活动的空间，渲染气氛，衬托人物的心情，突出人物性格。　（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社会环境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　　交代事件发生的社会背景、时代特征，衬托人物性格，推动情节发展，揭示文章主题。（三）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场面描写：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《端午日》赛龙舟的场面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130320" y="133200"/>
          <a:ext cx="9010440" cy="6162840"/>
        </p:xfrm>
        <a:graphic>
          <a:graphicData uri="http://schemas.openxmlformats.org/drawingml/2006/table">
            <a:tbl>
              <a:tblPr/>
              <a:tblGrid>
                <a:gridCol w="1261800"/>
                <a:gridCol w="1697040"/>
                <a:gridCol w="4602240"/>
                <a:gridCol w="1449360"/>
              </a:tblGrid>
              <a:tr h="652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记叙文知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26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记叙文是指记人、叙事、写景、状物等类的文章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宋体"/>
                          <a:ea typeface="宋体"/>
                        </a:rPr>
                        <a:t>记叙要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99"/>
                          </a:solidFill>
                          <a:latin typeface="宋体"/>
                          <a:ea typeface="宋体"/>
                        </a:rPr>
                        <a:t>时间、地点、人物、事件（起因、经过、结果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98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记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人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第一人称（我、我们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作者本人，或虚构人物；主要或次要人物。</a:t>
                      </a:r>
                      <a:r>
                        <a:rPr b="0" lang="zh-CN" sz="2800" spc="-1" strike="noStrike">
                          <a:solidFill>
                            <a:srgbClr val="000099"/>
                          </a:solidFill>
                          <a:latin typeface="宋体"/>
                          <a:ea typeface="宋体"/>
                        </a:rPr>
                        <a:t>表达效果：真实可信、亲切自然；便于直抒胸臆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宋体"/>
                          <a:ea typeface="宋体"/>
                        </a:rPr>
                        <a:t>如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第二人称（你、你们）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99"/>
                          </a:solidFill>
                          <a:latin typeface="宋体"/>
                          <a:ea typeface="宋体"/>
                        </a:rPr>
                        <a:t>直接对话，亲切自然；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拉近距离：便于交流，便于（作者直接）抒情。（一拉二便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宋体"/>
                          <a:ea typeface="宋体"/>
                        </a:rPr>
                        <a:t>如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第三人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99"/>
                          </a:solidFill>
                          <a:latin typeface="宋体"/>
                          <a:ea typeface="宋体"/>
                        </a:rPr>
                        <a:t>不受时空限制，自由记叙、客观表达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宋体"/>
                          <a:ea typeface="宋体"/>
                        </a:rPr>
                        <a:t>如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68400" y="293760"/>
            <a:ext cx="8901000" cy="5530680"/>
            <a:chOff x="68400" y="293760"/>
            <a:chExt cx="8901000" cy="5530680"/>
          </a:xfrm>
        </p:grpSpPr>
        <p:sp>
          <p:nvSpPr>
            <p:cNvPr id="225" name=""/>
            <p:cNvSpPr/>
            <p:nvPr/>
          </p:nvSpPr>
          <p:spPr>
            <a:xfrm>
              <a:off x="68400" y="293760"/>
              <a:ext cx="1281960" cy="28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小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350360" y="293760"/>
              <a:ext cx="7618680" cy="28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小说种类：长篇小说、中篇小说、短篇小说、小小说小说三要素：人物、环境、情节环境的种类及作用：见前面内容。情节构成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序幕）开端、发展、高潮、结局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尾声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续写小说结尾：按照小说故事情节发展的规律续写，要简洁含蓄，富有哲理，引人深思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400" y="3102480"/>
              <a:ext cx="1281960" cy="54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350360" y="3102480"/>
              <a:ext cx="7618680" cy="54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小说人物分析：同记叙文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400" y="3647880"/>
              <a:ext cx="1281960" cy="21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传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50360" y="3647880"/>
              <a:ext cx="7618680" cy="21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传记的主要特点是实录，要求实事求是，不允许虚构夸张。传记在表达上以记叙为主，也可以适当插入议论，描写。传记记叙的顺序一般以时间为序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400" y="293760"/>
              <a:ext cx="12819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50360" y="293760"/>
              <a:ext cx="761868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8400" y="3102480"/>
              <a:ext cx="12819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50360" y="3102480"/>
              <a:ext cx="761868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400" y="3647880"/>
              <a:ext cx="12819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50360" y="3647880"/>
              <a:ext cx="761868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400" y="5824440"/>
              <a:ext cx="12819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50360" y="5824440"/>
              <a:ext cx="199728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47640" y="5824440"/>
              <a:ext cx="56214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400" y="293760"/>
              <a:ext cx="0" cy="28087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8400" y="3102480"/>
              <a:ext cx="0" cy="5450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8400" y="3647880"/>
              <a:ext cx="0" cy="2176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350360" y="293760"/>
              <a:ext cx="0" cy="28087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50360" y="3102480"/>
              <a:ext cx="0" cy="5450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50360" y="3647880"/>
              <a:ext cx="0" cy="2176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969400" y="293760"/>
              <a:ext cx="0" cy="28087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969400" y="3102480"/>
              <a:ext cx="0" cy="5450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969400" y="3647880"/>
              <a:ext cx="0" cy="2176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106200" y="1395360"/>
          <a:ext cx="8904240" cy="3666960"/>
        </p:xfrm>
        <a:graphic>
          <a:graphicData uri="http://schemas.openxmlformats.org/drawingml/2006/table">
            <a:tbl>
              <a:tblPr/>
              <a:tblGrid>
                <a:gridCol w="1030320"/>
                <a:gridCol w="7873920"/>
              </a:tblGrid>
              <a:tr h="695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抒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直接抒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间接抒情：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托物言志、寄情于物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借景抒情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,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融情于景、情景交融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散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散文特点：形散而神不散。散文种类：（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叙事散文（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抒情散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139680" y="947880"/>
          <a:ext cx="8921880" cy="4329000"/>
        </p:xfrm>
        <a:graphic>
          <a:graphicData uri="http://schemas.openxmlformats.org/drawingml/2006/table">
            <a:tbl>
              <a:tblPr/>
              <a:tblGrid>
                <a:gridCol w="765000"/>
                <a:gridCol w="4927680"/>
                <a:gridCol w="3229200"/>
              </a:tblGrid>
              <a:tr h="64260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Calibri"/>
                          <a:ea typeface="微软雅黑"/>
                        </a:rPr>
                        <a:t>记叙线索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Calibri"/>
                          <a:ea typeface="微软雅黑"/>
                        </a:rPr>
                        <a:t>（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  <a:ea typeface="微软雅黑"/>
                        </a:rPr>
                        <a:t>1</a:t>
                      </a: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Calibri"/>
                          <a:ea typeface="微软雅黑"/>
                        </a:rPr>
                        <a:t>）核心人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Calibri"/>
                          <a:ea typeface="楷体_GB2312"/>
                        </a:rPr>
                        <a:t>作用：是贯穿全文的脉络，把文中的人物和事件有机地连在一起，</a:t>
                      </a:r>
                      <a:r>
                        <a:rPr b="1" lang="zh-CN" sz="3600" spc="-1" strike="noStrike">
                          <a:solidFill>
                            <a:srgbClr val="0000ff"/>
                          </a:solidFill>
                          <a:latin typeface="Calibri"/>
                          <a:ea typeface="楷体_GB2312"/>
                        </a:rPr>
                        <a:t>使文章条理清楚、层次清晰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（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2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）核心事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(3 ) 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时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（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4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）地点（游踪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（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5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）作者的情感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（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6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）明暗线索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advTm="4000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179280" y="638280"/>
          <a:ext cx="8853480" cy="4948200"/>
        </p:xfrm>
        <a:graphic>
          <a:graphicData uri="http://schemas.openxmlformats.org/drawingml/2006/table">
            <a:tbl>
              <a:tblPr/>
              <a:tblGrid>
                <a:gridCol w="720720"/>
                <a:gridCol w="3209760"/>
                <a:gridCol w="4923000"/>
              </a:tblGrid>
              <a:tr h="1592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记叙顺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（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）顺叙（按事情发展先后顺序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作用：叙事有头有尾，条理清晰，读起来脉络清楚、印象深刻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67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）倒叙（先写结果，再交待前面发生的事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作用：造成悬念、吸引读者，避免叙述的平板单调，增强文章的生动性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7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）插叙（叙事时插入相关的另一件事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作用：对情节起补充、衬托作用，丰富形象，突出中心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50760" y="426960"/>
          <a:ext cx="9020160" cy="5996160"/>
        </p:xfrm>
        <a:graphic>
          <a:graphicData uri="http://schemas.openxmlformats.org/drawingml/2006/table">
            <a:tbl>
              <a:tblPr/>
              <a:tblGrid>
                <a:gridCol w="907920"/>
                <a:gridCol w="2882880"/>
                <a:gridCol w="5229360"/>
              </a:tblGrid>
              <a:tr h="2832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文章内容（中心）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　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方法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：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看题目、人物（事物）、事件，进行综合、概括。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找主题句：找首段或尾段的议论抒情句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格式：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此文记叙了（描写了、说明了）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表现了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赞美了、揭示了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……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归纳中心三部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概括：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要素归纳法：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共性提取法：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捕捉关键词法：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归纳：在概括的基础上提炼任务的精神品质、事件的本质特点、作者的思想情感等。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升华：由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的内容看社会根源、社会意义，了解作者意图等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128520" y="563400"/>
          <a:ext cx="8950320" cy="5456160"/>
        </p:xfrm>
        <a:graphic>
          <a:graphicData uri="http://schemas.openxmlformats.org/drawingml/2006/table">
            <a:tbl>
              <a:tblPr/>
              <a:tblGrid>
                <a:gridCol w="777960"/>
                <a:gridCol w="2550960"/>
                <a:gridCol w="5621400"/>
              </a:tblGrid>
              <a:tr h="52056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人物分析（多方面分析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fdef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人物肖像神态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人物语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人物心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人物行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思想品质与性格特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思想品质：共有的思想本质。如爱国主义等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性格特点：对人对事的态度合行为方式上所体现的心理特点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归纳模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共性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个性。如镇定、勇敢、坚强等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201600" y="1235160"/>
          <a:ext cx="8656560" cy="3616200"/>
        </p:xfrm>
        <a:graphic>
          <a:graphicData uri="http://schemas.openxmlformats.org/drawingml/2006/table">
            <a:tbl>
              <a:tblPr/>
              <a:tblGrid>
                <a:gridCol w="1001880"/>
                <a:gridCol w="5951520"/>
                <a:gridCol w="1703160"/>
              </a:tblGrid>
              <a:tr h="1370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语言特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记叙文在语言运用有两种类型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：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一是朴实无华，二是优美生动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注：必须结合具体语句分析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结合语境和修辞方法从下列语句中选择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：形象生动、清新优美、简洁凝练、准确严密、精辟深刻、通俗易懂、音韵和谐、节奏感强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79200" y="366840"/>
          <a:ext cx="8950320" cy="5470560"/>
        </p:xfrm>
        <a:graphic>
          <a:graphicData uri="http://schemas.openxmlformats.org/drawingml/2006/table">
            <a:tbl>
              <a:tblPr/>
              <a:tblGrid>
                <a:gridCol w="576360"/>
                <a:gridCol w="1438200"/>
                <a:gridCol w="6935760"/>
              </a:tblGrid>
              <a:tr h="45972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写作手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拟人手法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作用：赋予事物以人的性格、思想、感情和动作，使物人格化，从而达到形象生动的效果。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比喻手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作用：形象生动、简洁凝练地描写事物、讲解道理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夸张手法　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作用：突出人或事物的特征，揭示本质，给读者以鲜明而强烈的印象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象征手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作用：把特定的意义寄托在所描写的事物上，表达了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的情感，增强了文章的表现力。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对比手法　　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作用：通过比较，突出事物的特点，更好地表现文章的主题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衬托手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正反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\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衬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作用：以次要的人或事物衬托主要的人或事物，突出主要的人或事物的特点、性格、思想、感情等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0" y="495360"/>
          <a:ext cx="8978760" cy="5057640"/>
        </p:xfrm>
        <a:graphic>
          <a:graphicData uri="http://schemas.openxmlformats.org/drawingml/2006/table">
            <a:tbl>
              <a:tblPr/>
              <a:tblGrid>
                <a:gridCol w="1768320"/>
                <a:gridCol w="7210440"/>
              </a:tblGrid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烘托手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讽刺手法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作用：运用比喻、夸张等手段和方法对人或事物进行揭露、批判和嘲笑，加强深刻性和批判性，使语言辛辣幽默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欲扬先抑（欲抑先扬）　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作用：先贬抑再大力颂扬所描写的对象，上下文形成对比，突出所写的对象，收到出人意料的感人效果。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3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前后照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作用：前后照应（首尾呼应）使情节完整、结构严谨、中心突出。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dc:language>en-US</dc:language>
  <cp:lastModifiedBy>bianxiaoxiang</cp:lastModifiedBy>
  <dcterms:modified xsi:type="dcterms:W3CDTF">2014-12-03T15:07:13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79</vt:lpwstr>
  </property>
</Properties>
</file>